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123-4347-4F8A-BE14-C165EF18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5E6-CCF9-457A-B0F1-12F3FBA0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EE9-76D9-41FD-A490-8AE72998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FA5-CF7B-4E8C-8843-4D9B2AF2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387-BFDE-40CB-95F9-E16BE98E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4B7-3DA6-49B5-9901-CCD69570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617-9906-4680-9EBF-0D57D53F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B43-EA8B-403E-BF72-7A0F672D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E9B-870C-43F9-A60B-9370B2C5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654-510E-4FC7-A1CD-3CD96B1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A20-A25E-472F-B640-58BCC7AF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377-B9A8-4775-84E5-6777817D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2B67-B22A-49FC-930C-A4150F683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制菜单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144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新建一个菜单，可以通过定制已有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或者开发自己的菜单系统来创建。如果要从已有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开始创建菜单，则可以使用“快速菜单”功能。具体操作步骤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“项目管理器”中的“其他”选项卡，选定“菜单”项，然后用鼠标单击“新建”按钮，在随后出现的“新建菜单”窗口中用鼠标单击“菜单”按钮，随后将会出现“菜单设计器”窗口，同时在系统菜单中将会出现“菜单”选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系统菜单的“菜单”选项中，选择“快速菜单”命令，在“菜单设计器”中将会包含关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菜单的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菜单设计器”中可通过添加或更改菜单项定制菜单系统，同时，如果用鼠标拖动最前面的移动钮，还可以改变菜单栏上各菜单的位置。此外，如果需要创建“帮助”菜单，最好将它安排在菜单栏的最后，这样用户能够很快找到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38:44Z</dcterms:created>
  <dc:creator>pcn</dc:creator>
  <dc:description/>
  <dc:language>en-US</dc:language>
  <cp:lastModifiedBy>pcn</cp:lastModifiedBy>
  <dcterms:modified xsi:type="dcterms:W3CDTF">2002-01-06T21:03:06Z</dcterms:modified>
  <cp:revision>2</cp:revision>
  <dc:subject/>
  <dc:title>没有幻灯片标题</dc:title>
</cp:coreProperties>
</file>