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B7A-4408-4B67-B401-D13C1262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6B7-830B-4F25-85AB-A8E1541A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9AD-73E1-468F-A131-BE80C565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70D-C509-4707-9177-6F65CDED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BD5-2476-4ADC-B132-8B25EBE9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758-51B9-49CF-A671-112332E6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D41-FEE7-487D-90FA-B2CCDAEC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A8F-B31D-48C8-AB96-98904F40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6B23-9880-4A38-B45B-577BD691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2BF-10DF-4408-BFCF-B6F337B7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7AC-D922-4EE8-A7F0-EC2792F0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0AF9-9149-4685-8CC0-F7DBD887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D48C-C0C3-4246-8233-7E973E2AC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30120"/>
            <a:ext cx="7848360" cy="36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0.2.4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每个菜单项，都可以创建包含其他菜单项的子菜单。如果需要在菜单项中添加子菜单，可进行如下操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菜单设计器的“菜单名称”栏中，选择要添加子菜单的菜单项；在“结果”框中，选择“子菜单”，此时“创建”按钮会出现在列表的右侧。如果已经有了子菜单，则此处出现的是“编辑”按钮，用鼠标单击“创建”或“编辑”按钮。然后在“菜单名称”栏中，键入新建的各子菜单项的名称。在子菜单建立完成后，如果还需要建立其他的菜单项，在“菜单级”的下拉列表中选择“菜单栏”选项，则可以继续建立其他的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0.2.5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编程方式添加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既可以使用“菜单设计器”创建菜单和菜单项，也可以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命令来创建。例如，创建菜单可使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INE PA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创建子菜单可使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INE POPU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而在子菜单上创建菜单项则可以使用一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INE BA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9:08:15Z</dcterms:created>
  <dc:creator>pcn</dc:creator>
  <dc:description/>
  <dc:language>en-US</dc:language>
  <cp:lastModifiedBy>pcn</cp:lastModifiedBy>
  <dcterms:modified xsi:type="dcterms:W3CDTF">2002-01-06T21:03:26Z</dcterms:modified>
  <cp:revision>2</cp:revision>
  <dc:subject/>
  <dc:title>没有幻灯片标题</dc:title>
</cp:coreProperties>
</file>