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377-3F41-464F-9E31-4075B765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F61A-C4E7-4B59-A2CD-73E8B65A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A8E-ADD7-4A61-9BBB-41FE95EF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F64-06B3-4F99-9769-BD93700A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330-165C-435E-94D4-197FC0E6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DDF-498F-4BCD-962C-1E8EF7B5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E3F-5808-4EE7-933B-AC881B80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42B-5907-44D3-862C-BE9BF0FC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FCA-3B88-4419-AF2A-43FBA16D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F1F-C9B0-4DD8-8B5A-E7CEBFFE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938-FC73-4E75-8A20-9F3E2E8B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FF2-865F-49F2-B0EE-93607C98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F2BA-6618-42AD-93A5-EC385785D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808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文档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219320"/>
            <a:ext cx="8458200" cy="29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文档菜单是出现在单文档界面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窗口中的菜单。如果要创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，必须在设计菜单时指出该菜单用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单。除此之外，创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的过程与创建普通菜单完全相同。具体操作为：打开“菜单设计器”，从“显示”菜单中选择“常规选项”，并选择“顶层表单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创建好后，可以在菜单上设置菜单项。每个菜单项都表示了一个我们希望用户执行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或过程，菜单项也可以包含子菜单，用以提供其他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0.2.3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组各菜单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增强可读性，可使用分隔线将内容相关的菜单项分隔成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菜单名称”栏中，键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-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便可以创建一条分隔线。拖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-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示符左侧的按钮，可以将分隔线移动到正确的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50:24Z</dcterms:created>
  <dc:creator>pcn</dc:creator>
  <dc:description/>
  <dc:language>en-US</dc:language>
  <cp:lastModifiedBy>pcn</cp:lastModifiedBy>
  <dcterms:modified xsi:type="dcterms:W3CDTF">2002-01-06T21:03:47Z</dcterms:modified>
  <cp:revision>2</cp:revision>
  <dc:subject/>
  <dc:title>没有幻灯片标题</dc:title>
</cp:coreProperties>
</file>