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3972-2CEB-4341-9F74-F7481090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EFC1-FBC6-42F9-A2BF-A3AE8031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5E85-9CFE-4598-9679-C7CC4A53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E34D-ED5C-49E6-A8F8-F095DC89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E97B-3A40-4E40-9835-F1B20B84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0EC5-91C4-4AD3-A776-D53EE804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6873-A4A4-49F5-BE78-7BD72D0A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5AFF-623E-4279-8ED1-F5C35ED3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21BD-3471-4049-A55D-53698192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97C4-5EB2-4971-B3CD-83E0066D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58AF-531E-45F8-9906-BF54467F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3ABD-C186-46ED-ABCE-F2C5848B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91ED-C605-4497-A1BD-D2174921A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304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2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快捷菜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815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控件或对象上单击右键时，将会显示快捷菜单，以便快速展示当前对象可用的所有功能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具有创建快捷菜单的功能，并可将这些菜单附加在控件中。例如，可创建包含“剪切”、“复制”和“粘贴”命令的快捷菜单，当用户在表格控件所包含的数据上单击右键时，将出现此快捷菜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创建快捷菜单的具体操作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择“项目管理器”中的“其他”选项卡，选定“菜单”选项，并单击“新建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随后出现的“新建菜单”窗口中用鼠标单击“快捷菜单”按钮，将会出现“快捷菜单设计器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进入“快捷菜单设计器”后，添加菜单项的过程与创建菜单完全相同。即在“菜单名称”栏中，选择相应的菜单标题或菜单项；单击“选项”栏中的按钮，出现“提示选项”对话框，在“键标签”框中，按下一组合键，可创建快捷键。快捷键一般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rl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与另一个键相组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8:42:25Z</dcterms:created>
  <dc:creator>pcn</dc:creator>
  <dc:description/>
  <dc:language>en-US</dc:language>
  <cp:lastModifiedBy>pcn</cp:lastModifiedBy>
  <dcterms:modified xsi:type="dcterms:W3CDTF">2002-01-06T21:04:06Z</dcterms:modified>
  <cp:revision>2</cp:revision>
  <dc:subject/>
  <dc:title>没有幻灯片标题</dc:title>
</cp:coreProperties>
</file>