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5B6-4D5B-4ECA-B9BE-E822D29E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8ACE-4ACC-4A9B-937B-F7FD71CC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0675-9C29-4259-BB3F-F347A9E2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21AF-41D9-4575-B2C7-5FD2DD7E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FF9-530B-40C1-909B-F503E599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F2E-D0CC-43CE-91E8-8B5C3CF8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00FC-C942-4452-97E9-622D6570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01D3-88EE-499B-A1EB-F2631655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1BFE-C486-429E-AC96-C21AE53B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66D-09D5-43D6-8776-80BF4633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733C-B230-4238-BEAF-0A5F967D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83B7-C9C9-4A4F-ABD3-1588A9B1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8A4B-2316-457A-9470-1FF17A471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305920" cy="29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1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菜单系统规划原则、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系统是菜单栏、菜单标题、下拉菜单、菜单项和子菜单的组合体。规划和设计菜单系统主要是确定需要哪些菜单、出现在界面的何处以及哪些菜单要有子菜单等。创建菜单系统的大量工作是在“菜单设计器”中完成的，在那里可创建实际的菜单标题、子菜单和菜单选项等菜单内容。在创建菜单之前，我们需要先进行菜单系统的规划和设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创建菜单系统需以下步骤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规划与设计系统：确定需要哪些菜单、出现在界面的何处以及哪几个菜单要有子菜单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创建菜单和子菜单：使用菜单设计器可以定义菜单标题、菜单项和子菜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实际要求为菜单系统指定任务：指定菜单所要执行的任务，如显示表单或对话框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成菜单程序：运行生成的程序，以测试菜单系统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8:34:26Z</dcterms:created>
  <dc:creator>pcn</dc:creator>
  <dc:description/>
  <dc:language>en-US</dc:language>
  <cp:lastModifiedBy>pcn</cp:lastModifiedBy>
  <dcterms:modified xsi:type="dcterms:W3CDTF">2002-01-06T21:04:27Z</dcterms:modified>
  <cp:revision>2</cp:revision>
  <dc:subject/>
  <dc:title>没有幻灯片标题</dc:title>
</cp:coreProperties>
</file>