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008-1838-44E1-BE06-F85DBD31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7DD-DBE4-4446-BBF9-0FA51780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737-2CE7-4A52-AC3D-A6FD73A5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D44-492B-4AC0-ACAD-67EB45D3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3303-C4BA-4A04-B280-A64529F4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320-53A0-4809-850A-62830111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1FD-7ABC-4669-AACD-A6519DD0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520-931A-42F5-A000-05BDA1E2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415-185C-4F26-BE18-11D3B486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BFD-1AAC-4549-BA52-B76A25D2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0D6-A08C-45B7-A56E-B13A8158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63C-6E02-44FF-8D50-319B9030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5DF7-D1EE-4600-A443-679E3A4A2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533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3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”、“显示”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295280"/>
            <a:ext cx="815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菜单设计器时，系统菜单将添加一个“菜单”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快速菜单：用于快速设计菜单。打开“菜单设计器”，尚未输入任何其它内容时该选项是活动的。选择它，可将系统菜单的内容提取到当前菜单设计器中显示，亦可对该菜单进行修改调整，形成一个新的菜单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菜单项：在当前菜单项下插入一个菜单项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栏：显示插入系统菜单条对话框，它允许向菜单设计器窗口中添加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菜单项：删除当前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：激活生成对话框，根据当前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N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文件，生成对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P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程序代码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览：菜单预览，演示设计的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使用菜单设计器时，“显示”菜单（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）中将添加如下菜单选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12:59Z</dcterms:created>
  <dc:creator>pcn</dc:creator>
  <dc:description/>
  <dc:language>en-US</dc:language>
  <cp:lastModifiedBy>pcn</cp:lastModifiedBy>
  <dcterms:modified xsi:type="dcterms:W3CDTF">2002-01-06T21:04:50Z</dcterms:modified>
  <cp:revision>2</cp:revision>
  <dc:subject/>
  <dc:title>没有幻灯片标题</dc:title>
</cp:coreProperties>
</file>