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5BF-E571-4C6E-A7F4-8681E52C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762-D7D9-40E0-A46B-45229E33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502-A135-4DD6-A886-D20638CD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728-3AA1-44ED-A230-631A9E75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D28-F53F-4B92-8E42-FA853A98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989-DF59-4F34-9015-493D624F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8AB-45A9-492B-9FD8-16F5753A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CE3-A1C0-43FD-AB74-A7317D23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FCB-D33B-412E-8281-608E54C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539-DB06-4DA8-AE28-65764F1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1F5-12CF-49EC-A3ED-75DAEB3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C70-E638-4256-A512-C8DF771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F1E-D37E-48BB-9A15-819922499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代码：包括两个复选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：选中这一项将打开一编辑窗口，从中可为菜单系统加入一段初始化代码。要进入打开的设置代码编辑窗口，选定该复选框，单击“确定”按钮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理：选中这一项将打开一个编辑窗口，从中可为菜单系统加入一段结束代码。要进入打开的结束代码编辑窗口，选定该复选框，单击“确定”按钮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顶层表单：如果选定该复选框，将允许该菜单在顶层表单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中使用；如果未选定，只允许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框中使用该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“单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选择“显示”菜单中的“菜单选项”时将显示“菜单选项”对话框，为菜单栏（即顶层菜单）或各子菜单项输入代码，它包括以下几个选项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称：显示菜单的名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：其编辑框用于输入或显示菜单的过程代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按钮：用鼠标单击此按钮将打开一个文本编辑窗口，其功能与过程框基本相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25:57Z</dcterms:created>
  <dc:creator>pcn</dc:creator>
  <dc:description/>
  <dc:language>en-US</dc:language>
  <cp:lastModifiedBy>pcn</cp:lastModifiedBy>
  <dcterms:modified xsi:type="dcterms:W3CDTF">2002-01-06T21:05:10Z</dcterms:modified>
  <cp:revision>2</cp:revision>
  <dc:subject/>
  <dc:title>没有幻灯片标题</dc:title>
</cp:coreProperties>
</file>