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BE66-9054-47A4-9DBB-3E1157F67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1FCD-B56F-4172-9993-608E6FCD5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F63A-E953-4E45-8127-782F33DFC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F233-E319-4455-B67E-C173A9FAC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C7B4-4126-4354-A0F0-9363AD8E7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4FA7-388E-4D68-A466-E5418A63F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56F7-A3C4-4EE4-8C61-FE52EDDCC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415C-8F16-4D11-B2FC-D931C5C2B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2628-C34B-4DBF-ABD0-1C3E224C4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EB8F-6C50-4168-8ECA-3F4E3917C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2974-E7CD-49EE-93E4-7A6B5B326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B9F7-8CAB-4FAF-9D7E-AD97C0FB4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397C5-BBF4-4C01-A271-8CEE22FF42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457200"/>
            <a:ext cx="8153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常规选项”对话框：将激活一个常规选项对话框，它允许为整个菜单系统指定代码。该对话框提供如下选项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过程编辑”框：在这里输入菜单过程代码。如果代码过多超出编辑域，编辑域右侧的滚动条将被激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编辑”按钮：按下“编辑”按钮将打开一个编辑窗口来输入菜单过程的代码。要进入编辑窗口编写程序，按“确定”按钮关掉对话框就可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置区：包含如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按钮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替换：将现有的菜单系统替换成新的菜单系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追加：将定义的菜单附加在现有菜单的后面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…之后：将定义的菜单插入到指定菜单的后面。选中这一选项将出现一弹出列表，其中列出了当前菜单系统的菜单名，可从中选择一个菜单名，已定义的菜单将出现在该菜单的后面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…之前：将用户定义的菜单插入到指定菜单前。选中这一选项将出现一弹出列表，列出了当前菜单系统的菜单名。可从中选择一个菜单名，用户定义菜单出现在该菜单的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6T18:05:42Z</dcterms:created>
  <dc:creator>pcn</dc:creator>
  <dc:description/>
  <dc:language>en-US</dc:language>
  <cp:lastModifiedBy>pcn</cp:lastModifiedBy>
  <dcterms:modified xsi:type="dcterms:W3CDTF">2002-01-06T21:05:28Z</dcterms:modified>
  <cp:revision>2</cp:revision>
  <dc:subject/>
  <dc:title>没有幻灯片标题</dc:title>
</cp:coreProperties>
</file>