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3E0-D8A2-4DA5-9497-778BC52B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D6B-6D78-461E-A3AF-F67830C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A50-4A73-4019-95AA-628C42C1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798-3B66-4D9C-ACCF-B948C57E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B45-FC72-4F53-9455-68D20AE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A19-5825-4F84-9B72-E2ED5DA2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0E3-374F-440B-B2BD-7AE0B9C2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B05-6488-4B05-B23F-84E68E34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8CF-B3A9-4788-875A-BE41091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D82-777A-4C8E-ACDA-60FCDF1B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E15-E8EF-434A-9F84-03750728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8E8-E441-4314-9893-E21BC45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D77D-EBE9-41C1-B7CC-6B11952B3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923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菜单设计得很好，那么用户只要根据菜单栏和与之配套的工具栏的组织形式和内容，就可以很好地理解应用程序要点及其所能提供的主要功能，为恰当地设计菜单栏和工具栏，实现应用程序的主要功能实现。提供了“菜单设计器”，用来创建菜单。打开菜单设计器的方法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常用工具栏上单击“新建”按钮，在“新建”“文件类型”列表中选择“菜单”单选项，然后单击“新建文件”按钮，出现“新建菜单”窗口，用鼠标单击其中的“菜单”按钮，出现“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文件”菜单中，选择“新建”菜单项，出现“新建”窗口，以后操作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项目管理器，即在项目管理器中选择“菜单”，然后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命令，其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MEM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菜单文件，扩展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允许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05:53Z</dcterms:created>
  <dc:creator>pcn</dc:creator>
  <dc:description/>
  <dc:language>en-US</dc:language>
  <cp:lastModifiedBy>pcn</cp:lastModifiedBy>
  <dcterms:modified xsi:type="dcterms:W3CDTF">2002-01-06T21:05:48Z</dcterms:modified>
  <cp:revision>2</cp:revision>
  <dc:subject/>
  <dc:title>没有幻灯片标题</dc:title>
</cp:coreProperties>
</file>