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216-C5F7-4E8C-9EB9-E1C25026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AE8-5F02-4669-9B7D-77092072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56B-9106-4C75-85CC-A6300594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8A9-DBEA-4E9E-8B6B-8D7BFCB1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62B-9314-44CB-8151-FA4D214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0DD-CC9E-44C2-8B3B-BBB5D49D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916-167C-4BAB-9534-5AEA27AC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D55-384E-4FEB-B712-8E8C4A96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47C-E530-462D-B210-A5A9A92D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9C3-E9AC-45FF-9CE7-8DD62908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A64-0A46-4835-A320-F407424D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ADE-8D6C-44BA-92AB-59A15D15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9464-53CC-4CC0-BDCA-C11B24937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81532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菜单系统结构及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系统结构及其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在使用软件查找信息之前，首先看到的便是菜单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菜单系统实际上是一个树型结构。菜单栏是指菜单最上面的一层，即几乎所有应用程序都有并始终都可看到的菜单名列表栏；菜单栏中的每个菜单名代表了一个主菜单选项，主菜单项的名称即菜单标题。例如：“文件”是一个主菜单项的标题，点击主菜单项将它展开，显示它所具有的子菜单选项。每一个主菜单项可以直接对应于一条命令或过程；一般每个主菜单对应有一个下拉菜单，下拉菜单中包含了一组菜单项；如果是对应于一个子菜单，则子菜单里又可包含一组相关的菜单项，它们又分别对应于一个子菜单或直接对应于一条命令，从而形成一个不断分支的树型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7:57:34Z</dcterms:created>
  <dc:creator>pcn</dc:creator>
  <dc:description/>
  <dc:language>en-US</dc:language>
  <cp:lastModifiedBy>pcn</cp:lastModifiedBy>
  <dcterms:modified xsi:type="dcterms:W3CDTF">2002-01-06T21:06:11Z</dcterms:modified>
  <cp:revision>2</cp:revision>
  <dc:subject/>
  <dc:title>没有幻灯片标题</dc:title>
</cp:coreProperties>
</file>