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FA2-DC02-4EEB-B9A6-69D3DAD7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F1A-15C3-4BF9-BAEC-0B72018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88A-AE0C-4B7C-9C16-BC9A6A8B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EA0-70C9-4855-AD93-8586611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7E6-5B70-4CC7-839A-3CCBA4AA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B92-9D05-4378-969F-1D8B4F9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725-F44B-4CBF-BC14-53EF15D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4CA-A791-498F-AB3A-9EC084C0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2AB-8343-4A72-B772-D7164521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31B-0348-4041-89F4-EE511F3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E2B-AD38-4BBB-AF53-8BC1258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1AD-166B-41AE-AE48-51E859B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F7A-B5DB-4DA0-B190-3695443F1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9680"/>
            <a:ext cx="792468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基础上添加成绩计算。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”菜单选择“标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结”菜单项，选择“总结带区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总结带区”设置标签控件，输入“总成绩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置变量：在“报表”菜单中选择“变量”菜单项，得到“报表变量”对话框。在变量处设计一个变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要存储的值为“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绩”，初始值设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在计算区域中选择“总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单选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“报表控件”中选择“域控件”，单击“总成绩：”，在得到的“报表表达式”对话框中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.3.5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线条、矩形及圆角矩形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修饰型控件使用线条、矩形、圆角矩形控件。多数情况下是作为报表边界和分隔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.3.6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图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/O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绑定型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使用图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绑定型控件为报表布局加入图片或通用字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46:58Z</dcterms:created>
  <dc:creator>pcn</dc:creator>
  <dc:description/>
  <dc:language>en-US</dc:language>
  <cp:lastModifiedBy>pcn</cp:lastModifiedBy>
  <dcterms:modified xsi:type="dcterms:W3CDTF">2002-01-06T20:56:21Z</dcterms:modified>
  <cp:revision>2</cp:revision>
  <dc:subject/>
  <dc:title>没有幻灯片标题</dc:title>
</cp:coreProperties>
</file>