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AC3-786F-4871-88A7-3F2FA9E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E7A-BDE7-49BD-ADEE-EE4C3504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5C3-5982-4C05-89AF-26B6511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A8C-23B7-4E02-997E-02C5D8B6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F23-C1FE-4C3B-9B1E-B491305F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547-FBC8-47C2-AE8F-748E5AA7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FD2-3000-40C1-8973-7FE3ED5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A34-1218-4DDC-8964-31C1CD0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4E3-D5E9-4751-9E16-BF10ED9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CFA-261D-4B2E-9409-7753B3C6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5C9-34B3-48D7-A719-04395C2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58A-582B-4A8A-8A2D-1AA43E9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A3B-AD63-48EE-B508-F802FCE1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36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值：在组、页、列或报表中显示变量的最小值。将组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记录的值放入变量，当更小的值出现时，此变量的值随之更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值：在组、页、列或报表中显示变量的最大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误差：返回组、页、列或报表（取决于“重置”框中的选择）中变量的方差的平方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差：衡量组、页、列或报表（取决于“重置”框中的选择）中各个字段值与平均值的偏离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“报表设计器”中，用户可以将多个表字段接合在一起作为一个域控件加入到报表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基础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页标头区添加报表输出字段；在细节区放置“学号”、“姓名”、“课程”、“成绩”字段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控件”窗口中单击“标签”控件，然后在页标头区单击，接着输入“学号”等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格式页面上右击，在弹出式菜单中选择“数据环境”，从数据库中添加相应对象到数据环境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“报表控件”中单击“域控件”，在“报表表达式”中选择“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号”。“确定”。其余亦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7:30:33Z</dcterms:created>
  <dc:creator>pcn</dc:creator>
  <dc:description/>
  <dc:language>en-US</dc:language>
  <cp:lastModifiedBy>pcn</cp:lastModifiedBy>
  <dcterms:modified xsi:type="dcterms:W3CDTF">2002-01-06T20:57:51Z</dcterms:modified>
  <cp:revision>2</cp:revision>
  <dc:subject/>
  <dc:title>没有幻灯片标题</dc:title>
</cp:coreProperties>
</file>