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731-9D58-4DB0-93F6-B7F66998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0A4-847C-4BB7-A0D5-CB60C43A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F73-A573-4347-87D8-13881C1F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843-8C42-4DDC-9E7B-B320979F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9CE-1335-4C72-8C9E-862998BB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C8D-FE74-43FF-8E3A-D72CD8F8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288-8977-42E9-A3A8-3884B6D0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5D0-508F-4CE0-96BC-FAC66D4C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F85-32BD-4D37-8CEC-9634C880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444-E590-45EF-A77D-BE7AF049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A8C-3D87-4363-8AD3-A0EC6F8E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BA9-2317-4974-AF1E-F4FF9892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A4BB-107F-4278-862E-12D65352B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0492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设计报表，可以用各种方式在打印页面上显示数据。设计报表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主要步骤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决定要创建的报表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设定报表的数据来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创建报表布局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修改和定制布局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预览和打印报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设计报表时需打开报表设计器，主要有以下几种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件菜单中选择“新建”然后选择“报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件菜单中选择“打开”命令，在打开对话框中选择“文件类型：”报表”，并在相应的位置选择报表文件名，再单击“确定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命令窗口输入如下命令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AT REPORT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报表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该命令用于建立一个新的报表并打开报表设计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项目管理器”中，选择“报表”项，单击“新建”按钮，在“新建报表”对话框中单击“新建报表”按钮，屏幕上即出现“报表设计器”窗口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23:31:15Z</dcterms:created>
  <dc:creator>pcn</dc:creator>
  <dc:description/>
  <dc:language>en-US</dc:language>
  <cp:lastModifiedBy>pcn</cp:lastModifiedBy>
  <dcterms:modified xsi:type="dcterms:W3CDTF">2002-01-06T21:00:07Z</dcterms:modified>
  <cp:revision>2</cp:revision>
  <dc:subject/>
  <dc:title>没有幻灯片标题</dc:title>
</cp:coreProperties>
</file>