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4774-FAFF-487C-8640-844F2AFC4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15C1-832A-4103-B226-AE9910504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4FAD-A96A-4537-BA83-105C02EA0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DCF4-AA81-4171-B85C-3653B65B8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D5F4-8515-4B69-986C-1A5CE08DE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90BE-0022-4B4A-B0D6-DAE7A8912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DB40-E228-426B-9EAF-B1072834C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6036-4231-4140-8F99-849CFB7C6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D71D-8AA1-42FB-950D-ACABBD834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A765-C160-4E3E-B557-EA735AC3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CE08-C65C-40A7-B39B-3FCD6DA6B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CD61-F77D-4F47-A532-A25897773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A42A0-B1E1-43DB-BB50-DE7F21C20F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60948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9.1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报表向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160020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报表是处理数据库信息功能中重要的一部分，是各种数据最常用的输出格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报表设计器和报表向导为用户进行报表设计提供了极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便的工具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“项目管理器”窗口中，选定“报表”，选择“新建”。也可以从菜单中调用“报表向导”，从“工具”菜单中，选择“向导”命令，然后选定“报表”。选定想创建的报表类型。                           启动报表向导的方法有两种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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项目管理器中选择“报表”项，再单击“向导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“文件”菜单中选择“新建”，在“新建”对话框中选择“报表”项，然后，单击按钮“向导”。在“向导选取”对话框中，选择“报表向导”项，单击“确定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5T02:04:28Z</dcterms:created>
  <dc:creator>pcn</dc:creator>
  <dc:description/>
  <dc:language>en-US</dc:language>
  <cp:lastModifiedBy>pcn</cp:lastModifiedBy>
  <dcterms:modified xsi:type="dcterms:W3CDTF">2002-01-06T21:00:30Z</dcterms:modified>
  <cp:revision>2</cp:revision>
  <dc:subject/>
  <dc:title>没有幻灯片标题</dc:title>
</cp:coreProperties>
</file>