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B01-768C-4E8A-AD59-B070C7B0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FD0E-525D-4476-8373-423B77AD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BF45-FE0D-43F6-8A1F-2747A011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55B-5C8F-42E6-87AE-6AA78DB3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E82-0D2F-4353-A5E4-30170D5B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3CD-F64B-44BF-9FFE-05FCEBA8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C59-1D70-4BB2-8494-B4D7E654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3AB-F02D-406B-A856-A3E778B3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DE2E-8CC4-429F-B7B6-C1201F75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95A-114F-482D-8FB2-0616F892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59BA-EC7D-4269-9DDF-C3334470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1A1-3F02-4E53-981F-62CC2E9E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8711-E9E7-472D-82BC-6BBC8EFCD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4572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1.1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单一报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815328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一报表是用一个表创建的报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单一报表向导的操作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选择字段、分组记录、选择报表样式、定义报表布局、排序记录、完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报表向导创建一个反映学生成绩的报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体操作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单击“文件”菜单的“新建”菜单项，在打开的“创新建对话框”中选择“报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向导”，在向导选取中选定“报表向导”。或者单击主菜单上的“工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向导”，选择“报表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单击“确定”按钮，打开“报表向导” 对话框（步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在步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单击数据库与表右侧的按钮，在输出的选项中选择“教学数据库”和一个视图文件“成绩视图”。选定在报表中使用的字段：学号、姓名、班级、课程、成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02:40:53Z</dcterms:created>
  <dc:creator>pcn</dc:creator>
  <dc:description/>
  <dc:language>en-US</dc:language>
  <cp:lastModifiedBy>pcn</cp:lastModifiedBy>
  <dcterms:modified xsi:type="dcterms:W3CDTF">2002-01-06T21:01:15Z</dcterms:modified>
  <cp:revision>2</cp:revision>
  <dc:subject/>
  <dc:title>没有幻灯片标题</dc:title>
</cp:coreProperties>
</file>