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592-76E5-4229-B4D4-B572C9A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3C6-5905-4D27-B3F0-347212A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087-E697-44A6-A817-E6ACF5A2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3F8-323B-4A23-AE8D-D0463AD5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E48-0010-48AA-89CC-D1C8FF5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2B9-A9D0-4866-B6EB-54AEE85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34-DD9D-4873-9445-D993A06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7D5-602D-49CE-B0C3-8100670E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4C7-0301-461C-9FFF-2506F397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C68-76D0-4390-AFA3-28EA860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2E6-DC4B-4BED-808E-FE77F7C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E72-5043-4050-9468-1FE3E6F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6A35-D41F-4C11-866B-45B99E6D3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457200"/>
          <a:ext cx="47736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57200"/>
                    <a:ext cx="4773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90920" y="2895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9-15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平时成绩报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004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标题区设置标题为“平时成绩”。在页标头区设置列名称。在细节区设置与页标头区相对应的数据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文件”菜单选择“新建”，打开“报表设计器”报表菜单，进行以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菜单项，打开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对话框，从中选择“标题带区”，然后按“确定”按钮，使标题带区打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鼠标点击“报表控件”工具栏中“标签”控件，再移动到标题区。选定输入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6:05:41Z</dcterms:created>
  <dc:creator>pcn</dc:creator>
  <dc:description/>
  <dc:language>en-US</dc:language>
  <cp:lastModifiedBy>pcn</cp:lastModifiedBy>
  <dcterms:modified xsi:type="dcterms:W3CDTF">2002-01-06T16:33:02Z</dcterms:modified>
  <cp:revision>1</cp:revision>
  <dc:subject/>
  <dc:title>没有幻灯片标题</dc:title>
</cp:coreProperties>
</file>