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21C-35E6-4F0A-A77F-E8ABA989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D1D-8553-4E5A-8FD2-F24DBCD9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850-9929-493A-AB6D-E5CDEB96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40B-2881-422D-85D8-7B965AF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5FD-A53E-48B0-AACA-8725CF9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C98-B67E-49D8-BD41-48AA9BD1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3EF-752D-46FF-B9F2-DD926E20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DC0-93B7-4201-98C9-8C3F580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EA5-24AF-43C1-8AD1-F295C7A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A25-983C-4CAD-AFB9-08C8ECA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D54-A630-45C9-98CC-2DF4E20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0F2-C155-422E-8B99-D631583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AE4-0B87-4619-9AAE-FAA697C3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“格式”菜单中“字体”，对标题栏中的字体、字号进行选择，输入报表中使用的标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显示”菜单中点击“数据环境”菜单，打开“数据环境设计器”对话框添加使用的数据库或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点击“域控件”钮后，鼠标移到“细节”区，进行点击；在打开的“报表表达式”对话框中选择该列使用的字段后，进行适当的移动和调整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鼠标点击报表控件工具栏中“标签”控件，再移动到页标头区；适当的选择位，输入与该列字段相对应的文字内容。依次完成此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报表”菜单中的“数据分组”项。选择“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班级”字段名。在组属性中选择“每页都打印组标头”复选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全部完成后可以进行预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实施过程中应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好数据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搞好与每一列对应的数据源选取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个区应与该区显示的内容融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报表设置添加的计算值，如总分数、等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前先考虑好报表所涉及的内容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过程中搞好页面设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6:33:11Z</dcterms:created>
  <dc:creator>pcn</dc:creator>
  <dc:description/>
  <dc:language>en-US</dc:language>
  <cp:lastModifiedBy>pcn</cp:lastModifiedBy>
  <dcterms:modified xsi:type="dcterms:W3CDTF">2002-01-06T16:37:52Z</dcterms:modified>
  <cp:revision>1</cp:revision>
  <dc:subject/>
  <dc:title>没有幻灯片标题</dc:title>
</cp:coreProperties>
</file>