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3613-7F0C-422C-9756-A82D844A6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D476-5904-46AE-A046-B5D398D9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745B-61D3-4ADC-8F39-0310F1FC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8792-A50E-4E5B-96D0-0B33A560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9974-09A2-428F-B655-5CF50472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0041-1835-47A3-9B9C-64A88FE1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84E5-A5D3-4A73-B7FC-A0B93DB0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A42C-BB2F-4572-87CE-2891483F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60C3-7F1C-4087-8227-7D85ADED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8FC0-E165-4FF6-8685-813DBB8D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0E71-9B15-406B-8567-A091EBD9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FD29-E7B0-413F-B3E4-52EC1E1F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6F24-3C24-4496-B7DD-D1D4DCC9A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304920"/>
            <a:ext cx="7619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“对象”框中选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uso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在“数据”选项卡中选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rd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属性并从下拉列表框中选择一个索引以设置父表的排序索引。使用同样的步骤设置子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us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索引。两个临时表应使用同样的索引进行排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“对象”框中选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taEnvironme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选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itialSelectedAli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属性，然后在下拉列表中选择父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“报表设计器”中，根据关系中父表方的数据向报表中添加数据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将字段添加到报表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“课程表”为父表，“分数”为子表，建一个一对多报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打开“报表向导”，选择“一对多报表”。单击“确定”按钮进入步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数据库中的表“课程表”作为父表。可选用字段：课程、教师、教室号、时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从子表“分数”中选取字段。这里选定为：学号、成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5T05:15:35Z</dcterms:created>
  <dc:creator>pcn</dc:creator>
  <dc:description/>
  <dc:language>en-US</dc:language>
  <cp:lastModifiedBy>pcn</cp:lastModifiedBy>
  <dcterms:modified xsi:type="dcterms:W3CDTF">2002-01-05T05:21:58Z</dcterms:modified>
  <cp:revision>1</cp:revision>
  <dc:subject/>
  <dc:title>没有幻灯片标题</dc:title>
</cp:coreProperties>
</file>