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24B-1B79-44EF-9A7D-43AF8D82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BF2-D80C-4F6E-9AFD-7FE931CD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CEE-0886-4197-92E6-1343A373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D37-A0F1-4E27-B838-01D735C8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2E1-64DC-4578-993F-C1DF2E4E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9B3-4A75-4E3A-B487-F0C6FE2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BDA-9CED-4B53-B172-E494199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1F0-7BE3-4F4C-BA26-95DB591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F39-4670-4E44-8272-0DDCC4E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C7B-D8C4-4690-86F2-81BC0ACA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055-5985-485C-9525-A59F98F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6BE-E04E-49CA-ADE5-58A275D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5A64-7656-4A09-AACC-5ACC37152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下一步”进入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对数据进行分组。首先是班级，以便保持同一班同学的整体功能，其次是课程，以保证课程成绩划分以及有关其他同一课程成绩的计算统计之方便。做好这一步骤后即可进入“下一步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报表样式选择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输出样式。我们在这里选取了“帐务式”。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报表布局”缺省。单击“下一步”进入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记录排序是信息数据编排顺序的重点，这就是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“排序记录”，在这一步可以选用“成绩”，也可以选用“学号”。我们选用的是“学号”，采用的是“升序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最后一步“完成”前，可以预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效果良好可以在最后一步选择“保存报表供以后使用”，也可在满意的前提下选择“保存并打印报表”；不然，则“保存后在报表设计器中修改”，单击“完成”，报表设计结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2:51:44Z</dcterms:created>
  <dc:creator>pcn</dc:creator>
  <dc:description/>
  <dc:language>en-US</dc:language>
  <cp:lastModifiedBy>pcn</cp:lastModifiedBy>
  <dcterms:modified xsi:type="dcterms:W3CDTF">2002-01-05T02:57:44Z</dcterms:modified>
  <cp:revision>1</cp:revision>
  <dc:subject/>
  <dc:title>没有幻灯片标题</dc:title>
</cp:coreProperties>
</file>