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212-B273-4FE2-BF98-F002D246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264-407C-4AB9-94A8-2957FD69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ED8-AB89-46E5-B416-8DEC56F3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7D8-FF75-4664-AE4E-8E5F298B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748-8A1D-4AE4-B833-ABA70D92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DFD-B02C-45DE-ACC8-86D6FEE2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EFB6-49AF-49D5-8F6D-BC216379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4AC-E281-4DCB-8237-A8F98105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B3E-3BFE-440A-A659-A278D5C3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8AA-6710-4D73-BF7A-AEE3734B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07E-F704-418E-A55F-6C91EE78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BA1-299C-43FA-9EDB-58476A9C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4468-FED3-4CB5-8A0A-BA3510EDF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609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14600" y="1828800"/>
          <a:ext cx="38862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828800"/>
                    <a:ext cx="38862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286000" y="472428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8-22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8-8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表单运行效果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9:08:21Z</dcterms:created>
  <dc:creator>pcn</dc:creator>
  <dc:description/>
  <dc:language>en-US</dc:language>
  <cp:lastModifiedBy>pcn</cp:lastModifiedBy>
  <dcterms:modified xsi:type="dcterms:W3CDTF">2002-01-03T09:11:42Z</dcterms:modified>
  <cp:revision>1</cp:revision>
  <dc:subject/>
  <dc:title>没有幻灯片标题</dc:title>
</cp:coreProperties>
</file>