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B69-04C5-4AB2-B221-08A9E05F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EB0-8226-4862-9CEF-82D446B9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334-9833-4FCF-B7EE-B549E1C6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5E05-CC2C-4133-AE95-13D84864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4758-50C2-4AA1-8D2B-D3494C15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529-0311-46C6-B001-4CDCA4C9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886D-7AC3-40ED-9FA4-A9235AA6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C7E-515D-4733-A11F-98BC3B45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E8B-8AD3-437E-B103-B67A1A83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152-3EF3-4A72-8FB2-8A64AD29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ADDB-F51C-41AA-97CC-04D595D6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AE9-A803-483F-8B44-263CDEFD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BBEF-0E5D-4628-AFCA-A7F5C2D96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7696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为命令按钮二设计方法程序代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messagebox(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你真的要退出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",4+16+0,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窗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a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lease thi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果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-1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743200" y="2971800"/>
          <a:ext cx="3686040" cy="21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971800"/>
                    <a:ext cx="368604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819520" y="53341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8-9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8-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结果显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21:10:23Z</dcterms:created>
  <dc:creator>pcn</dc:creator>
  <dc:description/>
  <dc:language>en-US</dc:language>
  <cp:lastModifiedBy>pcn</cp:lastModifiedBy>
  <dcterms:modified xsi:type="dcterms:W3CDTF">2002-01-02T21:19:24Z</dcterms:modified>
  <cp:revision>1</cp:revision>
  <dc:subject/>
  <dc:title>没有幻灯片标题</dc:title>
</cp:coreProperties>
</file>