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951-07C3-4B45-9722-2A258690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7E1-BB09-4FBF-AC73-D0FCE5F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D88-459B-4F33-A706-26FEBEF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679-CA25-4B58-BBEF-2E9AE706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E3C-D317-4A63-81C4-E7BE33EE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D38-3FCD-4B94-91DC-444B6EAE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D3A-560B-463A-B8A9-C7123301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D0E-A846-4FAE-A24A-6DEC5154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D07-35E3-4848-8C3D-53AE860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B37-53CA-4C35-A372-0D0E63E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599-D1BF-4EF7-AFAB-3552562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9CC-264B-4FBC-88DE-DFC6C40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21C5-6476-4AC4-B58B-16F8D1B25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" Target="slide3.xm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948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76148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计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828800" y="255996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的创建及基本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828800" y="415692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看和修改数据库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28800" y="335844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据库中添加和移去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1828800" y="4955400"/>
            <a:ext cx="54100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字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753160"/>
            <a:ext cx="54100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8380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库中添加和移去数据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1752480" y="3652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数据库中移去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17524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752480" y="2778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数据库中添加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7524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数据库中建立新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752480" y="4525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其他数据库中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2209680" y="609480"/>
            <a:ext cx="4648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数据库中建立新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81532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数据库处于打开状态时，可以使用建立自由表的方法在数据库中建立新表，所建立的新表将自动添加到打开的数据库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/>
          </p:cNvPr>
          <p:cNvSpPr/>
          <p:nvPr/>
        </p:nvSpPr>
        <p:spPr>
          <a:xfrm>
            <a:off x="1981080" y="2757600"/>
            <a:ext cx="49532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向数据库中添加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741920"/>
            <a:ext cx="77724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29000"/>
            <a:ext cx="7848720" cy="12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：与数据库相关联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由表：与数据库无关联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与自由表之间可以相互转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/>
          </p:cNvPr>
          <p:cNvSpPr/>
          <p:nvPr/>
        </p:nvSpPr>
        <p:spPr>
          <a:xfrm>
            <a:off x="2209680" y="609480"/>
            <a:ext cx="48769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数据库中移去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DELET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ORECYC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/>
          </p:cNvPr>
          <p:cNvSpPr/>
          <p:nvPr/>
        </p:nvSpPr>
        <p:spPr>
          <a:xfrm>
            <a:off x="1752480" y="434340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3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访问其它数据库中的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0148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可以访问一个不在当前数据库中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8380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查看和修改数据库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数据库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浏览数据库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数据库分层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查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新表和数据库的链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查看数据库的分层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0773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1752480" y="230040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浏览数据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89548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文件为与数据库关联的每个表、视图、索引、标识、永久关系以及连接保存了一个记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保存了每个具有附加属性的表字段或视图字段的记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还包含一个单独的记录，保存数据库的所有存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浏览数据库文件本身的内容，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 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扩展数据库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都包含一个备注字段（命名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可用来保存用户自己的有关数据库中每个记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也可以扩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，添加字段，但字段必须加在库结构的末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要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结构，必须以独占方式访问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字段，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向数据库文件中添加一个新字段并对其命名时，最好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头，指明它是一个用户自定义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要更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任何已存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的字段，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所做的任何改动都可能影响到数据库的完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 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/>
          </p:cNvPr>
          <p:cNvSpPr/>
          <p:nvPr/>
        </p:nvSpPr>
        <p:spPr>
          <a:xfrm>
            <a:off x="1752480" y="53352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检查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数据库，确定数据库每个记录都与它所代表的数据库中的表和对象准确对应，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/>
          </p:cNvPr>
          <p:cNvSpPr/>
          <p:nvPr/>
        </p:nvSpPr>
        <p:spPr>
          <a:xfrm>
            <a:off x="1752480" y="266688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4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新表和数据库的链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27672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双向链接包括前链链接和后链链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链指向数据库中包含的表，由各个表文件的相对路径和文件名称构成，保存在数据库文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链指向拥有该表的数据库，由数据库的相对路径和数据库名称构成，保存在表文件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的头记录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链接被破坏后，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重新建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IDATE DATABASE 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字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523880" y="19018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表中字段的默认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1523880" y="616284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1523880" y="13701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表中字段的标题和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1523880" y="828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表名和表中的长字段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1523880" y="24354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定输入掩码和定义字段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1523880" y="2967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数据库表的有效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1523880" y="35002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1523880" y="45640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永久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1523880" y="40323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关键字值和侯选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1523880" y="50976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参照完整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9" action="ppaction://hlinksldjump"/>
          </p:cNvPr>
          <p:cNvSpPr/>
          <p:nvPr/>
        </p:nvSpPr>
        <p:spPr>
          <a:xfrm>
            <a:off x="1523880" y="56293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.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存储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1752480" y="62388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表名和表中的长字段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3962520" y="13716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03364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表可具有长表名，最多可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能够更真实的反映数据表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NAM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的长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 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级学生使用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10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20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价格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5,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3733920" y="60948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字段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14300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适用于数据库表中的字段，可长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自由表的字段名最多只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数据库中移去一个数据表时，数据表的长字段名被截为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一个数据表与数据库相关联时，必须使用长字段名来引用该表中的字段，不能使用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的字段名来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索引文件中也可以使用长字段名。但是，如果把用长字段名创建索引的表从数据库中移去时，该索引文件将不会工作。此时，需要删除此索引文件，并用短字段名重新建立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数据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所需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需求分类放入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数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计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/>
          </p:cNvPr>
          <p:cNvSpPr/>
          <p:nvPr/>
        </p:nvSpPr>
        <p:spPr>
          <a:xfrm>
            <a:off x="1447920" y="623880"/>
            <a:ext cx="6324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表中字段的标题和注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37160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表设计器”的“字段注释”编辑区域中输入注释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数据库表中的字段添加标题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表设计器”“显示”区域的“标题”文本框中输入标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FIELD,CAPTION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题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FIELD, COMMEN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释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函数返回值为逻辑值，如果添加成功，返回真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“FIELD”,“CAPTION”,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级的班级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/>
          </p:cNvPr>
          <p:cNvSpPr/>
          <p:nvPr/>
        </p:nvSpPr>
        <p:spPr>
          <a:xfrm>
            <a:off x="1752480" y="723960"/>
            <a:ext cx="5562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表中字段的默认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469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8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(4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6,2) DEFAULT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数据表已经存在，也可使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LTER TA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COLUM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FAULT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完整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LTER [COLUMN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ULL/NOT NULL] [SET DEFAUL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 [DROP DEFAULT] [DROP CHE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/>
          </p:cNvPr>
          <p:cNvSpPr/>
          <p:nvPr/>
        </p:nvSpPr>
        <p:spPr>
          <a:xfrm>
            <a:off x="1600200" y="4572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定输入掩码和定义字段格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990720"/>
            <a:ext cx="8458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指定输入掩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定义字段中的值必须遵守的标点、空格和其他格式要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表设计器”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SETPROP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"FIELD","INPUTMASK", "9999-9999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1600200" y="34290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数据库表的有效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9625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有效性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通过创建字段级和记录级规则，可以控制输入到数据库表的记录和字段中的数据，这些规则称为有效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段级和记录级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把所输入的值与所定义的规则表达式进行比较，如果输入的值不满足规则要求，则拒绝该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性规则只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库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存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从数据库中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移去或删除一个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有属于该表的字段级和记录级规则都会从数据库中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/>
          </p:cNvPr>
          <p:cNvSpPr/>
          <p:nvPr/>
        </p:nvSpPr>
        <p:spPr>
          <a:xfrm>
            <a:off x="3505320" y="380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83196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“规则”文本框中输入表达式来建立字段的有效性规则，在“信息”文本框中，定制错误信息提醒用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])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LTER COLUMN  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字段的有效性规则，可以控制输入到字段中的数据类型，以便能检验输入的数据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级规则在字段值改变时发生作用，如果字段值没有改变，不检查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必须是逻辑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COLUM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HEC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/>
          </p:cNvPr>
          <p:cNvSpPr/>
          <p:nvPr/>
        </p:nvSpPr>
        <p:spPr>
          <a:xfrm>
            <a:off x="3352680" y="609480"/>
            <a:ext cx="2133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级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8229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“表”选项卡的“记录有效性”的“规则”文本框中输入表达式，在“信息”文本框中输入错误提示信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 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)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SET CHE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ERR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记录的有效性规则，可以控制用户输入到记录中的信息类型，来检验输入的数据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的有效性规则通常在输入或修改记录时被激活，在删除记录时一般不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/>
          </p:cNvPr>
          <p:cNvSpPr/>
          <p:nvPr/>
        </p:nvSpPr>
        <p:spPr>
          <a:xfrm>
            <a:off x="2209680" y="533520"/>
            <a:ext cx="44960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6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219320"/>
            <a:ext cx="83055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在对数据库表中的记录进行插入、删除、更新时所启动的表达式。一般有插入、更新和删除三种形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插入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在数据库表中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时所触发的检测程序，该程序可以为表达式，也可以为自定义函数。如果响应假值时，表示触发失败，插入的记录将不被存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更新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后按回车键时，激发所设置的表达式或自定义函数进行检测，确定该记录被修改后是否符合所设置的规则。如果符合返回真值，保存修改后的记录；否则返回假值，不保存修改后的记录，同时还原修改之前的记录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删除触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数据表中记录被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激发所设置的表达式或自定义函数进行检测。如果检测结果为真值，该记录可以被删除；如果返回假值，则该记录禁止被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/>
          </p:cNvPr>
          <p:cNvSpPr/>
          <p:nvPr/>
        </p:nvSpPr>
        <p:spPr>
          <a:xfrm>
            <a:off x="3657600" y="47628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8576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打开“表”选项卡，分别在“插入触发器”、“ 更新触发器”、“ 删除触发器”的文本框中输入触发器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RIGGER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FOR DELETE / INSERT/UPDATE A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RIGGER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NSERT A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3657600" y="403848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57200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再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CREATE TRIGG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重新创建触发器，旧的触发器将自动删除，并且建立新的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/>
          </p:cNvPr>
          <p:cNvSpPr/>
          <p:nvPr/>
        </p:nvSpPr>
        <p:spPr>
          <a:xfrm>
            <a:off x="3009960" y="45720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移去或删除触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9907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TRIGGER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FOR DELETE/INSERT/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TRIGGER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1676520" y="3062160"/>
            <a:ext cx="56386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7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关键字值和侯选关键字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/>
          </p:cNvPr>
          <p:cNvSpPr/>
          <p:nvPr/>
        </p:nvSpPr>
        <p:spPr>
          <a:xfrm>
            <a:off x="3505320" y="365760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911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据库表中，通过主关键字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主索引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值只能建立在数据库表中，并且该字段值不能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重复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能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空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ll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中的任何一个数据表只能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762120"/>
            <a:ext cx="86104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) PRIMARY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ADD PRIMARY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PRIMARY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/>
          </p:cNvPr>
          <p:cNvSpPr/>
          <p:nvPr/>
        </p:nvSpPr>
        <p:spPr>
          <a:xfrm>
            <a:off x="3429000" y="373392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侯选关键字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43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候选关键字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候选索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且该字值可以成为主关键字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字段值不能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空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有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，但它既可设置在自由表中，也可设置在数据库表中，而且每一个表中可针对需求设置多个候选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685800"/>
            <a:ext cx="83818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设计器与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3505320" y="19810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唯一性键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489040"/>
            <a:ext cx="8229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唯一性键值可以建立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唯一索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唯一性键值不限制数据表中该字段值的唯一性，但在建立的索引文件中，只保留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同值记录的第一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设置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设计器与命令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20516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800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永久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存储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数据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据表之间的关系，是相对于用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RELATION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的临时关系而言的，他们存储在数据库文件中，不需要每次使用时都重建，在“数据库设计器”中，显示为联系数据表索引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09680" y="16905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析数据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333520"/>
            <a:ext cx="8077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数据库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目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需要从数据库中得到哪些信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需要保存哪些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主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信息（表），以及每个主题需要保存哪些信息（表中的字段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数据库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使用人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交换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8077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仔细研究需要从数据库中提取的信息，并把这些信息分成各种</a:t>
            </a: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基本主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每个主题都是一个独立的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注意</a:t>
            </a: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防止删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用的信息，同一信息尽量只保存一次，这样将减少出错的可能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2209680" y="40384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需求分类放入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设计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明确目的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需要的表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所需字段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确定关系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计求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3720" y="30492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914400"/>
            <a:ext cx="8229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FOREIGN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REFERENCE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ADD FOREIGN KE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REFERENCE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DATABA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PRIMARY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 FOREIGN KE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FERENCE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：在一对多关系中，“一方”必须用主关键字建立主索引，“多方”则可使用普通索引关键字建立普通索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数据库设计器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4716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8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永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21932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中永久关系的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命令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DROP FOREIGN KEY TAG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SA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OP FOREIGN KEY TA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数据库设计器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43578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9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参照完整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2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参照完整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就是指建立一组规则，当用户插入、更新或删除记录时保护数据表之间已定义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1036800"/>
            <a:ext cx="8839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施参照完整性规则可以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确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主表中没有关联记录时，记录不得添加到相关表中；主表的值不能改变，若这个改变将导致相关表中出现孤立记录；若某主表记录在相关表中有匹配记录，则该主表记录不能被删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参照完整性生成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572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9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置参照完整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64176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.10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建立存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253040"/>
            <a:ext cx="85345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过程是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，是专门操作数据库中数据的代码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存储过程主要是为了创建用户自定义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过程的使用：数据库设计器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133720" y="47160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确定所需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98720"/>
            <a:ext cx="83059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确定字段的技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字段直接和表的主题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要包含可推导得到或需计算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收集所需的全部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以最小的逻辑单位存储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主关键字段：即可以唯一确定存储在表中每个记录的一个或一组字段，它能够迅速关联多个表中的数据，并把数据组合在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选择主关键字时需要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允许在主关键字段中有重复值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段不能太长，以方便记忆和键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段值最好使用能满足存储要求的最小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2209680" y="7761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确定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8305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之间的关系可以分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对一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对一关系中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只能对应一个记录，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也只能有一个记录与之对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对多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对多关系中，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对应多个记录，而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只有一个记录与之对应，这是关系型数据库中最普通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多对多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多对多关系中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可以对应多个记录，而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记录在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也可以对应多个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2209680" y="77616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1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37160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设计好之后，还需要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注意的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：是否遗忘了字段？是否有需要的信息没包括进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主关键字：是否为每个表选择了合适的主关键字？在使用这个主关键字查找具体记录时，它是否很容易记忆和键入？要确保主关键字段的值不会出现重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复信息：是否在某个表中重复输入了同样的信息？如果是，需要将该表分成两个一对多关系的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否有这么一个字段很多而记录项却很少的表，而且许多记录中的字段值为空？如果有，就要考虑重新设计该表，使它的字段减少，记录增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库的创建及基本操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1523880" y="3301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1523880" y="54007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523880" y="2603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项目中添加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52388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1523880" y="47005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1523880" y="4002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闭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/>
          </p:cNvPr>
          <p:cNvSpPr/>
          <p:nvPr/>
        </p:nvSpPr>
        <p:spPr>
          <a:xfrm>
            <a:off x="2247840" y="45720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90720"/>
            <a:ext cx="7924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库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/>
          </p:cNvPr>
          <p:cNvSpPr/>
          <p:nvPr/>
        </p:nvSpPr>
        <p:spPr>
          <a:xfrm>
            <a:off x="2247840" y="38242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打开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397400"/>
            <a:ext cx="7848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可以将某一打开的数据库指定为当前数据库，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 DATABASE 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/>
          </p:cNvPr>
          <p:cNvSpPr/>
          <p:nvPr/>
        </p:nvSpPr>
        <p:spPr>
          <a:xfrm>
            <a:off x="2133720" y="2438280"/>
            <a:ext cx="44956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项目中添加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使用项目管理器中的“添加”按钮将数据库添加到项目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/>
          </p:cNvPr>
          <p:cNvSpPr/>
          <p:nvPr/>
        </p:nvSpPr>
        <p:spPr>
          <a:xfrm>
            <a:off x="2209680" y="92880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闭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738440"/>
            <a:ext cx="8305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 DATABASE [ALL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 DAT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当前数据库和它所有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菜单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2209680" y="35956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2.5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删除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3434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 DATAB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DELETE TABL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项目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4:19:32Z</dcterms:created>
  <dc:creator>yao</dc:creator>
  <dc:description/>
  <dc:language>en-US</dc:language>
  <cp:lastModifiedBy>yao</cp:lastModifiedBy>
  <dcterms:modified xsi:type="dcterms:W3CDTF">2001-10-16T15:43:53Z</dcterms:modified>
  <cp:revision>27</cp:revision>
  <dc:subject/>
  <dc:title>没有幻灯片标题</dc:title>
</cp:coreProperties>
</file>