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A8D-F8B0-45E3-B403-30E0066E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350-6825-40D3-B7AF-F834E1C6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AB6-FEAD-4C95-81F4-C67E610B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3B4-E7E0-471F-9BDD-5327EE53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A66-336D-453F-828F-813E55A6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76F-F2E8-4270-839E-BC5EB425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D73-B602-46A0-AAF0-6224535C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771-E29F-4418-B5E6-5FCAD01A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738-73A8-4A46-A7C8-E3BB4FD6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A23-1FEE-4483-A95F-DFABC3A6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7AC-BFC2-4EBC-B2C9-E3D6C3DF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CDE-A337-4A1F-AE5D-E4A4C4DE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593A-BF0F-473A-BC86-50FE37BF8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80880"/>
            <a:ext cx="853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以为整个表格设置数据源，也可以为每个列单独设置数据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表格，然后单击“属性”窗口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Source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整个表格设置数据源打开方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表，   请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Source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设置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”；如果在表格中放入打开表的字段，则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Source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设置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别名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“属性”窗口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Sour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，指定与表格对象建立联系的数据源。如果没有指定表格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ordSour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，同时在当前工作区中有一个打开的表，那么表格将显示这个表的所有字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入作为表格数据源的别名或表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想在特定的列中显示一个特定字段，也可以为列设置数据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列，然后单击“属性”窗口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rolSour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。键入作为列的数据源的别名、表名或字段名。例如，可以键入“课程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程号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2:02:48Z</dcterms:created>
  <dc:creator>pcn</dc:creator>
  <dc:description/>
  <dc:language>en-US</dc:language>
  <cp:lastModifiedBy>pcn</cp:lastModifiedBy>
  <dcterms:modified xsi:type="dcterms:W3CDTF">2002-01-06T20:50:53Z</dcterms:modified>
  <cp:revision>2</cp:revision>
  <dc:subject/>
  <dc:title>没有幻灯片标题</dc:title>
</cp:coreProperties>
</file>