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BBB-E441-4945-B126-B1AD6F44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2C5-8A21-4233-8006-D318C174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469-ABB6-4EC1-AA75-B1123637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883-7821-4145-B6A4-E732DA7F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A04-E950-4449-93E2-99CA4C1D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027-A147-4122-9B31-A473B489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D64-37D8-4697-9800-AEA1FE9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69E-A607-4BB8-A0FA-E20213A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B06-C7EF-4627-A14F-053C430D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3B9-7CD6-42AD-8382-39579147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198-37F3-4123-B703-9C3CB127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406-956A-47D5-A758-64B31A6C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FA4C-91D2-4E0D-A21F-A2BA5E1D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要将表格控件添加到表单，请在“表单控件”工具栏中选择“表格”按钮，并在“表单”窗口中调整为期望的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先需要设置的表格控件属性为“列数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设计时人工调整表格的显示效果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属性和方法程序列表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lumn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，在属性框中，键入需要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格中加入列后应设置、改变列的宽度和行的高度。可以在“属性”窗口中人工设置列和行对象的高度和宽度属性，也可以在设计表格时以可视方式设置这些属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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表格中列的宽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格设计方式下，将鼠标指针置于表格列的标头之间，这时指针变为带有左右两个方向箭头的竖条，按住鼠标左键，将列拖动到需要的宽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在“属性”窗口设置列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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表格中行的高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格设计方式下，将鼠标指针置于“表格”控件左侧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按钮和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按钮之间，这时指针将变成带有向上和向下箭头的横条。按住鼠标左键，将行拖动到需要的宽度。或者在“属性”窗口中设置列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1:57:45Z</dcterms:created>
  <dc:creator>pcn</dc:creator>
  <dc:description/>
  <dc:language>en-US</dc:language>
  <cp:lastModifiedBy>pcn</cp:lastModifiedBy>
  <dcterms:modified xsi:type="dcterms:W3CDTF">2002-01-06T20:51:15Z</dcterms:modified>
  <cp:revision>2</cp:revision>
  <dc:subject/>
  <dc:title>没有幻灯片标题</dc:title>
</cp:coreProperties>
</file>