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CDF-913D-465F-90CF-D13F7BCF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29C-C759-465D-9451-4DA5186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3A4-01CE-45D9-B6AE-D73ABE97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F07-D8A6-497C-ABEF-9DFA077B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35C-0524-4367-A283-5D69814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72A-195C-4DAE-91ED-13FF69D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279-A562-4726-8AC5-78B64B1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5F8-1FDD-47B1-AE46-6479953A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F91-D5F4-4962-8E3C-E2257C0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751-8D6C-4D23-8136-B75842F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1AC-28E8-4C8B-B5D4-B6C50B6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3CE-A38D-44B2-A731-6897347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4285-E49D-4DBB-B66E-1FA97665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制菜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新建一个菜单，可以通过定制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或者开发自己的菜单系统来创建。如果要从已有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系统开始创建菜单，则可以使用“快速菜单”功能。具体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项，然后用鼠标单击“新建”按钮，在随后出现的“新建菜单”窗口中用鼠标单击“菜单”按钮，随后将会出现“菜单设计器”窗口，同时在系统菜单中将会出现“菜单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系统菜单的“菜单”选项中，选择“快速菜单”命令，在“菜单设计器”中将会包含关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菜单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菜单设计器”中可通过添加或更改菜单项定制菜单系统，同时，如果用鼠标拖动最前面的移动钮，还可以改变菜单栏上各菜单的位置。此外，如果需要创建“帮助”菜单，最好将它安排在菜单栏的最后，这样用户能够很快找到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38:44Z</dcterms:created>
  <dc:creator>pcn</dc:creator>
  <dc:description/>
  <dc:language>en-US</dc:language>
  <cp:lastModifiedBy>pcn</cp:lastModifiedBy>
  <dcterms:modified xsi:type="dcterms:W3CDTF">2002-01-06T21:03:06Z</dcterms:modified>
  <cp:revision>2</cp:revision>
  <dc:subject/>
  <dc:title>没有幻灯片标题</dc:title>
</cp:coreProperties>
</file>