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A1E-DB26-4203-952F-B92BC43D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A30-6E1C-4074-A55F-F9CEC6DF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7BF-4D2E-4FDB-8304-3EDE7D47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D78-8E76-48E9-B17A-1F028492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76F-0C69-4FCF-8802-1476FE8E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F90-1FAD-405F-A10A-89DBEC2B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8AC-0580-4264-B5B2-50F21CD9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B6A-AAB7-49C1-B263-AB7986E8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9CB-B487-438F-83B8-5E10F85E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B4A-E760-41E7-80F2-F65086CF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0F8-E571-40BC-8294-87A9BF6B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042-E86A-469E-8F48-93A88436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1F41-2126-4380-8F78-ECC50655C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30120"/>
            <a:ext cx="7848360" cy="36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0.2.4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每个菜单项，都可以创建包含其他菜单项的子菜单。如果需要在菜单项中添加子菜单，可进行如下操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菜单设计器的“菜单名称”栏中，选择要添加子菜单的菜单项；在“结果”框中，选择“子菜单”，此时“创建”按钮会出现在列表的右侧。如果已经有了子菜单，则此处出现的是“编辑”按钮，用鼠标单击“创建”或“编辑”按钮。然后在“菜单名称”栏中，键入新建的各子菜单项的名称。在子菜单建立完成后，如果还需要建立其他的菜单项，在“菜单级”的下拉列表中选择“菜单栏”选项，则可以继续建立其他的菜单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0.2.5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编程方式添加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既可以使用“菜单设计器”创建菜单和菜单项，也可以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命令来创建。例如，创建菜单可使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PA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创建子菜单可使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POPU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而在子菜单上创建菜单项则可以使用一组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INE BA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9:08:15Z</dcterms:created>
  <dc:creator>pcn</dc:creator>
  <dc:description/>
  <dc:language>en-US</dc:language>
  <cp:lastModifiedBy>pcn</cp:lastModifiedBy>
  <dcterms:modified xsi:type="dcterms:W3CDTF">2002-01-06T21:03:26Z</dcterms:modified>
  <cp:revision>2</cp:revision>
  <dc:subject/>
  <dc:title>没有幻灯片标题</dc:title>
</cp:coreProperties>
</file>