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02F-023A-4060-ADD9-55F6C216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8AF-75C4-4EAA-AF28-8F59268A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1F3-3293-4F80-88A6-1EB30039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A9B-2080-443A-81AD-B9E5246E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E10-480D-455B-A780-E9D767C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CC9-7ABF-4C4E-ADE7-0EC930C4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448-3CA3-4E1F-8C8C-9B403466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657-35F6-4556-9AA9-C32D15B9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7DD-40B8-48CC-85C6-AF415965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170-B493-48B9-8BBD-E5C4FBA9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210-CCE3-4D8E-900B-9578304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F98-1E83-4341-B67F-D78500B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76B-2926-49DB-BD78-F0E5FF1EF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控件或对象上单击右键时，将会显示快捷菜单，以便快速展示当前对象可用的所有功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创建快捷菜单的功能，并可将这些菜单附加在控件中。例如，可创建包含“剪切”、“复制”和“粘贴”命令的快捷菜单，当用户在表格控件所包含的数据上单击右键时，将出现此快捷菜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快捷菜单的具体操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“项目管理器”中的“其他”选项卡，选定“菜单”选项，并单击“新建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随后出现的“新建菜单”窗口中用鼠标单击“快捷菜单”按钮，将会出现“快捷菜单设计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入“快捷菜单设计器”后，添加菜单项的过程与创建菜单完全相同。即在“菜单名称”栏中，选择相应的菜单标题或菜单项；单击“选项”栏中的按钮，出现“提示选项”对话框，在“键标签”框中，按下一组合键，可创建快捷键。快捷键一般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与另一个键相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8:42:25Z</dcterms:created>
  <dc:creator>pcn</dc:creator>
  <dc:description/>
  <dc:language>en-US</dc:language>
  <cp:lastModifiedBy>pcn</cp:lastModifiedBy>
  <dcterms:modified xsi:type="dcterms:W3CDTF">2002-01-06T21:04:06Z</dcterms:modified>
  <cp:revision>2</cp:revision>
  <dc:subject/>
  <dc:title>没有幻灯片标题</dc:title>
</cp:coreProperties>
</file>