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3E0-0E19-49E4-97AA-2A848193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D53-5345-4303-A1CF-35C22176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02E-7A86-47CC-A69F-8865E79F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6F3-7B62-4915-B177-B0E43F0C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477-8559-4510-B6FC-3156EB9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0D6-7EFF-4C8F-9D1A-8C2673DE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3AF-0C30-4827-B9B7-DF580E4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A61-3F07-430C-A12D-BC511FD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A8D-62F2-45C3-8ECC-F3EC9D39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C0D-53B6-43BE-BEA1-14F2391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C41-85DA-4669-B712-02E5758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F97-B8D8-4DFD-9D19-88F1CD0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6E1-E898-4DDB-B715-22D77BC7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单设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92376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菜单设计得很好，那么用户只要根据菜单栏和与之配套的工具栏的组织形式和内容，就可以很好地理解应用程序要点及其所能提供的主要功能，为恰当地设计菜单栏和工具栏，实现应用程序的主要功能实现。提供了“菜单设计器”，用来创建菜单。打开菜单设计器的方法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常用工具栏上单击“新建”按钮，在“新建”“文件类型”列表中选择“菜单”单选项，然后单击“新建文件”按钮，出现“新建菜单”窗口，用鼠标单击其中的“菜单”按钮，出现“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“文件”菜单中，选择“新建”菜单项，出现“新建”窗口，以后操作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项目管理器，即在项目管理器中选择“菜单”，然后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命令，其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Y MEM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&l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菜单文件，扩展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MN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允许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05:53Z</dcterms:created>
  <dc:creator>pcn</dc:creator>
  <dc:description/>
  <dc:language>en-US</dc:language>
  <cp:lastModifiedBy>pcn</cp:lastModifiedBy>
  <dcterms:modified xsi:type="dcterms:W3CDTF">2002-01-06T21:05:48Z</dcterms:modified>
  <cp:revision>2</cp:revision>
  <dc:subject/>
  <dc:title>没有幻灯片标题</dc:title>
</cp:coreProperties>
</file>