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6AC-789D-4683-9CB9-0F471432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716-8580-4755-A505-B53B3BEA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347-61F8-480A-A452-539EBBA0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DFE-81D7-4FFB-B625-F2895542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E23-3471-4F1C-A8D6-082F3429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783-A378-4210-9B2F-A3133C0E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6E4-9E37-422E-AEDC-743B5D7A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EED-7EF8-486C-BED2-242F7DB6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D34-69C7-49B5-A99C-B6D2FC8D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938-1ED0-4A0B-9BA1-D467F5A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5A5-F2BE-495B-BD69-D729619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0E8-77F3-4CB4-9303-A8A719A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2411-B60C-4656-B9F0-3159172F5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对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523880"/>
          <a:ext cx="77724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7724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9:04:59Z</dcterms:created>
  <dc:creator>pcn</dc:creator>
  <dc:description/>
  <dc:language>en-US</dc:language>
  <cp:lastModifiedBy>pcn</cp:lastModifiedBy>
  <dcterms:modified xsi:type="dcterms:W3CDTF">2002-01-06T20:36:17Z</dcterms:modified>
  <cp:revision>1</cp:revision>
  <dc:subject/>
  <dc:title>对象</dc:title>
</cp:coreProperties>
</file>