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4CB-B262-41BD-B8E8-909F5197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FB0F-E1D0-4FB5-AE52-94E9B768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A7B-462D-46F2-B58A-983F737F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630-EA44-4B0A-B2AE-F22FF1BE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C64-B3E5-4F90-ACDF-11865BDD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687-2916-4935-91AF-CA7F5753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BED2-6A78-4E04-9B88-E85BEA84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F7C-17FC-4877-9166-B1371221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BDF-713F-4F44-85C6-DDE8FEEA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0F3-8BA2-4EB6-9CBE-91A27601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567-3713-4B6D-BE84-36228E1E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D82-ABD2-4D4D-98F3-7132FCA9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00DB-4724-44BA-89DB-34D7B3197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8.2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数据环境设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2.1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打开“数据环境设计器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创建表单或已有打开表单的情况下，可以从“显示”菜单中，也可在表单快捷菜单中 选择“数据环境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2.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数据信息与数据环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17:33:20Z</dcterms:created>
  <dc:creator>pcn</dc:creator>
  <dc:description/>
  <dc:language>en-US</dc:language>
  <cp:lastModifiedBy>pcn</cp:lastModifiedBy>
  <dcterms:modified xsi:type="dcterms:W3CDTF">2002-01-01T17:41:46Z</dcterms:modified>
  <cp:revision>1</cp:revision>
  <dc:subject/>
  <dc:title>8.2 数据环境设置</dc:title>
</cp:coreProperties>
</file>