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856-2FFD-40B8-ABF8-717530EB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91B-A0B0-449D-B04F-7CAF30DD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F4B-8001-4F60-B16B-44836C01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846-FCCF-404C-A265-8E5B442D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DBB-CF12-4B65-AA80-520AC45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DB1-5E80-427C-95D3-42907508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0AE-B95A-41FA-B768-9C85B52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F9C-2FAB-40C4-9CA2-D6F269D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477-EB74-4965-8813-13CAE1A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2A1-0D99-4644-8861-4B2E3A2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7EA-0993-4673-BB31-32D20BB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38B-7080-4BFB-9F3A-8275CE1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297D-6765-4DBC-97BF-92D836E42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交互式操作提供了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控件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表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1:30:33Z</dcterms:created>
  <dc:creator>pcn</dc:creator>
  <dc:description/>
  <dc:language>en-US</dc:language>
  <cp:lastModifiedBy>pcn</cp:lastModifiedBy>
  <dcterms:modified xsi:type="dcterms:W3CDTF">2002-01-06T20:33:44Z</dcterms:modified>
  <cp:revision>1</cp:revision>
  <dc:subject/>
  <dc:title>控件</dc:title>
</cp:coreProperties>
</file>