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3E2-2100-4082-B99F-6D7D04B7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165-B10E-4300-ACC4-435EF79E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9F5-EF98-456B-ACF4-EEC1A0C3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CE9-5CBA-42C6-B8F7-85261257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4C5-6136-4CFD-8EDE-71260A77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EC4-EC8A-4D5C-85D2-0062C3EE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2F6-7768-4099-9EF9-24C06A55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9AA-DD3C-464D-9140-038128EE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CAF-2689-4F33-B493-3CF24890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7EE-07DC-4DD5-BEC5-DF2C1D4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F6B-5123-4E4F-93C9-F948FB35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17D-378A-481E-B34A-88765B8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AC18-FDDA-4265-804B-CA2E672B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858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表单设计器创建表单、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71600"/>
            <a:ext cx="81532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控件是指可以用于交互式操作界面的图形对象。表单中的控件是用以显示数据、执行操作或使表单更易阅读的图形对象。可以输入输出数据、完成具有某种特定功能的操作，构建用户和计算机之间相互沟通的操作界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单中有两类控件：与表中数据绑定的控件和不与数据绑定的控件。当使用绑定型控件时，所输入或所选择的值将保存在数据源中（数据源可以是表中的字段、临时表的字段或变量）。要使控件在表单中正确运行，可以设置控件的有关属性（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rol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把控件与数据结为一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好保持控件使用方法特征的一致性，给用户一个明确的提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6:36:17Z</dcterms:created>
  <dc:creator>pcn</dc:creator>
  <dc:description/>
  <dc:language>en-US</dc:language>
  <cp:lastModifiedBy>pcn</cp:lastModifiedBy>
  <dcterms:modified xsi:type="dcterms:W3CDTF">2002-01-06T20:49:36Z</dcterms:modified>
  <cp:revision>2</cp:revision>
  <dc:subject/>
  <dc:title>没有幻灯片标题</dc:title>
</cp:coreProperties>
</file>