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5B8-4BBA-420A-8906-F6AECF9C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58C-AD9F-4B73-BFF6-7142CCF0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65E-A096-43AC-92B2-6D4D1CDA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031-FFB6-431C-9321-B3EC3DE7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36D-F726-45C2-BBDE-E7EB9017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BBB-03DD-49D7-A0D3-70D71730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930-4489-4822-BCCA-0FB44FF3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1BD-CF60-4690-90EB-D8F423E2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ED9-52C9-4A6D-A49D-0AF6179D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24B-68D0-4A47-96B8-B4DDD5C7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B26-F176-4277-9402-EE205CB9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C0C-2F54-419E-B3BC-CF8771C3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AD56-B900-4C3A-B64F-3E839A015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常用属性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54280" y="838080"/>
          <a:ext cx="563400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838080"/>
                    <a:ext cx="563400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01:42:22Z</dcterms:created>
  <dc:creator>pcn</dc:creator>
  <dc:description/>
  <dc:language>en-US</dc:language>
  <cp:lastModifiedBy>pcn</cp:lastModifiedBy>
  <dcterms:modified xsi:type="dcterms:W3CDTF">2002-01-06T20:39:47Z</dcterms:modified>
  <cp:revision>2</cp:revision>
  <dc:subject/>
  <dc:title>常用属性表</dc:title>
</cp:coreProperties>
</file>