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EB3-6E97-4413-A2A8-B2F74612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808-104F-40F5-9626-95865052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27D-FEFB-4FD8-93A0-DADAA49A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B8B-94EE-4EAB-AC2B-925CEE74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B6A-8BF3-41E6-B6C6-28F48C7D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269-DB4F-4FA9-BFE8-CC484AA0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4C8-8F74-48DB-B96A-1F283DA2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25F-354E-4339-8C4C-0B404E95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9E4-96A2-452A-ABB8-FC299E97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B36-17D0-4B05-8D97-0B091A1D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EC0-ACEE-4491-8AF8-CF09EEB5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B32-B098-4B54-A022-31F04D55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1DCD-CCF8-45C7-A903-A3F55DE4F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对象的操作与引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绝对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用地址从最外层容器直到目标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对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用地址从参照物到目标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7-7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参照关键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参照关键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参照对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对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FOR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含该对象的表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FOM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含该对象的表单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含该对象的父对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02:05:26Z</dcterms:created>
  <dc:creator>pcn</dc:creator>
  <dc:description/>
  <dc:language>en-US</dc:language>
  <cp:lastModifiedBy>pcn</cp:lastModifiedBy>
  <dcterms:modified xsi:type="dcterms:W3CDTF">2002-01-06T20:44:09Z</dcterms:modified>
  <cp:revision>2</cp:revision>
  <dc:subject/>
  <dc:title>对象的操作与引用</dc:title>
</cp:coreProperties>
</file>