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902-342E-4556-879A-9F576D56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50A-D683-4F5F-8CF7-852CC8FB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8928-187E-4C6B-BCC0-9A5D5149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0CC-5182-4B68-92C7-DC43E7F3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D8D-E53A-465D-9774-EE25FFC0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3863-B5E6-4223-BE29-72A54CB0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7AAA-B433-40B4-AE3A-1432C6FC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DA0-D259-40E4-8DEF-88D5A76A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4C7-C6AF-40DE-8CDF-09737BDF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0D97-9471-4FFD-A0B5-89DFB4EE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544-D24E-458B-BC45-71501A11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A7CE-D298-4D78-8A5A-D883E6C7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64EF-58D8-43DF-BA8B-3F9BA19A2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常用控件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219320" y="1066680"/>
          <a:ext cx="685800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6858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02:00:16Z</dcterms:created>
  <dc:creator>pcn</dc:creator>
  <dc:description/>
  <dc:language>en-US</dc:language>
  <cp:lastModifiedBy>pcn</cp:lastModifiedBy>
  <dcterms:modified xsi:type="dcterms:W3CDTF">2002-01-06T20:38:31Z</dcterms:modified>
  <cp:revision>2</cp:revision>
  <dc:subject/>
  <dc:title>常用控件表</dc:title>
</cp:coreProperties>
</file>