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622-7D81-4E84-9008-EF479CD4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575-9DB1-4012-BF6A-1B23AE46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7C6-D19F-478C-869B-D415958A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8E6-12B8-420B-B493-322EE6D5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DF2-B2AA-4FBB-820A-7280868E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28D-AFB3-4E69-8210-E7DFE63A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966-9039-4C1B-8BED-666F2B8B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935-C15B-4B07-B9FB-A3C7F220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4CE-CDE2-46B6-A29E-829B1326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51F-6235-41E6-BDC9-FA3A06A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48C-B5C6-440D-91E7-071345E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479-EF10-4D39-BF5C-DEF2302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B9B5-8F79-4792-9DF9-16831EF22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类与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与对象的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类与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容器与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6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53:40Z</dcterms:created>
  <dc:creator>pcn</dc:creator>
  <dc:description/>
  <dc:language>en-US</dc:language>
  <cp:lastModifiedBy>pcn</cp:lastModifiedBy>
  <dcterms:modified xsi:type="dcterms:W3CDTF">2002-01-06T20:29:17Z</dcterms:modified>
  <cp:revision>2</cp:revision>
  <dc:subject/>
  <dc:title>7.1  类与对象</dc:title>
</cp:coreProperties>
</file>