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372D-E784-4F19-8405-E0BE860C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B46F-EC32-4D2D-945D-11772445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3F62-2B61-473D-9258-2AD38173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7AD6-B040-4EDE-AF2B-75925DDA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213A-FC95-45B7-A9AE-C2BB1CEE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D278-92B6-4060-B741-A52EBADE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4A9E-4556-4C70-8B82-6DC1A2F8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92C7-CA42-43D1-AD85-1012DC86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2F1C-3AC7-446E-A4CF-E35BDBC2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D18-8F7C-4804-82C5-BCD24936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6E22-5194-46B9-9D9F-C1837685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E36D-30E1-46E6-A3FA-D3AB111C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25C7-515F-449B-A108-A5276F557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7.1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类与对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.1.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.1.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.1.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与对象的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.1.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基类与子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.1.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0:04:06Z</dcterms:created>
  <dc:creator>pcn</dc:creator>
  <dc:description/>
  <dc:language>en-US</dc:language>
  <cp:lastModifiedBy>pcn</cp:lastModifiedBy>
  <dcterms:modified xsi:type="dcterms:W3CDTF">2002-01-06T20:41:04Z</dcterms:modified>
  <cp:revision>2</cp:revision>
  <dc:subject/>
  <dc:title>7.1 类与对象</dc:title>
</cp:coreProperties>
</file>