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3C2-759A-483D-8F3A-871B9FED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74E-B0EB-4C78-A898-EBF3AA5B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45B-D75C-4CF7-9FFD-A6739D20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F8D-BD5D-4E1A-9F81-AA5D3CFC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F2D-CD22-46C9-A669-5163B24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A96-E36B-42BE-AA16-99E9EAD3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0A4-1E1B-4CFB-A6BE-43DDCF09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18B-9844-4F58-B5DC-A0DA6BB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E64-286D-4CD9-9967-CB89F6B3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545-C430-4E17-B1E5-85D81251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EA2-7DD5-4DE1-A24A-0C2BFCF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A4B-47A6-418A-88EE-3F230CD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1898-425C-43D7-8857-C1B15C6BE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包括数据及用来处理这些数据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件是显示数据和执行交互式操作使用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是附加和作用于对象的一个内存变量。是对象中的数据。是用来描述对象特征的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环境是对象运行所依据的数据信息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事件是对象能够识别和响应的某些行为和操作。如：使用控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法程序是对象在事件发生时进行的功能实现性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27:20Z</dcterms:created>
  <dc:creator>pcn</dc:creator>
  <dc:description/>
  <dc:language>en-US</dc:language>
  <cp:lastModifiedBy>pcn</cp:lastModifiedBy>
  <dcterms:modified xsi:type="dcterms:W3CDTF">2001-12-31T18:53:25Z</dcterms:modified>
  <cp:revision>1</cp:revision>
  <dc:subject/>
  <dc:title>7.1.1 对象</dc:title>
</cp:coreProperties>
</file>