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2B5D-3063-4704-B5E7-8033A032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043A-4C9C-4FED-BEC2-83C4468B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BEE-BA99-41E7-9E0B-4CAB9BF1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C66-FB39-4615-AA32-7F0D47E6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C573-E0D8-4B44-8C0D-ECFE84AF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DD90-E79D-48D8-AB0F-CF4D35F8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138-5E37-44F9-BF23-F6C01655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045C-FCBA-4073-B912-9AA8535F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8900-DDC7-457D-9AAB-5E1BDB11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7BF-3579-41B8-A946-9166C482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2ED3-9AB3-4C8C-A28B-1C8D285C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A5E7-E1CE-4F10-9604-652C476B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C065-C9DC-4BE8-B5F8-A82A63C73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057400"/>
            <a:ext cx="7391520" cy="4419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对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3276720"/>
            <a:ext cx="16002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819520"/>
            <a:ext cx="19814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事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4800600"/>
            <a:ext cx="213336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环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4419720"/>
            <a:ext cx="114300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法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1295280"/>
            <a:ext cx="24382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6T00:01:38Z</dcterms:created>
  <dc:creator>pcn</dc:creator>
  <dc:description/>
  <dc:language>en-US</dc:language>
  <cp:lastModifiedBy>pcn</cp:lastModifiedBy>
  <dcterms:modified xsi:type="dcterms:W3CDTF">2002-01-06T20:43:04Z</dcterms:modified>
  <cp:revision>2</cp:revision>
  <dc:subject/>
  <dc:title>对象</dc:title>
</cp:coreProperties>
</file>