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739B-4965-4F13-BB4E-CE8DFD697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C60E-2162-449F-AC28-ED2375B2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BC4E-7F83-4513-84A2-0E48FFED7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842E-CC80-4FAC-BFD1-F65CAE6B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12DE-93D4-4316-93B0-01A43C7A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DA42-F2CA-4AAA-943E-CC5CE04A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C06A-ADB1-4E76-AA25-8910187E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1412-D890-4A2F-93F6-33F070B3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BAAD-1539-4013-A549-67E12A4D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874D-16D0-4FAD-94CC-29F0B484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DB75-C376-437E-9547-B1415D61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43D8-2479-49EA-8D62-B23287F5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D1F5-7060-4818-8A55-36E5ACE85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第七章 面向对象程序设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1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类与对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2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设计类与对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3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事件与方法程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7.1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类与对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1.1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1.2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1.3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类与对象的关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1.4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基类与子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1.5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容器与控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1.6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属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7.1.1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对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象包括数据及用来处理这些数据的方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控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属性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数据环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事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方法程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控件是显示数据和执行交互式操作使用的工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属性是附加和作用于对象的一个内存变量。是对象中的数据。是用来描述对象特征的参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数据环境是对象运行所依据的数据信息范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事件是对象能够识别和响应的某些行为和操作。如：使用控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方法程序是对象在事件发生时进行的功能实现性操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控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交互式操作提供了控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用控件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编辑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本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标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复合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列表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按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容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常用控件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19320" y="1066680"/>
          <a:ext cx="685800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066680"/>
                    <a:ext cx="6858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常用属性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754280" y="838080"/>
          <a:ext cx="5634000" cy="543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4280" y="838080"/>
                    <a:ext cx="563400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066680" y="2057400"/>
            <a:ext cx="7391520" cy="4419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控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对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3276720"/>
            <a:ext cx="160020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2819520"/>
            <a:ext cx="19814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事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4800600"/>
            <a:ext cx="213336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环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4419720"/>
            <a:ext cx="1143000" cy="1371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方法程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1295280"/>
            <a:ext cx="24382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对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838080" y="1787400"/>
          <a:ext cx="7772400" cy="14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87400"/>
                    <a:ext cx="777240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对象的操作与引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绝对引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用地址从最外层容器直到目标对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相对引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用地址从参照物到目标对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7-7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参照关键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参照关键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参照对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该对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ISFOR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包含该对象的表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ISFOMSE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包含该对象的表单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包含该对象的父对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5:05Z</dcterms:created>
  <dc:creator>pcn</dc:creator>
  <dc:description/>
  <dc:language>en-US</dc:language>
  <cp:lastModifiedBy>user</cp:lastModifiedBy>
  <dcterms:modified xsi:type="dcterms:W3CDTF">2002-01-07T08:01:39Z</dcterms:modified>
  <cp:revision>3</cp:revision>
  <dc:subject/>
  <dc:title>第七章 面向对象程序设计</dc:title>
</cp:coreProperties>
</file>