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5.png" ContentType="image/pn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10.png" ContentType="image/png"/>
  <Override PartName="/ppt/media/image6.jpeg" ContentType="image/jpeg"/>
  <Override PartName="/ppt/media/image11.jpeg" ContentType="image/jpeg"/>
  <Override PartName="/ppt/media/image12.wmf" ContentType="image/x-wmf"/>
  <Override PartName="/ppt/media/image4.png" ContentType="image/png"/>
  <Override PartName="/ppt/media/image7.jpeg" ContentType="image/jpeg"/>
  <Override PartName="/ppt/media/image8.wmf" ContentType="image/x-wmf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41802-A5D2-413D-BF1F-1CC45C4EA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403C1-8A52-4338-8E46-D6651715C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525A2-C775-4D74-A0F1-FB4F18F25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90945-A416-4157-A15E-52C86576D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744D0-1FE2-4E98-A663-6A6F82719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EBA05-662A-4CC4-866E-9828EF8F3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D2AB2-A623-496C-837A-799A58843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F868B-3D36-442B-90C3-6EBD05ED2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527CF-213A-4136-BC79-CCB3F4C2A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83B04-FA4B-41DC-A6DF-908BE4CE7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1C2E0-C90D-484E-8395-268B2E87F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E8E48-0DD5-43A9-977E-678512912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876F3-4D37-428F-A2FE-E47125FCD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65868-CEA2-4182-8F86-0F5DCC4C2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D8482-F004-4AF6-99C1-E2876846C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792E2-EF51-422B-B1F8-0B1E250D9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87FF6-2845-4C74-A63C-613335944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4FAF0-8C52-4B2A-AD80-D3DB59EFC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FFDB1-65F8-4D5B-89DB-E5F0FCFC3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B4134-6C6F-4798-B19D-9AC6FAD87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B9E31-16C1-4F8F-8C53-E379CF97D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051AF-8EEE-43BD-8B7C-51515C447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3EF32-C5AC-4B7A-92CC-D093EBC17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F52E9-C46C-4C1D-80A0-EAF5449BA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28600" y="666720"/>
            <a:ext cx="8688240" cy="6191280"/>
            <a:chOff x="-228600" y="666720"/>
            <a:chExt cx="8688240" cy="6191280"/>
          </a:xfrm>
        </p:grpSpPr>
        <p:sp>
          <p:nvSpPr>
            <p:cNvPr id="1" name=""/>
            <p:cNvSpPr/>
            <p:nvPr/>
          </p:nvSpPr>
          <p:spPr>
            <a:xfrm>
              <a:off x="685800" y="666720"/>
              <a:ext cx="7773840" cy="5524560"/>
            </a:xfrm>
            <a:prstGeom prst="rect">
              <a:avLst/>
            </a:prstGeom>
            <a:gradFill rotWithShape="0">
              <a:gsLst>
                <a:gs pos="0">
                  <a:srgbClr val="ffefd1"/>
                </a:gs>
                <a:gs pos="100000">
                  <a:srgbClr val="d1c39f"/>
                </a:gs>
              </a:gsLst>
              <a:path path="rect">
                <a:fillToRect l="50000" t="50000" r="50000" b="50000"/>
              </a:path>
            </a:gradFill>
            <a:ln w="1015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" name="花1-2" descr=""/>
            <p:cNvPicPr/>
            <p:nvPr/>
          </p:nvPicPr>
          <p:blipFill>
            <a:blip r:embed="rId3"/>
            <a:stretch/>
          </p:blipFill>
          <p:spPr>
            <a:xfrm>
              <a:off x="228600" y="3733920"/>
              <a:ext cx="1249200" cy="149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" name="花2-2" descr=""/>
            <p:cNvPicPr/>
            <p:nvPr/>
          </p:nvPicPr>
          <p:blipFill>
            <a:blip r:embed="rId4"/>
            <a:stretch/>
          </p:blipFill>
          <p:spPr>
            <a:xfrm>
              <a:off x="-228600" y="4916520"/>
              <a:ext cx="3782880" cy="1941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30631-3DF3-4B23-AC30-87E8BEC1CC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666720"/>
            <a:ext cx="8459640" cy="6191280"/>
            <a:chOff x="0" y="666720"/>
            <a:chExt cx="8459640" cy="6191280"/>
          </a:xfrm>
        </p:grpSpPr>
        <p:sp>
          <p:nvSpPr>
            <p:cNvPr id="46" name=""/>
            <p:cNvSpPr/>
            <p:nvPr/>
          </p:nvSpPr>
          <p:spPr>
            <a:xfrm>
              <a:off x="685800" y="666720"/>
              <a:ext cx="7773840" cy="5524560"/>
            </a:xfrm>
            <a:prstGeom prst="rect">
              <a:avLst/>
            </a:prstGeom>
            <a:gradFill rotWithShape="0">
              <a:gsLst>
                <a:gs pos="0">
                  <a:srgbClr val="ffefd1"/>
                </a:gs>
                <a:gs pos="100000">
                  <a:srgbClr val="d1c39f"/>
                </a:gs>
              </a:gsLst>
              <a:path path="rect">
                <a:fillToRect l="50000" t="50000" r="50000" b="50000"/>
              </a:path>
            </a:gradFill>
            <a:ln w="1015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7" name="花1-1" descr=""/>
            <p:cNvPicPr/>
            <p:nvPr/>
          </p:nvPicPr>
          <p:blipFill>
            <a:blip r:embed="rId3"/>
            <a:stretch/>
          </p:blipFill>
          <p:spPr>
            <a:xfrm>
              <a:off x="0" y="3352680"/>
              <a:ext cx="1644480" cy="177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" name="花2-1" descr=""/>
            <p:cNvPicPr/>
            <p:nvPr/>
          </p:nvPicPr>
          <p:blipFill>
            <a:blip r:embed="rId4"/>
            <a:stretch/>
          </p:blipFill>
          <p:spPr>
            <a:xfrm>
              <a:off x="0" y="4386240"/>
              <a:ext cx="4170240" cy="2471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D3DEB-C6D8-42EC-8227-B79CA8C025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040" y="1142640"/>
            <a:ext cx="617220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66ff"/>
                </a:solidFill>
                <a:latin typeface="隶书"/>
                <a:ea typeface="隶书"/>
              </a:rPr>
              <a:t>您忠实的朋友——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75248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东兴集团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"/>
          <p:cNvGrpSpPr/>
          <p:nvPr/>
        </p:nvGrpSpPr>
        <p:grpSpPr>
          <a:xfrm>
            <a:off x="-228600" y="-152280"/>
            <a:ext cx="9372600" cy="7086600"/>
            <a:chOff x="-228600" y="-152280"/>
            <a:chExt cx="9372600" cy="7086600"/>
          </a:xfrm>
        </p:grpSpPr>
        <p:pic>
          <p:nvPicPr>
            <p:cNvPr id="93" name="HAWAII" descr=""/>
            <p:cNvPicPr/>
            <p:nvPr/>
          </p:nvPicPr>
          <p:blipFill>
            <a:blip r:embed="rId2"/>
            <a:stretch/>
          </p:blipFill>
          <p:spPr>
            <a:xfrm>
              <a:off x="-228600" y="-152280"/>
              <a:ext cx="9372600" cy="708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 txBox="1"/>
            <p:nvPr/>
          </p:nvSpPr>
          <p:spPr>
            <a:xfrm>
              <a:off x="5257800" y="4952880"/>
              <a:ext cx="3429000" cy="1067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urveUp">
                <a:avLst>
                  <a:gd name="adj" fmla="val 4035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1" strike="noStrike">
                  <a:ln w="12600">
                    <a:solidFill>
                      <a:srgbClr val="ffffcc"/>
                    </a:solidFill>
                    <a:miter/>
                  </a:ln>
                  <a:solidFill>
                    <a:srgbClr val="ff9900"/>
                  </a:solidFill>
                  <a:effectLst>
                    <a:outerShdw dist="40186" dir="1096358" blurRad="0" rotWithShape="0">
                      <a:srgbClr val="808080"/>
                    </a:outerShdw>
                  </a:effectLst>
                  <a:latin typeface="宋体"/>
                </a:rPr>
                <a:t>集团外景</a:t>
              </a:r>
              <a:endParaRPr b="0" lang="en-US" sz="2400" spc="1" strike="noStrike">
                <a:ln w="12600">
                  <a:solidFill>
                    <a:srgbClr val="ffffcc"/>
                  </a:solidFill>
                  <a:miter/>
                </a:ln>
                <a:solidFill>
                  <a:srgbClr val="ff9900"/>
                </a:solidFill>
                <a:effectLst>
                  <a:outerShdw dist="40186" dir="1096358" blurRad="0" rotWithShape="0">
                    <a:srgbClr val="808080"/>
                  </a:outerShdw>
                </a:effectLst>
                <a:latin typeface="宋体"/>
                <a:ea typeface="宋体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5" name=""/>
          <p:cNvGraphicFramePr/>
          <p:nvPr/>
        </p:nvGraphicFramePr>
        <p:xfrm>
          <a:off x="906480" y="2181240"/>
          <a:ext cx="7556400" cy="3865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06480" y="2181240"/>
                    <a:ext cx="7556400" cy="386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" name=""/>
          <p:cNvSpPr txBox="1"/>
          <p:nvPr/>
        </p:nvSpPr>
        <p:spPr>
          <a:xfrm>
            <a:off x="1066680" y="380880"/>
            <a:ext cx="7391520" cy="198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5324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1" strike="noStrike">
                <a:ln w="9360">
                  <a:solidFill>
                    <a:srgbClr val="ff00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latin typeface="华文琥珀"/>
              </a:rPr>
              <a:t>集团组织图</a:t>
            </a:r>
            <a:endParaRPr b="0" lang="en-US" sz="4400" spc="1" strike="noStrike">
              <a:ln w="9360">
                <a:solidFill>
                  <a:srgbClr val="ff0000"/>
                </a:solidFill>
                <a:miter/>
              </a:ln>
              <a:blipFill rotWithShape="0">
                <a:blip r:embed="rId5"/>
                <a:srcRect/>
                <a:stretch/>
              </a:blipFill>
              <a:latin typeface="华文琥珀"/>
              <a:ea typeface="华文琥珀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81080" y="914040"/>
            <a:ext cx="5562720" cy="114300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ff66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66ff"/>
                </a:solidFill>
                <a:latin typeface="Times New Roman"/>
                <a:ea typeface="华文行楷"/>
              </a:rPr>
              <a:t>公   司   业   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1752480" y="2438280"/>
          <a:ext cx="6172200" cy="2059200"/>
        </p:xfrm>
        <a:graphic>
          <a:graphicData uri="http://schemas.openxmlformats.org/drawingml/2006/table">
            <a:tbl>
              <a:tblPr/>
              <a:tblGrid>
                <a:gridCol w="1554120"/>
                <a:gridCol w="1113120"/>
                <a:gridCol w="1218960"/>
                <a:gridCol w="1143000"/>
                <a:gridCol w="1143000"/>
              </a:tblGrid>
              <a:tr h="473760">
                <a:tc>
                  <a:txBody>
                    <a:bodyPr lIns="90000" rIns="90000" tIns="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9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9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9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</a:tr>
              <a:tr h="804240">
                <a:tc>
                  <a:txBody>
                    <a:bodyPr lIns="90000" rIns="90000" tIns="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销售额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（亿元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11448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11448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79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11448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1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11448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80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781200">
                <a:tc>
                  <a:txBody>
                    <a:bodyPr lIns="90000" rIns="90000" tIns="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普及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（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%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11448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.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11448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.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11448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7.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11448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4.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SUMMER" descr=""/>
          <p:cNvPicPr/>
          <p:nvPr/>
        </p:nvPicPr>
        <p:blipFill>
          <a:blip r:embed="rId2">
            <a:lum contrast="-1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 txBox="1"/>
          <p:nvPr/>
        </p:nvSpPr>
        <p:spPr>
          <a:xfrm>
            <a:off x="1676520" y="533520"/>
            <a:ext cx="670536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top">
              <a:avLst>
                <a:gd name="adj" fmla="val 12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9900ff"/>
                  </a:solidFill>
                  <a:miter/>
                </a:ln>
                <a:gradFill rotWithShape="0">
                  <a:gsLst>
                    <a:gs pos="0">
                      <a:srgbClr val="ffff66"/>
                    </a:gs>
                    <a:gs pos="100000">
                      <a:srgbClr val="ff66cc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方正舒体"/>
              </a:rPr>
              <a:t>公司业绩图</a:t>
            </a:r>
            <a:endParaRPr b="1" lang="en-US" sz="2400" spc="1" strike="noStrike">
              <a:ln w="9360">
                <a:solidFill>
                  <a:srgbClr val="9900ff"/>
                </a:solidFill>
                <a:miter/>
              </a:ln>
              <a:gradFill rotWithShape="0">
                <a:gsLst>
                  <a:gs pos="0">
                    <a:srgbClr val="ffff66"/>
                  </a:gs>
                  <a:gs pos="100000">
                    <a:srgbClr val="ff66cc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方正舒体"/>
              <a:ea typeface="方正舒体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380880" y="2209680"/>
          <a:ext cx="6026400" cy="3899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2209680"/>
                    <a:ext cx="6026400" cy="389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4" name=""/>
          <p:cNvGraphicFramePr/>
          <p:nvPr/>
        </p:nvGraphicFramePr>
        <p:xfrm>
          <a:off x="914400" y="1992240"/>
          <a:ext cx="7391520" cy="4865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914400" y="1992240"/>
                    <a:ext cx="7391520" cy="486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2057400" y="990720"/>
            <a:ext cx="5029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cc3300"/>
                </a:solidFill>
                <a:latin typeface="Times New Roman"/>
                <a:ea typeface="华文隶书"/>
              </a:rPr>
              <a:t>董事长：蔡方严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838080" y="1981080"/>
            <a:ext cx="381024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蔡方严先生出生于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1953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年，毕业于清华大学企业管理系，后入哈佛大学深造成。具有多年从事企业管理经验，曾荣获”五一“劳动奖章和”全国著名企业家“等称号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VACATION" descr=""/>
          <p:cNvPicPr/>
          <p:nvPr/>
        </p:nvPicPr>
        <p:blipFill>
          <a:blip r:embed="rId2"/>
          <a:stretch/>
        </p:blipFill>
        <p:spPr>
          <a:xfrm>
            <a:off x="5175360" y="1981080"/>
            <a:ext cx="27543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66cc"/>
                </a:solidFill>
                <a:latin typeface="Times New Roman"/>
                <a:ea typeface="华文楷体"/>
              </a:rPr>
              <a:t>助理：汪景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956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800" spc="-1" strike="noStrike">
                <a:solidFill>
                  <a:srgbClr val="009900"/>
                </a:solidFill>
                <a:latin typeface="Times New Roman"/>
              </a:rPr>
              <a:t>汪景旎小姐，出生于</a:t>
            </a:r>
            <a:r>
              <a:rPr b="0" lang="zh-CN" sz="2800" spc="-1" strike="noStrike">
                <a:solidFill>
                  <a:srgbClr val="009900"/>
                </a:solidFill>
                <a:latin typeface="Times New Roman"/>
              </a:rPr>
              <a:t>1966</a:t>
            </a:r>
            <a:r>
              <a:rPr b="0" lang="zh-CN" sz="2800" spc="-1" strike="noStrike">
                <a:solidFill>
                  <a:srgbClr val="009900"/>
                </a:solidFill>
                <a:latin typeface="Times New Roman"/>
              </a:rPr>
              <a:t>年，毕业于西北工业大学工商管理专业，曾担任宏进集团副总经理，具有长期从事企业管理的经验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GEONS" descr=""/>
          <p:cNvPicPr/>
          <p:nvPr/>
        </p:nvPicPr>
        <p:blipFill>
          <a:blip r:embed="rId2"/>
          <a:srcRect l="32730" t="0" r="3635" b="0"/>
          <a:stretch/>
        </p:blipFill>
        <p:spPr>
          <a:xfrm>
            <a:off x="762120" y="2057400"/>
            <a:ext cx="38462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19T16:35:55Z</dcterms:created>
  <dc:creator>yxh</dc:creator>
  <dc:description/>
  <dc:language>en-US</dc:language>
  <cp:lastModifiedBy>yxh</cp:lastModifiedBy>
  <dcterms:modified xsi:type="dcterms:W3CDTF">2001-07-21T09:48:51Z</dcterms:modified>
  <cp:revision>5</cp:revision>
  <dc:subject/>
  <dc:title>您忠实的朋友——</dc:title>
</cp:coreProperties>
</file>