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7.jpeg" ContentType="image/jpeg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0505-A00A-4360-8047-432B46B89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8435-539D-44EF-9231-8B939F45E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8343-E4F3-4B79-9D2F-B1137F22B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EBF2-C281-46EA-A1FE-6C9C47C7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61BF-C834-4908-9252-19EA84644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CD86-4C52-4974-ACDA-34F88515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EBB4D-46BC-4607-B671-3D6BBA67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6E5AE-970B-4A0B-92A9-ABB3554E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78ED-3544-44CF-A2F7-1CD3CAA4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F1BB-67AD-43E9-90D4-45B61F0C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D083-68B5-446C-8148-F9D8A925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51B3-FBC6-4E0E-B714-4D8D22C4A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A83CE-5AAC-492C-96F6-6EAB97AB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A96DE-B3DF-4C2A-9060-3101A15F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0D87C-E3EA-4CE9-9003-1CAEF8BE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1C3B-41DF-45CF-9FC1-528D5C2A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C96D-2883-4A0F-A83A-A43259415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51D2-C7F3-412A-AF6A-9E1CDE3D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8EFC-11B5-4208-B9D1-A0337401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C34A-058C-47A0-9755-1693B23DE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90A3-693C-4F77-8F52-75F58D14E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79E2-1980-44AE-8A9C-CBA5EF8A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4B62-6121-47D7-A1A5-DE1D6428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3740-B189-4C1E-8665-A9D4740F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1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花1-2" descr="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花2-2" descr="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925C-6251-43B8-B246-3589F90BA9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46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花1-1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花2-1" descr="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ECDA-0AFA-4B3A-A8B5-C380C0332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617220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66ff"/>
                </a:solidFill>
                <a:latin typeface="隶书"/>
                <a:ea typeface="隶书"/>
              </a:rPr>
              <a:t>您忠实的朋友——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48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东兴集团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28600" y="-152280"/>
            <a:ext cx="9372600" cy="7086600"/>
            <a:chOff x="-228600" y="-152280"/>
            <a:chExt cx="9372600" cy="7086600"/>
          </a:xfrm>
        </p:grpSpPr>
        <p:pic>
          <p:nvPicPr>
            <p:cNvPr id="93" name="HAWAII" descr=""/>
            <p:cNvPicPr/>
            <p:nvPr/>
          </p:nvPicPr>
          <p:blipFill>
            <a:blip r:embed="rId2"/>
            <a:stretch/>
          </p:blipFill>
          <p:spPr>
            <a:xfrm>
              <a:off x="-228600" y="-152280"/>
              <a:ext cx="9372600" cy="708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 txBox="1"/>
            <p:nvPr/>
          </p:nvSpPr>
          <p:spPr>
            <a:xfrm>
              <a:off x="5257800" y="4952880"/>
              <a:ext cx="342900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03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12600">
                    <a:solidFill>
                      <a:srgbClr val="ffffcc"/>
                    </a:solidFill>
                    <a:miter/>
                  </a:ln>
                  <a:solidFill>
                    <a:srgbClr val="ff9900"/>
                  </a:solidFill>
                  <a:effectLst>
                    <a:outerShdw dist="40186" dir="1096358" blurRad="0" rotWithShape="0">
                      <a:srgbClr val="808080"/>
                    </a:outerShdw>
                  </a:effectLst>
                  <a:latin typeface="宋体"/>
                </a:rPr>
                <a:t>集团外景</a:t>
              </a:r>
              <a:endPara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906480" y="2181240"/>
          <a:ext cx="7556400" cy="386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6480" y="2181240"/>
                    <a:ext cx="7556400" cy="38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 txBox="1"/>
          <p:nvPr/>
        </p:nvSpPr>
        <p:spPr>
          <a:xfrm>
            <a:off x="1066680" y="380880"/>
            <a:ext cx="739152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华文琥珀"/>
              </a:rPr>
              <a:t>集团组织图</a:t>
            </a:r>
            <a:endParaRPr b="0" lang="en-US" sz="4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81080" y="914040"/>
            <a:ext cx="5562720" cy="114300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66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Times New Roman"/>
                <a:ea typeface="华文行楷"/>
              </a:rPr>
              <a:t>公   司   业   绩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52480" y="2438280"/>
          <a:ext cx="6172200" cy="2059200"/>
        </p:xfrm>
        <a:graphic>
          <a:graphicData uri="http://schemas.openxmlformats.org/drawingml/2006/table">
            <a:tbl>
              <a:tblPr/>
              <a:tblGrid>
                <a:gridCol w="1554120"/>
                <a:gridCol w="1113120"/>
                <a:gridCol w="1218960"/>
                <a:gridCol w="1143000"/>
                <a:gridCol w="1143000"/>
              </a:tblGrid>
              <a:tr h="47376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</a:tr>
              <a:tr h="80424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销售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亿元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1448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1448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9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1448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3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1448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  <a:tr h="781200">
                <a:tc>
                  <a:txBody>
                    <a:bodyPr lIns="90000" rIns="90000" tIns="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普及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1448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1448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1448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11448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.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SUMMER" descr="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1676520" y="533520"/>
            <a:ext cx="67053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9900ff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66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方正舒体"/>
              </a:rPr>
              <a:t>公司业绩图</a:t>
            </a:r>
            <a:endParaRPr b="1" lang="en-US" sz="2400" spc="1" strike="noStrike">
              <a:ln w="9360">
                <a:solidFill>
                  <a:srgbClr val="9900ff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66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方正舒体"/>
              <a:ea typeface="方正舒体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80880" y="2209680"/>
          <a:ext cx="6026400" cy="389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209680"/>
                    <a:ext cx="6026400" cy="38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914400" y="1992240"/>
          <a:ext cx="7391520" cy="486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1992240"/>
                    <a:ext cx="7391520" cy="48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57400" y="990720"/>
            <a:ext cx="5029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  <a:ea typeface="华文隶书"/>
              </a:rPr>
              <a:t>董事长：蔡方严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1981080"/>
            <a:ext cx="381024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蔡方严先生出生于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953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年，毕业于清华大学企业管理系，后入哈佛大学深造成。具有多年从事企业管理经验，曾荣获”五一“劳动奖章和”全国著名企业家“等称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VACATION" descr=""/>
          <p:cNvPicPr/>
          <p:nvPr/>
        </p:nvPicPr>
        <p:blipFill>
          <a:blip r:embed="rId2"/>
          <a:stretch/>
        </p:blipFill>
        <p:spPr>
          <a:xfrm>
            <a:off x="5175360" y="1981080"/>
            <a:ext cx="2754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cc"/>
                </a:solidFill>
                <a:latin typeface="Times New Roman"/>
                <a:ea typeface="华文楷体"/>
              </a:rPr>
              <a:t>助理：汪景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95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009900"/>
                </a:solidFill>
                <a:latin typeface="Times New Roman"/>
              </a:rPr>
              <a:t>汪景旎小姐，出生于</a:t>
            </a:r>
            <a:r>
              <a:rPr b="0" lang="zh-CN" sz="2800" spc="-1" strike="noStrike">
                <a:solidFill>
                  <a:srgbClr val="009900"/>
                </a:solidFill>
                <a:latin typeface="Times New Roman"/>
              </a:rPr>
              <a:t>1966</a:t>
            </a:r>
            <a:r>
              <a:rPr b="0" lang="zh-CN" sz="2800" spc="-1" strike="noStrike">
                <a:solidFill>
                  <a:srgbClr val="009900"/>
                </a:solidFill>
                <a:latin typeface="Times New Roman"/>
              </a:rPr>
              <a:t>年，毕业于西北工业大学工商管理专业，曾担任宏进集团副总经理，具有长期从事企业管理的经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GEONS" descr=""/>
          <p:cNvPicPr/>
          <p:nvPr/>
        </p:nvPicPr>
        <p:blipFill>
          <a:blip r:embed="rId2"/>
          <a:srcRect l="32730" t="0" r="3635" b="0"/>
          <a:stretch/>
        </p:blipFill>
        <p:spPr>
          <a:xfrm>
            <a:off x="762120" y="2057400"/>
            <a:ext cx="38462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9T16:35:55Z</dcterms:created>
  <dc:creator>yxh</dc:creator>
  <dc:description/>
  <dc:language>en-US</dc:language>
  <cp:lastModifiedBy>yxh</cp:lastModifiedBy>
  <dcterms:modified xsi:type="dcterms:W3CDTF">2001-07-21T09:48:51Z</dcterms:modified>
  <cp:revision>5</cp:revision>
  <dc:subject/>
  <dc:title>您忠实的朋友——</dc:title>
</cp:coreProperties>
</file>