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3CF55-3C40-44E8-A0FB-AEEAA0F1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D1215-B64D-4A3B-8E0A-3B93F8FE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C9691-E798-4162-A4DA-64485AC1F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71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9864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43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71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9864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87A4A-4D4C-431D-883C-0720D2116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299B0-ECA0-43FB-98EB-DA85D390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DACA2-94C7-416E-BD8D-7105FFA1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511D1-3AB6-48C9-9E1C-E5B3DE34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CD09F-0F00-41AA-8D44-788659FD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2FB1F-C64B-4455-BFFE-673D7291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77914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FAAB2-BB54-4548-8E96-5C68C894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F3326-A131-4429-8B3C-E3501CE3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A66AC-6848-49A5-B5B6-0A3BDF34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1A892-0E33-47C6-8F41-89C47D2E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64F0F-93F8-46CC-98CE-76F596BE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EC8A7-9B90-49A4-91FC-8D4D560D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BEB9D-64BC-4E31-AF23-281ACA1C3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771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9864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43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771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9864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B1A8A-9C78-4594-94F1-892E3F0A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F10F9-211E-4E83-96F7-DF61E7AA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93225-C667-47E7-AF5E-746A92D6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352A9-A272-4F0B-9955-437D8B61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77914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4767B-B3E2-4203-8E89-1F876FCC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BF33F-5EB5-4E6A-8BAC-3EE9D318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31CEB-EA8B-4F17-A543-DFC4736B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D729C-89B7-4EB2-9042-FED35DF2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28160" cy="6858000"/>
            <a:chOff x="0" y="0"/>
            <a:chExt cx="912816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04800" y="1409760"/>
              <a:ext cx="8523360" cy="76320"/>
              <a:chOff x="604800" y="1409760"/>
              <a:chExt cx="8523360" cy="76320"/>
            </a:xfrm>
          </p:grpSpPr>
          <p:sp>
            <p:nvSpPr>
              <p:cNvPr id="3" name=""/>
              <p:cNvSpPr/>
              <p:nvPr/>
            </p:nvSpPr>
            <p:spPr>
              <a:xfrm>
                <a:off x="604800" y="148608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04800" y="140976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Book Antiqua"/>
              </a:rPr>
              <a:t>Click to edit the title text format</a:t>
            </a: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80160" indent="-1828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645920" indent="-1828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645920" indent="-1828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645920" indent="-1828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6FB1-23B1-4298-AC83-F927261D8B6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9" name="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Book Antiqua"/>
              </a:rPr>
              <a:t>Click to edit the title text format</a:t>
            </a: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53F8-59C5-4EC9-9B16-7562CB247F4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79440" indent="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758880" algn="ctr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38320" algn="ctr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17760" algn="ctr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17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17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8305920" cy="213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  <a:ea typeface="黑体"/>
              </a:rPr>
              <a:t>单片微型计算机原理及接口技术</a:t>
            </a:r>
            <a:endParaRPr b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编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：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杨光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朱宏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副主编：邵雄凯  杨光祥  张  铮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13760" y="76320"/>
            <a:ext cx="3003120" cy="459720"/>
          </a:xfrm>
          <a:prstGeom prst="rect">
            <a:avLst/>
          </a:prstGeom>
          <a:noFill/>
          <a:ln cap="rnd" w="381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高等学校计算机基础课程系列教材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14480" y="6172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中国水利水电出版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248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黑体"/>
              </a:rPr>
              <a:t>第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Arial"/>
              </a:rPr>
              <a:t>9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黑体"/>
              </a:rPr>
              <a:t>章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Arial"/>
              </a:rPr>
              <a:t>  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Arial"/>
              </a:rPr>
              <a:t>MCS-51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黑体"/>
              </a:rPr>
              <a:t>与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Arial"/>
              </a:rPr>
              <a:t>D/A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黑体"/>
              </a:rPr>
              <a:t>及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Arial"/>
              </a:rPr>
              <a:t>A/D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黑体"/>
              </a:rPr>
              <a:t>转换器接口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Arial"/>
              </a:rPr>
              <a:t>	</a:t>
            </a:r>
            <a:endParaRPr b="1" lang="en-US" sz="32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5960" y="1790640"/>
            <a:ext cx="71755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9.1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9.2  D/A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转换器及其接口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9.3  A/D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转换器及其接口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黑体"/>
              </a:rPr>
              <a:t>第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黑体"/>
              </a:rPr>
              <a:t>章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黑体"/>
              </a:rPr>
              <a:t>系统应用实例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0.1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步进电机控制系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0.2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红外线感应自动门控制系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0.3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通用多点温度控制系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5345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Book Antiqua"/>
              </a:rPr>
              <a:t>THANK YOU VERY MUCH </a:t>
            </a:r>
            <a:r>
              <a:rPr b="1" lang="zh-CN" sz="3600" spc="-1" strike="noStrike">
                <a:solidFill>
                  <a:srgbClr val="cc6600"/>
                </a:solidFill>
                <a:latin typeface="Book Antiqua"/>
              </a:rPr>
              <a:t>！</a:t>
            </a: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欢迎您使用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单片微型计算机原理及接口技术 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endshow"/>
          </p:cNvPr>
          <p:cNvSpPr/>
          <p:nvPr/>
        </p:nvSpPr>
        <p:spPr>
          <a:xfrm>
            <a:off x="7315200" y="6268680"/>
            <a:ext cx="122220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99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Arial"/>
              </a:rPr>
              <a:t>第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黑体"/>
              </a:rPr>
              <a:t>章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黑体"/>
              </a:rPr>
              <a:t>单片微型计算机概述</a:t>
            </a: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.1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单片微型计算机发展概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.2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微计算机系统概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.3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单片机的特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.4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计算机中的数和编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94960" y="228240"/>
            <a:ext cx="8248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  <a:ea typeface="Arial"/>
              </a:rPr>
              <a:t>2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  <a:ea typeface="黑体"/>
              </a:rPr>
              <a:t>章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  <a:ea typeface="Arial"/>
              </a:rPr>
              <a:t>  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  <a:ea typeface="Arial"/>
              </a:rPr>
              <a:t>MCS-51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  <a:ea typeface="黑体"/>
              </a:rPr>
              <a:t>单片机的硬件结构</a:t>
            </a: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790640"/>
            <a:ext cx="73915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1  MCS-5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单片机的基本结构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2  MCS-5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单片机的引脚及片外总线结构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3  MCS-5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单片机的存储器配置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4  CPU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时序及辅助电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黑体"/>
              </a:rPr>
              <a:t>第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Arial"/>
              </a:rPr>
              <a:t>3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黑体"/>
              </a:rPr>
              <a:t>章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Arial"/>
              </a:rPr>
              <a:t>  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Arial"/>
              </a:rPr>
              <a:t>MCS-51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黑体"/>
              </a:rPr>
              <a:t>单片机指令系统</a:t>
            </a: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1  MCS-5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指令系统的分类、格式及一般说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2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寻址方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3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分类指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黑体"/>
              </a:rPr>
              <a:t>第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黑体"/>
              </a:rPr>
              <a:t>章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黑体"/>
              </a:rPr>
              <a:t>汇编语言程序设计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1790640"/>
            <a:ext cx="73915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.1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汇编语言基本概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.2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汇编语言程序设计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黑体"/>
              </a:rPr>
              <a:t>第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黑体"/>
              </a:rPr>
              <a:t>章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黑体"/>
              </a:rPr>
              <a:t>定时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黑体"/>
              </a:rPr>
              <a:t>计数器与中断系统</a:t>
            </a: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.1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定时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计数器结构特点及控制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.2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中断系统结构及管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.3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定时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计数器及中断系统综合应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90400" y="266400"/>
            <a:ext cx="817272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  <a:ea typeface="Arial"/>
              </a:rPr>
              <a:t>6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  <a:ea typeface="黑体"/>
              </a:rPr>
              <a:t>章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  <a:ea typeface="Arial"/>
              </a:rPr>
              <a:t>  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  <a:ea typeface="Arial"/>
              </a:rPr>
              <a:t>MCS-51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  <a:ea typeface="黑体"/>
              </a:rPr>
              <a:t>单片机系统扩展技术</a:t>
            </a: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6.1  MCS-5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单片机系统扩展的基本概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6.2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程序存储器扩展技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6.3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数据存储器扩展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6.4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输入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输出口扩展技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黑体"/>
              </a:rPr>
              <a:t>第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Arial"/>
              </a:rPr>
              <a:t>7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黑体"/>
              </a:rPr>
              <a:t>章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Arial"/>
              </a:rPr>
              <a:t>  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黑体"/>
              </a:rPr>
              <a:t>串行通信及其接口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Arial"/>
              </a:rPr>
              <a:t>	</a:t>
            </a: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1440" y="1790640"/>
            <a:ext cx="67262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7.1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7.2  MCS-5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串行口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7.3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串行口的控制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黑体"/>
              </a:rPr>
              <a:t>第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Arial"/>
              </a:rPr>
              <a:t>8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黑体"/>
              </a:rPr>
              <a:t>章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Arial"/>
              </a:rPr>
              <a:t>  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Arial"/>
              </a:rPr>
              <a:t>MCS-51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黑体"/>
              </a:rPr>
              <a:t>单片机的人机界面接口技术</a:t>
            </a:r>
            <a:endParaRPr b="1" lang="en-US" sz="32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8.1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键盘及其接口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8.2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显示器接口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8.3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打印机接口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8.4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拨码盘及语音接口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04:39Z</dcterms:created>
  <dc:creator>新人电脑</dc:creator>
  <dc:description/>
  <dc:language>en-US</dc:language>
  <cp:lastModifiedBy>新人电脑</cp:lastModifiedBy>
  <dcterms:modified xsi:type="dcterms:W3CDTF">2002-06-11T13:31:12Z</dcterms:modified>
  <cp:revision>3</cp:revision>
  <dc:subject/>
  <dc:title>第1章  单片微型计算机概述</dc:title>
</cp:coreProperties>
</file>