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31F79-1C6A-4369-8173-3D3307296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143000" y="396000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AE85E-CC29-4006-AD63-9FD6DBCA4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2568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0076D-B365-4DF5-9E16-DD7AE9065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7100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9864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14300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77100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9864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7FBFD-8F12-425B-8632-D8495A286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80A371-7D1D-424E-87B8-DAD472EC7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A8509-E594-46B4-B2E1-555268E70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D10379-01EC-4F18-BF82-3AB48C5F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B1972-0276-4389-ADDF-AEF41104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FB6F5E-2B01-4E09-9907-56BA1AFA7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77914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2AC48E-CEA1-4E8A-AA94-91C54C6A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91B2C7-D7CF-496C-A9E8-FA21D50C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3D34F-4F8D-468C-AF80-FC139864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2568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35ABCB-3C2A-40E3-BDA2-62B24641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73625D-DECF-4FC5-9517-CBEE98E9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143000" y="396000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C1D06D-8321-4796-A41B-EE2AA59D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2568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71BAA-1BFD-4860-903D-C8FAAB0A0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77100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98640" y="179064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14300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77100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98640" y="3960000"/>
            <a:ext cx="250236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1B5266-61AB-4CCF-867D-A0C25EF2E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2D65A-07F5-4888-9D74-F36E089F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B35E0-846D-4CEB-B870-05DBF2D19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42B9E-2961-49A5-95FD-AA292B8C5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77914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E3FDC-CB9C-4396-91B3-D25592A0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2983B-1E1D-4141-BEC4-23D1975E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25680" y="396000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F29A7-DA51-45CB-934A-A4DB6A4D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25680" y="1790640"/>
            <a:ext cx="37926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43000" y="3960000"/>
            <a:ext cx="7772400" cy="198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DFB83-758E-4FE2-A7FC-1412625B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28160" cy="6858000"/>
            <a:chOff x="0" y="0"/>
            <a:chExt cx="912816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04800" y="1409760"/>
              <a:ext cx="8523360" cy="76320"/>
              <a:chOff x="604800" y="1409760"/>
              <a:chExt cx="8523360" cy="76320"/>
            </a:xfrm>
          </p:grpSpPr>
          <p:sp>
            <p:nvSpPr>
              <p:cNvPr id="3" name=""/>
              <p:cNvSpPr/>
              <p:nvPr/>
            </p:nvSpPr>
            <p:spPr>
              <a:xfrm>
                <a:off x="604800" y="148608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04800" y="140976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Book Antiqua"/>
              </a:rPr>
              <a:t>Click to edit the title text format</a:t>
            </a:r>
            <a:endParaRPr b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0000"/>
          </a:bodyPr>
          <a:p>
            <a:pPr marL="274320" indent="-2743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280160" indent="-1828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645920" indent="-1828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645920" indent="-1828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645920" indent="-18288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3F31-D8AB-4E61-A0D2-A7BD17723BE2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9" name="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3366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Book Antiqua"/>
              </a:rPr>
              <a:t>Click to edit the title text format</a:t>
            </a:r>
            <a:endParaRPr b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4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5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B4AC-0443-4174-8515-20921086242B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79440" indent="0"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758880" algn="ctr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38320" algn="ctr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517760" algn="ctr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5177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5177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1752120"/>
            <a:ext cx="8305920" cy="213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  <a:ea typeface="黑体"/>
              </a:rPr>
              <a:t>单片微型计算机原理及接口技术</a:t>
            </a:r>
            <a:endParaRPr b="1" lang="en-US" sz="44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主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编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：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杨光友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朱宏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副主编：邵雄凯  杨光祥  张  铮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13760" y="76320"/>
            <a:ext cx="3003120" cy="459720"/>
          </a:xfrm>
          <a:prstGeom prst="rect">
            <a:avLst/>
          </a:prstGeom>
          <a:noFill/>
          <a:ln cap="rnd" w="381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高等学校计算机基础课程系列教材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14480" y="61722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中国水利水电出版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2486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Arial"/>
                <a:ea typeface="黑体"/>
              </a:rPr>
              <a:t>第</a:t>
            </a:r>
            <a:r>
              <a:rPr b="1" lang="zh-CN" sz="3200" spc="-1" strike="noStrike">
                <a:solidFill>
                  <a:srgbClr val="ffcc66"/>
                </a:solidFill>
                <a:latin typeface="Arial"/>
                <a:ea typeface="Arial"/>
              </a:rPr>
              <a:t>9</a:t>
            </a:r>
            <a:r>
              <a:rPr b="1" lang="zh-CN" sz="3200" spc="-1" strike="noStrike">
                <a:solidFill>
                  <a:srgbClr val="ffcc66"/>
                </a:solidFill>
                <a:latin typeface="Arial"/>
                <a:ea typeface="黑体"/>
              </a:rPr>
              <a:t>章</a:t>
            </a:r>
            <a:r>
              <a:rPr b="1" lang="zh-CN" sz="3200" spc="-1" strike="noStrike">
                <a:solidFill>
                  <a:srgbClr val="ffcc66"/>
                </a:solidFill>
                <a:latin typeface="Arial"/>
                <a:ea typeface="Arial"/>
              </a:rPr>
              <a:t>  </a:t>
            </a:r>
            <a:r>
              <a:rPr b="1" lang="zh-CN" sz="3200" spc="-1" strike="noStrike">
                <a:solidFill>
                  <a:srgbClr val="ffcc66"/>
                </a:solidFill>
                <a:latin typeface="Arial"/>
                <a:ea typeface="Arial"/>
              </a:rPr>
              <a:t>MCS-51</a:t>
            </a:r>
            <a:r>
              <a:rPr b="1" lang="zh-CN" sz="3200" spc="-1" strike="noStrike">
                <a:solidFill>
                  <a:srgbClr val="ffcc66"/>
                </a:solidFill>
                <a:latin typeface="Arial"/>
                <a:ea typeface="黑体"/>
              </a:rPr>
              <a:t>与</a:t>
            </a:r>
            <a:r>
              <a:rPr b="1" lang="zh-CN" sz="3200" spc="-1" strike="noStrike">
                <a:solidFill>
                  <a:srgbClr val="ffcc66"/>
                </a:solidFill>
                <a:latin typeface="Arial"/>
                <a:ea typeface="Arial"/>
              </a:rPr>
              <a:t>D/A</a:t>
            </a:r>
            <a:r>
              <a:rPr b="1" lang="zh-CN" sz="3200" spc="-1" strike="noStrike">
                <a:solidFill>
                  <a:srgbClr val="ffcc66"/>
                </a:solidFill>
                <a:latin typeface="Arial"/>
                <a:ea typeface="黑体"/>
              </a:rPr>
              <a:t>及</a:t>
            </a:r>
            <a:r>
              <a:rPr b="1" lang="zh-CN" sz="3200" spc="-1" strike="noStrike">
                <a:solidFill>
                  <a:srgbClr val="ffcc66"/>
                </a:solidFill>
                <a:latin typeface="Arial"/>
                <a:ea typeface="Arial"/>
              </a:rPr>
              <a:t>A/D</a:t>
            </a:r>
            <a:r>
              <a:rPr b="1" lang="zh-CN" sz="3200" spc="-1" strike="noStrike">
                <a:solidFill>
                  <a:srgbClr val="ffcc66"/>
                </a:solidFill>
                <a:latin typeface="Arial"/>
                <a:ea typeface="黑体"/>
              </a:rPr>
              <a:t>转换器接口</a:t>
            </a:r>
            <a:r>
              <a:rPr b="1" lang="zh-CN" sz="3200" spc="-1" strike="noStrike">
                <a:solidFill>
                  <a:srgbClr val="ffcc66"/>
                </a:solidFill>
                <a:latin typeface="Arial"/>
                <a:ea typeface="Arial"/>
              </a:rPr>
              <a:t>	</a:t>
            </a:r>
            <a:endParaRPr b="1" lang="en-US" sz="32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15960" y="1790640"/>
            <a:ext cx="717552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9.1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9.2  D/A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转换器及其接口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9.3  A/D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转换器及其接口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Arial"/>
                <a:ea typeface="黑体"/>
              </a:rPr>
              <a:t>第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  <a:ea typeface="黑体"/>
              </a:rPr>
              <a:t>章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  <a:ea typeface="黑体"/>
              </a:rPr>
              <a:t>系统应用实例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0.1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步进电机控制系统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0.2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红外线感应自动门控制系统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0.3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通用多点温度控制系统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53452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Book Antiqua"/>
              </a:rPr>
              <a:t>THANK YOU VERY MUCH </a:t>
            </a:r>
            <a:r>
              <a:rPr b="1" lang="zh-CN" sz="3600" spc="-1" strike="noStrike">
                <a:solidFill>
                  <a:srgbClr val="cc6600"/>
                </a:solidFill>
                <a:latin typeface="Book Antiqua"/>
              </a:rPr>
              <a:t>！</a:t>
            </a:r>
            <a:endParaRPr b="1" lang="en-US" sz="36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欢迎您使用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单片微型计算机原理及接口技术 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endshow"/>
          </p:cNvPr>
          <p:cNvSpPr/>
          <p:nvPr/>
        </p:nvSpPr>
        <p:spPr>
          <a:xfrm>
            <a:off x="7315200" y="6268680"/>
            <a:ext cx="1222200" cy="398880"/>
          </a:xfrm>
          <a:prstGeom prst="rect">
            <a:avLst/>
          </a:prstGeom>
          <a:noFill/>
          <a:ln w="22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>
                <a:solidFill>
                  <a:srgbClr val="cc3399"/>
                </a:solidFill>
                <a:latin typeface="Times New Roman"/>
                <a:ea typeface="隶书"/>
              </a:rPr>
              <a:t>结束放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Arial"/>
              </a:rPr>
              <a:t>第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  <a:ea typeface="黑体"/>
              </a:rPr>
              <a:t>章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  <a:ea typeface="黑体"/>
              </a:rPr>
              <a:t>单片微型计算机概述</a:t>
            </a:r>
            <a:endParaRPr b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.1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单片微型计算机发展概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.2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微计算机系统概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.3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单片机的特点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.4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计算机中的数和编码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94960" y="228240"/>
            <a:ext cx="82486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Arial"/>
                <a:ea typeface="黑体"/>
              </a:rPr>
              <a:t>第</a:t>
            </a:r>
            <a:r>
              <a:rPr b="1" lang="zh-CN" sz="3600" spc="-1" strike="noStrike">
                <a:solidFill>
                  <a:srgbClr val="ffcc66"/>
                </a:solidFill>
                <a:latin typeface="Arial"/>
                <a:ea typeface="Arial"/>
              </a:rPr>
              <a:t>2</a:t>
            </a:r>
            <a:r>
              <a:rPr b="1" lang="zh-CN" sz="3600" spc="-1" strike="noStrike">
                <a:solidFill>
                  <a:srgbClr val="ffcc66"/>
                </a:solidFill>
                <a:latin typeface="Arial"/>
                <a:ea typeface="黑体"/>
              </a:rPr>
              <a:t>章</a:t>
            </a:r>
            <a:r>
              <a:rPr b="1" lang="zh-CN" sz="3600" spc="-1" strike="noStrike">
                <a:solidFill>
                  <a:srgbClr val="ffcc66"/>
                </a:solidFill>
                <a:latin typeface="Arial"/>
                <a:ea typeface="Arial"/>
              </a:rPr>
              <a:t>  </a:t>
            </a:r>
            <a:r>
              <a:rPr b="1" lang="zh-CN" sz="3600" spc="-1" strike="noStrike">
                <a:solidFill>
                  <a:srgbClr val="ffcc66"/>
                </a:solidFill>
                <a:latin typeface="Arial"/>
                <a:ea typeface="Arial"/>
              </a:rPr>
              <a:t>MCS-51</a:t>
            </a:r>
            <a:r>
              <a:rPr b="1" lang="zh-CN" sz="3600" spc="-1" strike="noStrike">
                <a:solidFill>
                  <a:srgbClr val="ffcc66"/>
                </a:solidFill>
                <a:latin typeface="Arial"/>
                <a:ea typeface="黑体"/>
              </a:rPr>
              <a:t>单片机的硬件结构</a:t>
            </a:r>
            <a:endParaRPr b="1" lang="en-US" sz="36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790640"/>
            <a:ext cx="739152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.1  MCS-5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单片机的基本结构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.2  MCS-5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单片机的引脚及片外总线结构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.3  MCS-5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单片机的存储器配置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2.4  CPU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的时序及辅助电路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Arial"/>
                <a:ea typeface="黑体"/>
              </a:rPr>
              <a:t>第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  <a:ea typeface="Arial"/>
              </a:rPr>
              <a:t>3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  <a:ea typeface="黑体"/>
              </a:rPr>
              <a:t>章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  <a:ea typeface="Arial"/>
              </a:rPr>
              <a:t>  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  <a:ea typeface="Arial"/>
              </a:rPr>
              <a:t>MCS-51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  <a:ea typeface="黑体"/>
              </a:rPr>
              <a:t>单片机指令系统</a:t>
            </a:r>
            <a:endParaRPr b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61722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1  MCS-5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指令系统的分类、格式及一般说明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2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寻址方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3.3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分类指令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Arial"/>
                <a:ea typeface="黑体"/>
              </a:rPr>
              <a:t>第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  <a:ea typeface="黑体"/>
              </a:rPr>
              <a:t>章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  <a:ea typeface="黑体"/>
              </a:rPr>
              <a:t>汇编语言程序设计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880" y="1790640"/>
            <a:ext cx="739152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.1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汇编语言基本概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4.2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汇编语言程序设计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Arial"/>
                <a:ea typeface="黑体"/>
              </a:rPr>
              <a:t>第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  <a:ea typeface="黑体"/>
              </a:rPr>
              <a:t>章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  <a:ea typeface="黑体"/>
              </a:rPr>
              <a:t>定时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</a:rPr>
              <a:t>/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  <a:ea typeface="黑体"/>
              </a:rPr>
              <a:t>计数器与中断系统</a:t>
            </a:r>
            <a:endParaRPr b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5.1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定时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计数器结构特点及控制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5.2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中断系统结构及管理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5.3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定时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计数器及中断系统综合应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90400" y="266400"/>
            <a:ext cx="817272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Arial"/>
                <a:ea typeface="黑体"/>
              </a:rPr>
              <a:t>第</a:t>
            </a:r>
            <a:r>
              <a:rPr b="1" lang="zh-CN" sz="3600" spc="-1" strike="noStrike">
                <a:solidFill>
                  <a:srgbClr val="ffcc66"/>
                </a:solidFill>
                <a:latin typeface="Arial"/>
                <a:ea typeface="Arial"/>
              </a:rPr>
              <a:t>6</a:t>
            </a:r>
            <a:r>
              <a:rPr b="1" lang="zh-CN" sz="3600" spc="-1" strike="noStrike">
                <a:solidFill>
                  <a:srgbClr val="ffcc66"/>
                </a:solidFill>
                <a:latin typeface="Arial"/>
                <a:ea typeface="黑体"/>
              </a:rPr>
              <a:t>章</a:t>
            </a:r>
            <a:r>
              <a:rPr b="1" lang="zh-CN" sz="3600" spc="-1" strike="noStrike">
                <a:solidFill>
                  <a:srgbClr val="ffcc66"/>
                </a:solidFill>
                <a:latin typeface="Arial"/>
                <a:ea typeface="Arial"/>
              </a:rPr>
              <a:t>  </a:t>
            </a:r>
            <a:r>
              <a:rPr b="1" lang="zh-CN" sz="3600" spc="-1" strike="noStrike">
                <a:solidFill>
                  <a:srgbClr val="ffcc66"/>
                </a:solidFill>
                <a:latin typeface="Arial"/>
                <a:ea typeface="Arial"/>
              </a:rPr>
              <a:t>MCS-51</a:t>
            </a:r>
            <a:r>
              <a:rPr b="1" lang="zh-CN" sz="3600" spc="-1" strike="noStrike">
                <a:solidFill>
                  <a:srgbClr val="ffcc66"/>
                </a:solidFill>
                <a:latin typeface="Arial"/>
                <a:ea typeface="黑体"/>
              </a:rPr>
              <a:t>单片机系统扩展技术</a:t>
            </a:r>
            <a:endParaRPr b="1" lang="en-US" sz="36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6.1  MCS-5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单片机系统扩展的基本概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6.2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程序存储器扩展技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6.3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数据存储器扩展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6.4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输入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输出口扩展技术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779148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Arial"/>
                <a:ea typeface="黑体"/>
              </a:rPr>
              <a:t>第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  <a:ea typeface="Arial"/>
              </a:rPr>
              <a:t>7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  <a:ea typeface="黑体"/>
              </a:rPr>
              <a:t>章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  <a:ea typeface="Arial"/>
              </a:rPr>
              <a:t>  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  <a:ea typeface="黑体"/>
              </a:rPr>
              <a:t>串行通信及其接口</a:t>
            </a:r>
            <a:r>
              <a:rPr b="1" lang="zh-CN" sz="4000" spc="-1" strike="noStrike">
                <a:solidFill>
                  <a:srgbClr val="ffcc66"/>
                </a:solidFill>
                <a:latin typeface="Arial"/>
                <a:ea typeface="Arial"/>
              </a:rPr>
              <a:t>	</a:t>
            </a:r>
            <a:endParaRPr b="1" lang="en-US" sz="40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41440" y="1790640"/>
            <a:ext cx="672624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7.1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概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7.2  MCS-5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的串行口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7.3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串行口的控制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Arial"/>
                <a:ea typeface="黑体"/>
              </a:rPr>
              <a:t>第</a:t>
            </a:r>
            <a:r>
              <a:rPr b="1" lang="zh-CN" sz="3200" spc="-1" strike="noStrike">
                <a:solidFill>
                  <a:srgbClr val="ffcc66"/>
                </a:solidFill>
                <a:latin typeface="Arial"/>
                <a:ea typeface="Arial"/>
              </a:rPr>
              <a:t>8</a:t>
            </a:r>
            <a:r>
              <a:rPr b="1" lang="zh-CN" sz="3200" spc="-1" strike="noStrike">
                <a:solidFill>
                  <a:srgbClr val="ffcc66"/>
                </a:solidFill>
                <a:latin typeface="Arial"/>
                <a:ea typeface="黑体"/>
              </a:rPr>
              <a:t>章</a:t>
            </a:r>
            <a:r>
              <a:rPr b="1" lang="zh-CN" sz="3200" spc="-1" strike="noStrike">
                <a:solidFill>
                  <a:srgbClr val="ffcc66"/>
                </a:solidFill>
                <a:latin typeface="Arial"/>
                <a:ea typeface="Arial"/>
              </a:rPr>
              <a:t>  </a:t>
            </a:r>
            <a:r>
              <a:rPr b="1" lang="zh-CN" sz="3200" spc="-1" strike="noStrike">
                <a:solidFill>
                  <a:srgbClr val="ffcc66"/>
                </a:solidFill>
                <a:latin typeface="Arial"/>
                <a:ea typeface="Arial"/>
              </a:rPr>
              <a:t>MCS-51</a:t>
            </a:r>
            <a:r>
              <a:rPr b="1" lang="zh-CN" sz="3200" spc="-1" strike="noStrike">
                <a:solidFill>
                  <a:srgbClr val="ffcc66"/>
                </a:solidFill>
                <a:latin typeface="Arial"/>
                <a:ea typeface="黑体"/>
              </a:rPr>
              <a:t>单片机的人机界面接口技术</a:t>
            </a:r>
            <a:endParaRPr b="1" lang="en-US" sz="3200" spc="-1" strike="noStrike">
              <a:solidFill>
                <a:srgbClr val="ffcc66"/>
              </a:solidFill>
              <a:latin typeface="Book Antiqu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790640"/>
            <a:ext cx="7772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8.1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键盘及其接口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8.2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显示器接口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8.3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打印机接口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8.4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拨码盘及语音接口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07:04:39Z</dcterms:created>
  <dc:creator>新人电脑</dc:creator>
  <dc:description/>
  <dc:language>en-US</dc:language>
  <cp:lastModifiedBy>新人电脑</cp:lastModifiedBy>
  <dcterms:modified xsi:type="dcterms:W3CDTF">2002-06-11T13:31:12Z</dcterms:modified>
  <cp:revision>3</cp:revision>
  <dc:subject/>
  <dc:title>第1章  单片微型计算机概述</dc:title>
</cp:coreProperties>
</file>