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9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24520" y="2025720"/>
            <a:ext cx="46792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七章  网络多媒体应用设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4343400"/>
            <a:ext cx="243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8360" y="1438200"/>
            <a:ext cx="558144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语言使用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来指明文档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同内容。标签是区分文本各个组成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分界符，用来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档划分成不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逻辑部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结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如段落、标题和表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描述了文档的结构，它向浏览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提供该文档的格式化信息，以传送文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外观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06360" y="539640"/>
            <a:ext cx="30330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标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14680" y="1484280"/>
            <a:ext cx="558144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部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形式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　〈标签名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应内容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〈／标签名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的名字用尖括号〈 〉括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一般有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起始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结束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，分别放在它起作用的文档两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起始标签与结束标签非常相似，只是结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在“〈”号后面多了一个斜杠“／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84680" y="539640"/>
            <a:ext cx="31428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HTML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85720" y="1438200"/>
            <a:ext cx="6324480" cy="3506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文件就是普通的文本文件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以使用两种基本方法制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页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种是用文本编辑器，譬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操作环境下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Notebook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编辑文本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命令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另一种是采用可视化软件，譬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生成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命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01600" y="719280"/>
            <a:ext cx="3464280" cy="581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面是一份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的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3000" y="1619280"/>
            <a:ext cx="5139720" cy="46447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TITLE&gt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HTML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件的第一段正文写在这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..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HTML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件的第二段正文写在这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..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01240" y="2158920"/>
            <a:ext cx="333828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14160" y="2698920"/>
            <a:ext cx="6471000" cy="3506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以上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，经过浏览程序解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后，显示出来的效果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1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窗口只显示一段文字，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原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其它文字符号都不见了，这些没有显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出来的文字符号，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HTML&gt;\&lt;HEAD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等，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们的主要作用是告诉浏览器，如何适当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将文件内容格式显示排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9748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28520" y="539640"/>
            <a:ext cx="35820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. HTML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文件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9720" y="1438200"/>
            <a:ext cx="767988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任何一份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，都包含了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表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Header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本体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Body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主题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Title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素，分别以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HEAD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BODY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IT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来表示。同时也是为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有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于其它种类的文件， 另外再加上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HTM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加以强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09640" y="898560"/>
            <a:ext cx="767700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HTML&gt;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HTM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/HTM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置于整个文件的起始及结束处，表示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属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语言格式。其余标签都应该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于该标签里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9640" y="3057480"/>
            <a:ext cx="767700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HEAD&gt;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HEAD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/HEAD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明文件的表头段，主要说明本文内容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信息，是文章的开场白。所有在表头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内容都不会显现在浏览器窗口的本体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Client area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9640" y="898560"/>
            <a:ext cx="767700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BODY&gt;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BODY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/BODY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明文件的本体区段，位于表头段以下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地方，即是指经浏览器解读后显示在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本体段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Client area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内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52440" y="3057480"/>
            <a:ext cx="6994800" cy="1556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TITLE&gt;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ITLE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标明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内容的主题，让读者了解文件的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ITLE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里不允许有其它的标签存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16360" y="539640"/>
            <a:ext cx="330768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 HTML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链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55440" y="1619280"/>
            <a:ext cx="728676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使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nchor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a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来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立链接，它将文本或图形标识为指向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它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档、图形、小程序、多媒体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果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档中特定位置。在链接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中必须包含一个参考属性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href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束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/a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如下所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720" y="48578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&lt;a href=“URL”&gt;here's a link to another page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09560" y="898560"/>
            <a:ext cx="8080920" cy="4968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链接语法中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a&gt;&lt;/a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定义一个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链接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ere‘s a link to another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超链接对象。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href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指定了目标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UR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U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文档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上的地址，它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放在引号中。这个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UR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以是一个书签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网页或者站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链接语法中，不仅可以从网页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接到网页，而且还可以在一个网页内部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接。所以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，将链接分成两部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种是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准链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另一种是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页内链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4720" y="630360"/>
            <a:ext cx="1155960" cy="5814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40200" y="1550880"/>
            <a:ext cx="68130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文本标记语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基本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识，如标签、文件结构、超链接等，能够利用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知识制作简单页面；学会对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页面的复杂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使用图象、表和表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会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站点和网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会图片工具栏中工具按钮的使用；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布方法；掌握制作特殊效果的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页如创建网页间的过渡效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网页中插入视频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等高级元件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0" y="898560"/>
            <a:ext cx="549576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超链结文字可有三种不同的显示形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出现在文件中，这三种超链结显示形态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别有：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未链结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正在链结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已链结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每种形态的显示颜色可分别设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各自的意义和设置属性如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2.1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2920" y="4005360"/>
          <a:ext cx="7201080" cy="2319120"/>
        </p:xfrm>
        <a:graphic>
          <a:graphicData uri="http://schemas.openxmlformats.org/drawingml/2006/table">
            <a:tbl>
              <a:tblPr/>
              <a:tblGrid>
                <a:gridCol w="1657440"/>
                <a:gridCol w="4176720"/>
                <a:gridCol w="13669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链结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定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设置属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链结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使用者未曾单击过或链结不成功的形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正在链结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使用者在单击链结时未放开手的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链结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使用者已单击链结成功的形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V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907440" y="3417840"/>
            <a:ext cx="135108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22320" y="539640"/>
            <a:ext cx="572112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2.2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装饰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文档的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339360" y="2158920"/>
            <a:ext cx="271620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>
                  <a:alpha val="4000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像和图像映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2729880" y="3057480"/>
            <a:ext cx="393552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列表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2729880" y="3957480"/>
            <a:ext cx="393552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格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36240" y="501480"/>
            <a:ext cx="303336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图像和图像映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0840" y="1295280"/>
            <a:ext cx="491256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　图形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格式可分为两种，一种是点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；另一种是矢量图形。浏览器普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支持的图形格式有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GIF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JPEG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61960" y="3274920"/>
            <a:ext cx="637200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GIF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格式的图形的每个像素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值只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字节来表示。因此一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式的图形，最多只能包含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56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种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GIF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格式有两种，分别是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7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9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9a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式是原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7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增强格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交织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Interlaced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特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1258920"/>
            <a:ext cx="568980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JPEG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式图形有相当高的压缩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由于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JPEG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矢量图，故图形文件比一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点阵图形，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般我们看到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里的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形，多数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GIF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式，这是因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GIF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显示速度比较好。如果我们要选择高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质的显示画面，则可以选择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JPEG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图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68880" y="692280"/>
            <a:ext cx="6263280" cy="54558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插入图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中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IMG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用来插图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属性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SR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主要用途是指定图形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源的位置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img src=“URL”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属性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ALT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定图形对应的文字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述，其值为任意一串文字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由编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者来设置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LT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属性的设立主要针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非图形界面浏览器使用者。但是，这对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形界面浏览器也有帮助。每当这些浏览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关闭显示图形功能后，这一串文字就派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用场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98240" y="539640"/>
            <a:ext cx="660420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图文版面的排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文的基本排列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文对齐排列由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MG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的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ALIGN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性来设置，图与文的对齐排列原则是以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的基线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Baseline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为依据。其中排列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方式有以下几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4038480"/>
          <a:ext cx="7343640" cy="2285640"/>
        </p:xfrm>
        <a:graphic>
          <a:graphicData uri="http://schemas.openxmlformats.org/drawingml/2006/table">
            <a:tbl>
              <a:tblPr/>
              <a:tblGrid>
                <a:gridCol w="4057560"/>
                <a:gridCol w="32860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形顶端位置与文字基线对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IGN=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形中间位置与文字基线对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IGN=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形底端位置与文字基线对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IGN=bottom(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缺省值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形顶端位置与文字最高位置对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IGN=text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形顶端位置与行文字基线对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IGN=bas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976480" y="3505320"/>
            <a:ext cx="307008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2.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文对齐排列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78160" y="898560"/>
            <a:ext cx="684828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浮动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与文字除了有以上五种排列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之外，也有另外两种排列方式，分别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ALIGN=lef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ALIGN=righ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LIGN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righ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时，文字与图形分开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列，图形漂到文件的右边界；当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LIGN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变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lef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时，图形告左排列，并把图形底下的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往外挤出去，图形像漂至左边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93400" y="898560"/>
            <a:ext cx="6909120" cy="4480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配置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宽度设置  图形配置宽度的设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由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WIDTH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来完成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度设置  图形配置高度的设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由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HEIGHT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来实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例如：要插入的图形原来的尺寸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0×9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小。如果我们要显示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00×18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小的图，可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IDTH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属性分别设置成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如下所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720" y="557676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MG SRC=“www.gif” WIDTH=200 HEIGHT=18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51440" y="898560"/>
            <a:ext cx="4996440" cy="4968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图形映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映射也称为可单击图形，是指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个图形中包含多个链接。单击图形映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某个部分即可进入该部分所表示的链接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目前有两种图形映射类型，分别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服务器方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客户机方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两种图形映射的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别在于过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访问者的鼠标单击变成对另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档的链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哪里发生，发生在服务器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时为服务器方图形映射，发生在访问者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计算机上时为客户机方图形映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0680" y="1258920"/>
            <a:ext cx="499644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服务器方图形映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，受到单击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点坐标传输到服务器计算机中，由其确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这个单击所采取的动作，然后服务器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将住处发送回客户机上，再由客户机发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某个文档的请求。服务器计算机计算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确定客户机要做的工作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在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客户机方图形映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。图形映射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志及其属性见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20200" y="944640"/>
            <a:ext cx="668520" cy="581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673000" y="2328840"/>
            <a:ext cx="3893040" cy="520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1  Web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站点设计基本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032920" y="3228840"/>
            <a:ext cx="5173560" cy="520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2  HTML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1862280" y="4129200"/>
            <a:ext cx="5514840" cy="520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3  FrontPage 2000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1219320"/>
          <a:ext cx="8610480" cy="5181480"/>
        </p:xfrm>
        <a:graphic>
          <a:graphicData uri="http://schemas.openxmlformats.org/drawingml/2006/table">
            <a:tbl>
              <a:tblPr/>
              <a:tblGrid>
                <a:gridCol w="2971440"/>
                <a:gridCol w="5639040"/>
              </a:tblGrid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标志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属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用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USEMAP="…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命名要用的客户机方映射定义，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IMG&gt;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标志的属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IS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定图形使用服务器方图形映射，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&lt;IMG&gt;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标志的属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&lt;MAP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TML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文件中标识映射定义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NAME="…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映射定义块的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&lt;AREA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定义映射区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SHAPE="…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将映射区域的形体表示为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EC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IRCL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HREF="…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定映射区域的目标，单击该区链接这个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NOH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定单击区时不链接任何地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COORDS="x,y,x1,y1,x2,y2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标识区域的形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ALT="…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描述链接的替换文本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或弹出文本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922480" y="539640"/>
            <a:ext cx="343584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映射的标志及其属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19520" y="539640"/>
            <a:ext cx="17712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列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7640" y="1258920"/>
            <a:ext cx="573948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语言提供多种表结构的元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根据显示外观的不同可分为两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词汇表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Glossary List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规律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Regular List)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类规律性表又可分为两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一种是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有序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第二种是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无序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96120" y="898560"/>
            <a:ext cx="5301000" cy="4480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定义表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定义表属于词汇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它是由一系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和其定义叙述所组成的。一般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的每个项目都列在左边，而其定义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列在右边或下一行有缩排的段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定义表结构块，是则起始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D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结束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/D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围形成的，而每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则以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DT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标签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DD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定义叙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来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32200" y="1258920"/>
            <a:ext cx="708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D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DT&gt;WWW&lt;DD&gt;WWW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全球住处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(World wide web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缩写，也有人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W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由欧洲量子物理实验室所开发出来的一套“分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式超媒体数据库查询”的系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DT&gt;HyperText&lt;DD&gt;HyperTex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超文本。文件通过超文本，可链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到其它地方的数据文件，取得分散到各地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DL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002" descr=""/>
          <p:cNvPicPr/>
          <p:nvPr/>
        </p:nvPicPr>
        <p:blipFill>
          <a:blip r:embed="rId1"/>
          <a:stretch/>
        </p:blipFill>
        <p:spPr>
          <a:xfrm>
            <a:off x="1079640" y="3778200"/>
            <a:ext cx="7197480" cy="237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4080" y="539640"/>
            <a:ext cx="912240" cy="581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实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9920" y="898560"/>
            <a:ext cx="4996440" cy="4968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规律性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规律性表结构是一组序列段落，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个特殊记号、序数或空格为分项符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它的一般语法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列元素起始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列项目元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列项目元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....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....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列元素结束标签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13920" y="609480"/>
            <a:ext cx="476388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无序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典型的无序表的每一个项目前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都用一个实心小圆点作为分项符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无序表结构块，是由起始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U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束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/U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围形成的，而每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是以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LI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标签来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88880" y="3657600"/>
            <a:ext cx="651852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浏览器为无序表元素添加了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TYP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它的值分别是表的分项符号样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其值共有三种：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DIS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实心小圆点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CIRCL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虚心小方块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SQUAR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实心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方块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缺省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DISC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50120" y="1438200"/>
            <a:ext cx="204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理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访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理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080" y="539640"/>
            <a:ext cx="912240" cy="581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实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03" descr=""/>
          <p:cNvPicPr/>
          <p:nvPr/>
        </p:nvPicPr>
        <p:blipFill>
          <a:blip r:embed="rId1"/>
          <a:stretch/>
        </p:blipFill>
        <p:spPr>
          <a:xfrm>
            <a:off x="1079640" y="3417840"/>
            <a:ext cx="7197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31960" y="898560"/>
            <a:ext cx="5933880" cy="3018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序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序表的每个项目都有前后顺序之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数用数字来表示。有序表结构块，是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起始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O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结束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/OL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围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。而每一个项目是以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LI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标签来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19720" y="3957480"/>
            <a:ext cx="626328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浏览器为有序表添加了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TYP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属性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YP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属性可提供更多项目识别符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它总共提供了五种不同样式的分项符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分别如下所列。缺省值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YPE=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08880" y="3598920"/>
            <a:ext cx="677700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START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属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设置表项目的初始值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其值为分项符号样式列中第几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TART=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就表示由‘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‘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E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‘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e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‘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‘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开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5520" y="898560"/>
            <a:ext cx="817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OL TYPE=1&gt;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数字，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,2,3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OL TYPE=A&gt;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写字母，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,B,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OL TYPE=a&gt;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写字母，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,b,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OL TYPE=I&gt;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写罗马字母，如Ⅰ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Ⅱ,Ⅲ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OL TYPE=i&gt;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写罗马字母，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,ii,ii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15160" y="898560"/>
            <a:ext cx="420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H2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资源的步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H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O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用户浏览器中，输要访问资源的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浏览器把请示发送到正与之通信的服务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服务器把该请求转发一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所规定的服务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那个服务器查找资源并把它发回到用户服务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服务器把资源发送到用户浏览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O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3960" y="358920"/>
            <a:ext cx="1009440" cy="581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实例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004" descr=""/>
          <p:cNvPicPr/>
          <p:nvPr/>
        </p:nvPicPr>
        <p:blipFill>
          <a:blip r:embed="rId1"/>
          <a:stretch/>
        </p:blipFill>
        <p:spPr>
          <a:xfrm>
            <a:off x="1079640" y="3505320"/>
            <a:ext cx="7197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95080" y="539640"/>
            <a:ext cx="4423320" cy="678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1  Web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站点设计基本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0960" y="1752480"/>
            <a:ext cx="25696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什么是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200" y="2725560"/>
            <a:ext cx="753876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WW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orld Wide Web”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缩写，中文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“万维网”，是一个基于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全球互连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布、动态和跨平台的交互超文本信息系统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“超文本”方式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的数据连接在一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让用户能以非常简单的方式浏览世界各地的信息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19520" y="539640"/>
            <a:ext cx="17712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３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6960" y="1258920"/>
            <a:ext cx="6360840" cy="1556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格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语言中是以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TABL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示，其对应的标签为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TABLE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并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/TABLE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签来结束表格结构的有效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26120" y="898560"/>
            <a:ext cx="573948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基本表格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基本表格结构中，包含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项目表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TH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可表示表格项目的表头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资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TD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可表示资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并加上了表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题。表格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标题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以标签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CAPTION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示，并以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/CAPTION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束。表格标题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项目表头和资料构成了表格基本结构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要素。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&lt;TR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是表示表格的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98560" y="89856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able border&gt;&lt;caption&gt;Intern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用形态比较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ca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r&gt;&lt;th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用类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\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th&gt;&lt;th&gt;199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th&gt;&lt;th&gt;199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th&gt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h&gt;199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th&gt;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r&gt;&lt;th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月传输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br&gt;(Giga Byte)&lt;/th&gt;&lt;td&gt;5,159&lt;/td&gt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d&gt;10,294&lt;/td&gt;&lt;td&gt;19,119&lt;/td&gt;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r&gt;&lt;th&gt;FTP&lt;/th&gt;&lt;td&gt;2,412&lt;/td&gt;&lt;td&gt;4,243&lt;/td&gt;&lt;td&gt;5,784&lt;/td&gt;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&lt;tr&gt;&lt;th&gt;WWW&lt;/th&gt;&lt;td&gt;0.122&lt;/td&gt;&lt;td&gt;269&lt;/td&gt;&lt;td&gt;3,382&lt;td&gt;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&lt;/table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8560" y="3444840"/>
            <a:ext cx="5757840" cy="3260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4080" y="358920"/>
            <a:ext cx="912240" cy="5814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实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6240" y="179280"/>
            <a:ext cx="7105320" cy="64306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设置表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设置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有框线表格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able border&gt;...&lt;/tab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able border=1&gt;...&lt;/tab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设置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无框线表格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able&gt;...&lt;/tab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able border=0&gt;...&lt;/tab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设置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表格的大小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able width=n1 height=n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设置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表格行数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表示表格的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份表格的行数由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&lt;TR&gt;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个数来决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设置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表格列数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表格列数由一行中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括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H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D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元素个数来决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83280" y="898560"/>
            <a:ext cx="623124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实际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用内含图象元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MG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表元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制作出一页简单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omepag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此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的表格共分成三个块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omepag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显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效果如下图所示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79640" y="3778200"/>
            <a:ext cx="71974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8920" y="89856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html&gt;&lt;head&gt;&lt;title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物园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meta name="GENERATOR" content="Microsoft FrontPage 3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body&gt;&lt;table border="1" width="73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r&gt;&lt;td width="229"&gt;&lt;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&lt;a href="index.htm"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物园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a&gt;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&lt;a href="fingerpost.htm"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游园指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a&gt;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&lt;a href="story.htm"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物园里的故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a&gt;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li&gt;&lt;a href="friends.htm"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物大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a&gt;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ul&gt;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td width="265"&gt;&lt;img src="dsh02.gif" width="261" height="167" alt="dsh02.gif (16135 bytes)"&gt;&lt;/td&gt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&lt;td width="306"&gt;&lt;center&gt;&lt;b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独角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b&gt;&lt;/center&gt;&lt;br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独角犀是亚洲犀牛中最大的一种，主要在尼泊尔及邻近地区、现在数量已很少，是世界濒危物种，世界上只有少数国家展出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br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雌性独角犀现已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岁，在我园新犀牛馆展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&lt;/td&gt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&lt;/tr&gt;&lt;/table&gt;&lt;/body&gt;&lt;/html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85120" y="539640"/>
            <a:ext cx="5392800" cy="532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3c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7.3  FrontPage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182520" y="1798560"/>
            <a:ext cx="622692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3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开始使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377280" y="2698920"/>
            <a:ext cx="705564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3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设计站点网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296280" y="3598920"/>
            <a:ext cx="681192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3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使用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702360" y="4497480"/>
            <a:ext cx="803124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3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制作特殊效果的网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5" action="ppaction://hlinksldjump"/>
          </p:cNvPr>
          <p:cNvSpPr/>
          <p:nvPr/>
        </p:nvSpPr>
        <p:spPr>
          <a:xfrm>
            <a:off x="19800" y="5397480"/>
            <a:ext cx="57394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3.5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发布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04280" y="1349280"/>
            <a:ext cx="561168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3840" y="1978200"/>
            <a:ext cx="7834680" cy="4480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首先是一个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编辑工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以编辑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上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式保存的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文件，并可以利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mage Composer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Microsoft GIF Animato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编辑处理图像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动画，此外还可以在网页中插入各种插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括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JavaScrip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产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各种特殊效果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动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支持更加完善，无需任何插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就可以产生各种动画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36800" y="539640"/>
            <a:ext cx="725760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3.1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开始使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5760" y="1079640"/>
            <a:ext cx="7304760" cy="3506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一个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管理站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工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可以利用不同的方式查看各个网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之间的关系，调整站点的组织结构，使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站点的条理清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还是一个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出版工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利用它提供的网络发布工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以轻松完成站点的发布上传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528360" y="539640"/>
            <a:ext cx="195408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一次运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9400" y="1258920"/>
            <a:ext cx="7479360" cy="4968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安装完毕，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按下列步骤启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单击“开始”按钮，在“开始”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单击“程序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“程序”菜单中单击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打开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化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户界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用户界面有六种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同的形式，由所选择的视图方式而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44280" y="1143000"/>
            <a:ext cx="37890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什么是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7600" y="2158920"/>
            <a:ext cx="496260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WW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服务主要是以一个个的网页来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现，所谓网页也就是我们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浏览器上看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画面，而一般进入站点后所看到的第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页面通称为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Homepag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即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主页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主页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常用来作为一个站点中的目录或索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68560" y="358920"/>
            <a:ext cx="71118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网页”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最常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作界面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网页的创建、编辑、预览等基本操作都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此视图中进行的。该视图窗口底部有三个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签：“普通”、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“预览”，它们分别控制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页以普通方式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方式进行编辑或是预览网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效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7840" y="3417840"/>
            <a:ext cx="43178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26840" y="358920"/>
            <a:ext cx="59598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件夹”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文件夹”视图中，站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为一组文件和文件夹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夹”视图对于站点的作用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资源管理器对存储在硬盘上的文件的作用和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基本相同。在“文件夹”视图中可以通过拖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移动文件或文件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08" descr=""/>
          <p:cNvPicPr/>
          <p:nvPr/>
        </p:nvPicPr>
        <p:blipFill>
          <a:blip r:embed="rId1"/>
          <a:stretch/>
        </p:blipFill>
        <p:spPr>
          <a:xfrm>
            <a:off x="2338560" y="3238560"/>
            <a:ext cx="50385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2200" y="358920"/>
            <a:ext cx="604476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报表”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“报表”视图可以方便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前站点的文件内容、更新链接情况组件错误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有文件列表及变化情况等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需要得到有关站点文件的详细情况时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“报表”视图。下图显示了“报表”视图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站点总览”报表，若要显示其他内容可在“报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栏中的“报表”下拉列表中选择所需的报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17840" y="3598920"/>
            <a:ext cx="43178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03600" y="358920"/>
            <a:ext cx="604476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导航”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“导航”视图可方便地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站点的链接结构。如下图所示，主页位于顶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他的网页归入下面各层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该视图中可以很直观地浏览网站内网页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的链接关系，同时也可以通过鼠标将结构图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网页拖到新位置来改变链接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58920" y="3057480"/>
            <a:ext cx="503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08640" y="358920"/>
            <a:ext cx="58316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超链接”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链接”视图将当前站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为链接文件的一个网络，它们表示了站点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个网页之间的相互链接关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见下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链接”视图就像一个地图，表明站点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超链接路径。显示来自和指向着眼点点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一页的超链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58920" y="3057480"/>
            <a:ext cx="503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11800" y="358920"/>
            <a:ext cx="583164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任务”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-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务”视图主要用来创建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管理任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视图中列出了当前站点中的“任务”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前站点中尚未完成的项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8560" y="2338560"/>
            <a:ext cx="57578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74600" y="539640"/>
            <a:ext cx="374688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３．使用模板迅速创建网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1320" y="1438200"/>
            <a:ext cx="459396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启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后，就可以在其中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新站点，或者打开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存在的站点。如果要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立一个新站点，在“文件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的“新建”子菜单中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站点”命令，打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新建”对话框，如右图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857840" y="1438200"/>
            <a:ext cx="3598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20600" y="539640"/>
            <a:ext cx="4946760" cy="10688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话框中提供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种建立新站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方法，如下图所示 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38200" y="1798560"/>
            <a:ext cx="6478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04640" y="539640"/>
            <a:ext cx="35820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站点中应用主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35840" y="1619280"/>
            <a:ext cx="4326120" cy="3506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为一个站点发布者，一个最重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任务就是制作站点的图形外观。它由以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几方面决定。当然也还包括其他因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本和超链接的颜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背景图形的颜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应用的字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形和导航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38200" y="3057480"/>
            <a:ext cx="6478560" cy="3443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05920" y="719280"/>
            <a:ext cx="714168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，在“格式”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选择“主题”，即可对主题进行选择。在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题对话框中，可以在应用主题之前对主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效果进行预览，如下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38880" y="1258920"/>
            <a:ext cx="369144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３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站点就是网页的集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320" y="2158920"/>
            <a:ext cx="573948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站点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就是一群相关网页的集合。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就是说，设计者制作了几个网页，并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经过组织规划，让网页彼此相连，然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让连上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nternet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人都能看到，这样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完整结构就称为“站点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13160" y="539640"/>
            <a:ext cx="7641360" cy="752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3.2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FrontPage2000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设计站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2175120" y="1619280"/>
            <a:ext cx="466704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建站点网页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2662560" y="2338560"/>
            <a:ext cx="369180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网页中添加共享边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2296800" y="3057480"/>
            <a:ext cx="442332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为网页选择背景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2418840" y="3778200"/>
            <a:ext cx="417924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网页中添加文本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5" action="ppaction://hlinksldjump"/>
          </p:cNvPr>
          <p:cNvSpPr/>
          <p:nvPr/>
        </p:nvSpPr>
        <p:spPr>
          <a:xfrm>
            <a:off x="2662560" y="4497480"/>
            <a:ext cx="369180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更改文本的字体和颜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2540880" y="5218200"/>
            <a:ext cx="393552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建项目符号和编号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7" action="ppaction://hlinksldjump"/>
          </p:cNvPr>
          <p:cNvSpPr/>
          <p:nvPr/>
        </p:nvSpPr>
        <p:spPr>
          <a:xfrm>
            <a:off x="1931400" y="5937120"/>
            <a:ext cx="515484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建表格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305160" y="539640"/>
            <a:ext cx="275904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创建站点网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97680" y="1258920"/>
            <a:ext cx="6374160" cy="54558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编辑网页之前，先要转换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网页视图模式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每一个站点网页都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模板开始。如果想从零开始，可以选择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通网页模板。单击“文件”、“新建”、“网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是常用工具栏中的新建网页按钮，就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以建立一个新网页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模板选择完毕，网页会立即出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网页视图中，这时就可以对其进行编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果站点中没有应用主题，新网页将完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空白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07640" y="539640"/>
            <a:ext cx="424008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网页中添加共享边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80240" y="1079640"/>
            <a:ext cx="689796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，可以创建站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所有网页通用的边框区域。单击“格式”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共享边框”，就可以看到目前正在使用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么边框。 如下图所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58920" y="3057480"/>
            <a:ext cx="48578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72960" y="539640"/>
            <a:ext cx="341712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３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为网页选择背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1079640"/>
            <a:ext cx="5057640" cy="2043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择背景是装饰站点的一个好办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背景可以是某种颜色，也可以是图形。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择“格式”，“背景”弹出网页属性对话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择“背景”选项卡，如下图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38560" y="3057480"/>
            <a:ext cx="4678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25360" y="539640"/>
            <a:ext cx="35820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网页中添加文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0680" y="1079640"/>
            <a:ext cx="6897960" cy="54558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网页视图，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其中键入文本。无论是共享边框还是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页主体，文字都会出现在光标所在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共享边框在网页中以点划线指明，但是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浏览器中这些线将不会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输入文字时，若一行长度超过屏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显示范围，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会自动换行。若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输入的是一篇很长的文章，就需要对文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做适当的段落排列以增加页面的可读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我们输入文字内容时，单击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Enter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键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区分段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47880" y="539640"/>
            <a:ext cx="413064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更改文本的字体和颜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5440" y="1438200"/>
            <a:ext cx="325332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一个应用了主题的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页中添加文本，文本会自动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主题中正文的字体和颜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没有应用主题，那么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会使用浏览器加载网页时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的默认字体和颜色。如果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更改文本的字体和颜色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选中文本，选择单击“格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体”打开字体对话框。如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在这里可以选择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体和颜色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18200" y="1978200"/>
            <a:ext cx="35989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37520" y="539640"/>
            <a:ext cx="385632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创建项目符号和编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1258920"/>
            <a:ext cx="7099560" cy="4968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网页中的文本一般以段落为单位显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并且段落之间没有标志和换行符。另一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组织网页文本的方式是将其转换为列表，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是相关的项目群，每个项目可以是一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本或是文本与其他网页元素的结合。网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可以显示以下两种列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编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每个项目前都有一个单独的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项目符号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项目前为一个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单击“项目符号”按钮或者“编号”按钮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以将文本转为列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301560" y="539640"/>
            <a:ext cx="22104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创建表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3080" y="1438200"/>
            <a:ext cx="7092000" cy="4968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创建表格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用按钮插入表格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用菜单命令插入表格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手动绘制表格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格可以控制网页信息的排列。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将网页的不同元素甚至是另一表格放在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格中，这样创建起来的网页布局可以在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何浏览览器、显示器和电脑中表现出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外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25320" y="539640"/>
            <a:ext cx="7915680" cy="752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3.3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FrontPage2000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中使用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01560" y="1438200"/>
            <a:ext cx="22104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导入图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48440" y="2158920"/>
            <a:ext cx="6507360" cy="3506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只有文字的网页会显得单调，达不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所需的感官效果。因此在制作网页时，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在页面加上适当的图片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导入当前站点中的图片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导入剪贴画库中的图片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计算机中选择图片文件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浏览器来选择网页和文件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46800" y="358920"/>
            <a:ext cx="57553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导入当前站点中的图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要插入的图片已经存在于当前的站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可以在当前站点中直接导入图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　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插入点设置在要插入图片的位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　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图片”子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自文件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图片”对话框，当前站点中的所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片都会显示在文件列表中，如下图所示，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需的图片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698920" y="4317840"/>
            <a:ext cx="3598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46400" y="1258920"/>
            <a:ext cx="297792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４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站点与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UR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6720" y="2158920"/>
            <a:ext cx="787320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>
                  <a:alpha val="8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UR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英文全称是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Uniform Resou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Locator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中文名称为“统一资源定位器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简单地讲就是网络上的一个站点、网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完整地址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UR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实际上就起到站点通信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址的作用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46720" y="358920"/>
            <a:ext cx="544752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导入剪贴画库中的图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插入点设置在要插入图片的位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图片”子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剪贴画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剪贴画库”对话框，选中“图片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卡，再选择所需的图片类别，例如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作人员”类别，如下图所示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出“办公室”类别中的所有图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要导入的图片，在出现的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剪辑”按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037120" y="4317840"/>
            <a:ext cx="287964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76240" y="358920"/>
            <a:ext cx="5661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在计算机中选择图片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插入点设置在要插入图片的位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图片”子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自文件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图片”对话框，单击“从计算机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一个文件”按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选择文件”对话框，在“搜索”框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图片所在的文件夹，如下图所示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文件列表中选择所需的图片文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确定”按钮。选择的图片出现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点位置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97480" y="4678200"/>
            <a:ext cx="3238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06360" y="539640"/>
            <a:ext cx="6883200" cy="6066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使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Web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浏览器来选择网页和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有许多专门搜集图片的站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直接连接到这些站点去寻找图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图片”子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自文件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图片”对话框，单击“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来选择网页或文件”按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预设的浏览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常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nternet Explor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Netscap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浏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中，用鼠标将网页上的图片直接拖拽到所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置即可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选定的图片上单击鼠标右键，在快捷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中选择“图片属性”命令，在“图片属性”对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给图片添加超链接和替代文本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38280" y="539640"/>
            <a:ext cx="259416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编辑图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8880" y="1438200"/>
            <a:ext cx="346644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调整图片大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要调整的图片上单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下鼠标选定图片，用鼠标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住图片四周的任一控点进行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拽，到达适当大小后，放开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也可在选定的图片上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击鼠标右键，在快捷菜单中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图片属性”命令，选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外观”选项卡，在“大小”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调整图片的大小参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7480" y="2158920"/>
            <a:ext cx="3238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56480" y="539640"/>
            <a:ext cx="4935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移动图片的位置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先选定图片，再将图片拖拽到想要放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位置，放开鼠标即可。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片是被看作一般的字体元素，无法自由地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在页面上的任一个位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能放在文字之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以当页面是完全空白且没有输入任何文字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片就无法进行移动的操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2960" y="3598920"/>
            <a:ext cx="341712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３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使用图片工具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9240" y="4317840"/>
            <a:ext cx="47221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选定图片后，在编辑区的下方就会出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图片”工具栏，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19280" y="5218200"/>
            <a:ext cx="64785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42200" y="539640"/>
            <a:ext cx="54468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网页中加入动态的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文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40200" y="1438200"/>
            <a:ext cx="6813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定图片后在网页中加入动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种动态效果，这些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是由一些软件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来的，其中不仅仅包括图片，还含有关于图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顺序、每幅图片的显示时间、两幅图片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间隔以及循环频率方面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这些文件的扩展名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他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一致，也是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gif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这些文件同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导入，添加到网页中以及重新调整大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却不能对其进行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辑。这是因为，对动态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GI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所做的编辑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会使它还原为单独的图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70520" y="539640"/>
            <a:ext cx="8190000" cy="752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3.4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FrontPage200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制作特殊效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70920" y="1619280"/>
            <a:ext cx="385632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创建网页间的过渡效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4880" y="2517840"/>
            <a:ext cx="6897600" cy="35060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，最简单的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殊效果之一就是在网页间加入过渡效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选择“格式”、“网页过渡”就可以添加或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除网页中的过渡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以在下列四种情况中加入过渡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果：进入网页、离开网页、进入站点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离开站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82240" y="539640"/>
            <a:ext cx="310932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在网页中插入视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8160" y="1258920"/>
            <a:ext cx="572796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插入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若要在网页中插入视频，按下列步骤操作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插入点设置在要插入视频的位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图片”子菜单中选择“视频”命令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视频”对话框，若对话框中没有视频文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单击 “从计算机上选择一个文件”按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选择文件”对话框中选择所需的视频文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确定”按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调整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单击视频图像就会选择该视频图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此时视频图像的周围会出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控点，使用鼠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动控点可以改变视频图像的大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58480" y="358920"/>
            <a:ext cx="3740760" cy="6066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设置视频播放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鼠标右键单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图像，从快捷菜单中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“图片属性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图片属性”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话框，选中“视频”选项卡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源”选项中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的是视频文件的名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要插入另外一个视频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浏览”按钮，在出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”对话框中选择一个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文件。若选中“在浏览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显示控件”复选框，就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浏览器中显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V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控制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948200" y="1978200"/>
            <a:ext cx="359892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47640" y="539640"/>
            <a:ext cx="5661000" cy="6066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插入的视频文件比较大，选择此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就可以自己控制视频的播放过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循环次数”选项栏中可以输入视频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重复播放的次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选中“不限次数”复选框，打开网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后视频文件会一直重复播放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循环延迟”选项栏中输入的数值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两次播放之间的停顿时间，这个值的单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毫秒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”区域中的两个选项控制视频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播放的条件，如果希望进入网页时就自动播放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文件，需选中“打开文件时”复选框；如果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用鼠标单击视频图像时开始播放，应选中“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鼠标悬停于其上时”复选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64160" y="973080"/>
            <a:ext cx="3447720" cy="483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2  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语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2113920" y="2544840"/>
            <a:ext cx="496008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2.1  HTML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基本知识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2242080" y="3443400"/>
            <a:ext cx="47037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2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装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档的界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58920" y="5397480"/>
            <a:ext cx="449892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24040" y="539640"/>
            <a:ext cx="418464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３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制作动态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效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360" y="1258920"/>
            <a:ext cx="598428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取要制作动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的文字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格式”菜单中选择“动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”命令，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”工具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开启”选项栏的下拉箭头，在下拉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选择一个事件，如单击、双击、鼠标悬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网页加载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在“开启”选项中选择“单击”事件后，“应用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被激活，单击“应用”选项栏的下拉箭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下拉列表中选择应用效果，如选择可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字有飞出效果的“飞出”选项，如下图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27280" y="898560"/>
            <a:ext cx="58132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在“应用”选项中选择了效果后，“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”选项被激活，单击“选择设置”选项栏的下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箭头，在下拉列表中选择一种动态效果，如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左下部”选项，使文字向左下方移动。设置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的文字显示在蓝色的边框内。单击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底部的“预览”标签，切换到“预览”视图，用鼠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具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的文字，此文字就会向左下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移动，直到在网页中消失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对文本的动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不满意，单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”工具栏上的“删除效果”按钮，可以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果删除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85280" y="539640"/>
            <a:ext cx="286848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４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插入高级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0" y="1438200"/>
            <a:ext cx="6568200" cy="2531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插入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高级”子菜单中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命令，就会出现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记”对话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对话框中可以直接加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，如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所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438200" y="3957480"/>
            <a:ext cx="64785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8640" y="719280"/>
            <a:ext cx="83494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插入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程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种程序语言，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则是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开发出来的一种特殊程序。只要浏览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浏览器支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，就可直接在网页中加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并执行。下载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最佳站点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Sun Microsystem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公司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主页，它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R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tp://java.sun.com/applesInterne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插入点设置在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位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高级”子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程序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程序属性”对话框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程序源”文本栏中输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名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时要注意大小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71240" y="898560"/>
            <a:ext cx="436284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含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程序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UR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栏中输入站点名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)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浏览器不支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的消息”文本栏中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输入一些文字替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布局”区域中可以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在网页中的位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大小”区域中可以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范围大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确定”按钮，网页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了一个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857840" y="1619280"/>
            <a:ext cx="39592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74520" y="358920"/>
            <a:ext cx="7282440" cy="6066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插入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控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是一些具有特定功能的软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网页中加入一些不同功能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，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播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v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文件、显示试算表内容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里面提供了很多现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。如果想知盗更多一些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相关功能，可以访问站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tp://activex. micro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插入点设置在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“插入”菜单的“高级”子菜单中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”对话框，在“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表”框中选择所需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974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92200" y="358920"/>
            <a:ext cx="6197400" cy="6066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确定”按钮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ctiveX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件出现在网页中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若要设置此控件关联的文件，用鼠标双击网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控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选项”对话框，选中“参数”选项卡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属性名称”列表中选择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ilename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然后单击“修改”按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编辑对象参数”对话框，在“值”区域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“网页”选项，然后单击“浏览”按钮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文件”对话框中选择所需的视频文件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确定”按钮，返回到“选项”对话框，视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的路径及文件名出现在“值”列表中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确定”按钮。单击窗口底部的“预览”标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切换到“预览”视图就会看到控件播放的视频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93920" y="539640"/>
            <a:ext cx="6708960" cy="752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3.5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发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17320" y="1619280"/>
            <a:ext cx="303336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发布站点的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080" y="2338560"/>
            <a:ext cx="8507520" cy="39934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我们精心建立了自己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站点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就可以向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ntrane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上发布自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成果，以实现信息共享。不过站点发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应该具备下面几个条件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Internet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连接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网页存放空间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否支持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rontPage Server Extensio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发布软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407040" y="539640"/>
            <a:ext cx="199980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布站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5600" y="1438200"/>
            <a:ext cx="689832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打开想要发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站点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“常用”工具栏中单击“发布站点”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者从“文件”菜单中选择“发布站点”命令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发布站点”对话框，在“指定发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站点的位置”文本框中输入要发布站点的位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下图所示。如果没有站点建立提供商，可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PP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启动浏览器并打开微软提供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地址，凡是在这里登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S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都可以完全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各种扩展工具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09240" y="539640"/>
            <a:ext cx="495360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7.2.1  HTML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406960" y="2158920"/>
            <a:ext cx="437796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>
                  <a:alpha val="4000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 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签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2750040" y="3057480"/>
            <a:ext cx="369180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>
                  <a:alpha val="4000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 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2993760" y="3957480"/>
            <a:ext cx="320400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>
                  <a:alpha val="4000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 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件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" action="ppaction://hlinksldjump"/>
          </p:cNvPr>
          <p:cNvSpPr/>
          <p:nvPr/>
        </p:nvSpPr>
        <p:spPr>
          <a:xfrm>
            <a:off x="2871720" y="4857840"/>
            <a:ext cx="3448080" cy="581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>
                  <a:alpha val="4000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4. HTML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超链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97480" cy="289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78360" y="3598920"/>
            <a:ext cx="544752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“选项”按钮，可以选择发布所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如下图所示，如果是第一次发布这个站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使用默认选项“只发布更改过的网页”，当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次发布同一站点时，将只发送更改过的网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样可以节省上网更新时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15600" y="3417840"/>
            <a:ext cx="6087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好发布地址，单击“发布”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检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WW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服务器的状态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)FrontPag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服务器连接成功后，就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现“要求提供用户名和密码”对话框，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用户名和密码，这些内容都是你申请站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IS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给你的信息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完毕后，单击“确定”按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17840" y="539640"/>
            <a:ext cx="4317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64200" y="1258920"/>
            <a:ext cx="79650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介绍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，超文本标记语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Hyperlink Text Markup Language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种描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档结构的语言，使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，可以完成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单的网页的制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ffic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的新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员，它是目前使用最为广泛的所见即所得的网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软件。本章着重介绍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200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方法，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节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FrontPag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概述；编辑网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导入及处理图片；制作特殊效果的网页；站点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管理与网页的发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4472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2:52Z</dcterms:created>
  <dc:creator>superbrain</dc:creator>
  <dc:description/>
  <dc:language>en-US</dc:language>
  <cp:lastModifiedBy>superbrain</cp:lastModifiedBy>
  <dcterms:modified xsi:type="dcterms:W3CDTF">2001-10-17T04:38:17Z</dcterms:modified>
  <cp:revision>123</cp:revision>
  <dc:subject/>
  <dc:title>PowerPoint 演示文稿</dc:title>
</cp:coreProperties>
</file>