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tmp/home/.config/libreoffice/4/user/gallery/Drip01.WAV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44440" y="1981080"/>
            <a:ext cx="87760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六章 基于流程图的创作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00200" y="48006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7280" y="1139760"/>
            <a:ext cx="73922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通常选择典型安装方式，下一步的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面显示系统默认安装路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下一步在出现的对话框中的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Folders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选择软件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”菜单中的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夹，默认设置为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Macromedia Authorware 5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开始拷贝文件，并显示进程百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最后，屏幕上弹出”完成”窗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83600" y="539640"/>
            <a:ext cx="69228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t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此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用于未把鼠标移至按钮上方时的按钮状态。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raphic: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右侧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可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外部插入一个图片作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状态时的按钮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t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ow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此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是用于把鼠标按下按钮时的按钮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t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ve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此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是用于把鼠标移至按钮上方时的按钮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以上的设置完成后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确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89680" y="561960"/>
            <a:ext cx="79650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 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utt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中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旁的“…”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or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选择手型的鼠标指针，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在程序运行时，当鼠标移至该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方时，就会变为手型的鼠标指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37" descr=""/>
          <p:cNvPicPr/>
          <p:nvPr/>
        </p:nvPicPr>
        <p:blipFill>
          <a:blip r:embed="rId1"/>
          <a:stretch/>
        </p:blipFill>
        <p:spPr>
          <a:xfrm>
            <a:off x="2517840" y="2878200"/>
            <a:ext cx="39592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38" descr=""/>
          <p:cNvPicPr/>
          <p:nvPr/>
        </p:nvPicPr>
        <p:blipFill>
          <a:blip r:embed="rId1"/>
          <a:stretch/>
        </p:blipFill>
        <p:spPr>
          <a:xfrm>
            <a:off x="1438200" y="2517840"/>
            <a:ext cx="6478560" cy="3902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0200" y="561960"/>
            <a:ext cx="79650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 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其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erpetu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，则定义的按钮在整个文件中都有效。此时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动该按钮到合适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39" descr=""/>
          <p:cNvPicPr/>
          <p:nvPr/>
        </p:nvPicPr>
        <p:blipFill>
          <a:blip r:embed="rId1"/>
          <a:stretch/>
        </p:blipFill>
        <p:spPr>
          <a:xfrm>
            <a:off x="1438200" y="1978200"/>
            <a:ext cx="6478560" cy="3660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534320" y="539640"/>
            <a:ext cx="60055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程序保存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程序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效果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42" descr=""/>
          <p:cNvPicPr/>
          <p:nvPr/>
        </p:nvPicPr>
        <p:blipFill>
          <a:blip r:embed="rId1"/>
          <a:stretch/>
        </p:blipFill>
        <p:spPr>
          <a:xfrm>
            <a:off x="2878200" y="3598920"/>
            <a:ext cx="2879640" cy="2736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06240" y="1258920"/>
            <a:ext cx="78616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依次拖放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到交互图标的右侧，命名为“认识动物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考考你”。双击响应类型标识符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ot Spo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8680" y="539640"/>
            <a:ext cx="3978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Hot Spo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热区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43" descr=""/>
          <p:cNvPicPr/>
          <p:nvPr/>
        </p:nvPicPr>
        <p:blipFill>
          <a:blip r:embed="rId1"/>
          <a:stretch/>
        </p:blipFill>
        <p:spPr>
          <a:xfrm>
            <a:off x="1978200" y="2878200"/>
            <a:ext cx="5398920" cy="3460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00840" y="539640"/>
            <a:ext cx="78984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面的演示窗口中出现一个矩形区域，即热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热区在程序运行时是不可见的。改变热区的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可用鼠标按住选择句柄调整，设置热区位置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住矩形区域拖动。将热区拖放到认识动物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71480" y="539640"/>
            <a:ext cx="77090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ot Spo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tc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列表框，选择其中的选项可设置与热区所匹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鼠标动作。分别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ingle-click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在热区单击鼠标时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ouble-click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在热区内双击鼠标时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 in Area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鼠标移到热区内时响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ingle-Clic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当鼠标单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认识动物”时响应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右侧的“…”按钮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鼠标指针样式列表框，选择其中手型指针，然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完成设置。将文件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40" descr=""/>
          <p:cNvPicPr/>
          <p:nvPr/>
        </p:nvPicPr>
        <p:blipFill>
          <a:blip r:embed="rId1"/>
          <a:stretch/>
        </p:blipFill>
        <p:spPr>
          <a:xfrm>
            <a:off x="1978200" y="2517840"/>
            <a:ext cx="5398920" cy="3805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88560" y="1258920"/>
            <a:ext cx="68983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双击“认识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”群组图标。进入第二级流程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23240" y="539640"/>
            <a:ext cx="4618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Hot Objec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热对象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684440" y="539640"/>
            <a:ext cx="57463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流程线上依次拖放四个显示图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名为“狗”、“象”、“鹿”、“企鹅”，在各显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插入相应的动物图片。然后，将它们全部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选择菜单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Grou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将它们归为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组。命名为“动物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第二级线上拖放一个交互图标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依次拖放四个显示图标到交互图标的右侧，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为“狗”、“象”、“鹿”、“企鹅”。双击“狗”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使用绘图工具箱中的文本工具，直接创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示性文字。按下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M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在弹出的对话框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ansparen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45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247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954000" y="539640"/>
            <a:ext cx="69836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该程序，当运行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交互图标的第一个分支时，系统会自动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 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下拉列表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bjec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用鼠标单击屏幕上的狗，此时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左端预览框中出现狗的图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2800" y="1258920"/>
            <a:ext cx="8544240" cy="406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”菜单，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Macr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media Authorware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行，可启动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退出方法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鼠标指向菜单栏，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|Ex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退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右上角的“关闭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lt+F4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捷键也可退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8520" y="539640"/>
            <a:ext cx="4191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和退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6880" y="1139760"/>
            <a:ext cx="78372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tc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Objec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使鼠标移至热对象上方时，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响应。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右侧的“…”按钮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ursor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选择手型鼠标指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设置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ra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efore next Entr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y Agai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类型。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完毕后，将文件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66800" y="539640"/>
            <a:ext cx="59598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运行，当鼠标移至热对象上方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针形状为手型。并在屏幕上显示出提示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如将鼠标指针移至狗的上方时，显示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狗”的提示信息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41" descr=""/>
          <p:cNvPicPr/>
          <p:nvPr/>
        </p:nvPicPr>
        <p:blipFill>
          <a:blip r:embed="rId1"/>
          <a:stretch/>
        </p:blipFill>
        <p:spPr>
          <a:xfrm>
            <a:off x="1798560" y="2517840"/>
            <a:ext cx="575784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46" descr=""/>
          <p:cNvPicPr/>
          <p:nvPr/>
        </p:nvPicPr>
        <p:blipFill>
          <a:blip r:embed="rId1"/>
          <a:stretch/>
        </p:blipFill>
        <p:spPr>
          <a:xfrm>
            <a:off x="3238560" y="3957480"/>
            <a:ext cx="2519280" cy="2613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084320" y="1258920"/>
            <a:ext cx="71118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双击“考考你”群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进入第二级流程线，拖放五个显示图标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流程线上。命名为“背景”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“背景”中插入一幅完整的鹿的图片。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分别插入鹿的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15040" y="539640"/>
            <a:ext cx="4618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Target Area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标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53040" y="1338120"/>
            <a:ext cx="583164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交互图标流程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到交互图标的右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弹出的响应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arget Area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名为“鹿头”双击响应类型按钮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响应属性”对话框。选择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作为移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。屏幕上的虚线矩形自动移至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47" descr=""/>
          <p:cNvPicPr/>
          <p:nvPr/>
        </p:nvPicPr>
        <p:blipFill>
          <a:blip r:embed="rId1"/>
          <a:stretch/>
        </p:blipFill>
        <p:spPr>
          <a:xfrm>
            <a:off x="2517840" y="3238560"/>
            <a:ext cx="4317840" cy="3330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38000" y="539640"/>
            <a:ext cx="77760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“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拖至正确位置释放，然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调节虚线矩形的大小即可定义目标区域的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Dro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nap to Cente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，使对象在被拖放到正确目标区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自动将该对象放置在目标区域的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10280" y="539640"/>
            <a:ext cx="80506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tu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rrect 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定义刚才的目标区域为正确响应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群组图标到交互图标的右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响应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arget Area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。用同样的方法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所要移动的对象，但要调整虚线矩形至满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Dro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ut Bac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对象放置错误时则自动返回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t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rong 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同样的方法将鹿的其他部分一一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3" descr=""/>
          <p:cNvPicPr/>
          <p:nvPr/>
        </p:nvPicPr>
        <p:blipFill>
          <a:blip r:embed="rId1"/>
          <a:stretch/>
        </p:blipFill>
        <p:spPr>
          <a:xfrm>
            <a:off x="2517840" y="3238560"/>
            <a:ext cx="4317840" cy="3211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88920" y="1258920"/>
            <a:ext cx="71118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，双击“考考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进入二级流程线，在交互图标的最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侧，放置一个群组图标。设置其响应类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dition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4320" y="539640"/>
            <a:ext cx="4618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Conditional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条件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1" descr=""/>
          <p:cNvPicPr/>
          <p:nvPr/>
        </p:nvPicPr>
        <p:blipFill>
          <a:blip r:embed="rId1"/>
          <a:stretch/>
        </p:blipFill>
        <p:spPr>
          <a:xfrm>
            <a:off x="1438200" y="2517840"/>
            <a:ext cx="6478560" cy="3878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96080" y="539640"/>
            <a:ext cx="79045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di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一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llCorrectMatche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omati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hen Tru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。当用户将鹿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确时，此图标将会产生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08040" y="539640"/>
            <a:ext cx="798984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it Intera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此群组图标，进入第三级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，拖放一个等待图标和一个擦除图标，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待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群组图标，命名为“圣诞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”。将前面所讲的多个对象动画的例子粘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群组图标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交互图标到流程线上，再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一个计算图标到交互图标的右侧，命名为“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回”，设置为按钮响应。双击“返回”计算图标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窗口中写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oto(Iconid@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界面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4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4146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656000" y="539640"/>
            <a:ext cx="54475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程序保存，程序执行效果如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45840" y="539640"/>
            <a:ext cx="442332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主界面屏幕组成及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2566440" y="2198520"/>
            <a:ext cx="41065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界面屏幕组成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2779560" y="3278160"/>
            <a:ext cx="36799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及常用功能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2246400" y="4357800"/>
            <a:ext cx="47466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系统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95320" y="1258920"/>
            <a:ext cx="74772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，双击“考考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进入第二级流程线，将流程线上的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图标选中，选择菜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Grou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将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们合成为一个组。在流程线上拖放一个交互图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这一群组图标拖放至交至图标的右侧，在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 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eypr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响应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69600" y="539640"/>
            <a:ext cx="4192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Key Press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6" descr=""/>
          <p:cNvPicPr/>
          <p:nvPr/>
        </p:nvPicPr>
        <p:blipFill>
          <a:blip r:embed="rId2"/>
          <a:stretch/>
        </p:blipFill>
        <p:spPr>
          <a:xfrm>
            <a:off x="1079640" y="539640"/>
            <a:ext cx="719748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7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236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20200" y="539640"/>
            <a:ext cx="807552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显示图标到流程线上，双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图标，使用绘图工具箱，其中键入选择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键盘响应类型标识符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ey(s)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此时，相应的群组图标标题为相应的成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77880" y="1033560"/>
            <a:ext cx="59598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了使用户在选择时应用键盘键入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加入一个提示信息。将一个群组图标拖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图标的右侧，选择响应类型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ot Spot”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名该群组图标为“提示信息”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程序保存，运行程序，当出现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录时，按键盘上的数字键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系统就会做出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，将主界面擦除，进入拼图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8" descr=""/>
          <p:cNvPicPr/>
          <p:nvPr/>
        </p:nvPicPr>
        <p:blipFill>
          <a:blip r:embed="rId1"/>
          <a:stretch/>
        </p:blipFill>
        <p:spPr>
          <a:xfrm>
            <a:off x="1438200" y="1438200"/>
            <a:ext cx="6478560" cy="4175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432080" y="539640"/>
            <a:ext cx="322884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效果如下图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63960" y="2192400"/>
            <a:ext cx="83620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考考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入第二级流程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群组图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名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入第三级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四个群组图标，命名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3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4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35240" y="685800"/>
            <a:ext cx="48319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Text Entry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输入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30760" y="555480"/>
            <a:ext cx="68983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进入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级流程线。拖放一个显示图标，命名为“问题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加入相应的问题，拖放一个群组图标至交互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的右侧，选择交互响应类型为文本输入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30" descr=""/>
          <p:cNvPicPr/>
          <p:nvPr/>
        </p:nvPicPr>
        <p:blipFill>
          <a:blip r:embed="rId1"/>
          <a:stretch/>
        </p:blipFill>
        <p:spPr>
          <a:xfrm>
            <a:off x="1438200" y="2698920"/>
            <a:ext cx="647856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42080" y="561960"/>
            <a:ext cx="858744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文本输入响应标识符，弹出“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属性”对话框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ter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内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|C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当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均可使该分支产生响应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交互图标，屏幕上出现一个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框，用鼠标双击文本输入框将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 Interaction Text Fiel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调节周转的选择句柄可改变文本框的大小，用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拖动文本框可调整其位置。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a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将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try Marke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前的“√”去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将文本框前的显示文本输入标记“… ”去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程序保存。运行程序当键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支响应。显示“恭喜你，答对了。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然后进入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31" descr=""/>
          <p:cNvPicPr/>
          <p:nvPr/>
        </p:nvPicPr>
        <p:blipFill>
          <a:blip r:embed="rId1"/>
          <a:stretch/>
        </p:blipFill>
        <p:spPr>
          <a:xfrm>
            <a:off x="898560" y="3238560"/>
            <a:ext cx="7197840" cy="1976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95840" y="1258920"/>
            <a:ext cx="68983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回到上一次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输入响应时的第四级流程线，在交互图标的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侧拖放一个群组图标，设置该分支的响应类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限制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51960" y="539640"/>
            <a:ext cx="44053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. Time Lim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0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233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28600" y="561960"/>
            <a:ext cx="86328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时间响应类型标识符，弹出“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属性”对话框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e Limi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rup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tinue Tim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how Time Remai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在左端的预览框中将出现一个小时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来显示剩余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1836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主界面屏幕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7920" y="1258920"/>
            <a:ext cx="7837200" cy="947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窗口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17360" y="2517840"/>
            <a:ext cx="6919920" cy="3247920"/>
            <a:chOff x="1017360" y="2517840"/>
            <a:chExt cx="6919920" cy="3247920"/>
          </a:xfrm>
        </p:grpSpPr>
        <p:graphicFrame>
          <p:nvGraphicFramePr>
            <p:cNvPr id="76" name=""/>
            <p:cNvGraphicFramePr/>
            <p:nvPr/>
          </p:nvGraphicFramePr>
          <p:xfrm>
            <a:off x="1997280" y="2517840"/>
            <a:ext cx="4793760" cy="32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97280" y="2517840"/>
                      <a:ext cx="4793760" cy="32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1017360" y="2953080"/>
              <a:ext cx="637920" cy="398880"/>
            </a:xfr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标题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8080" y="5059800"/>
              <a:ext cx="637920" cy="398880"/>
            </a:xfr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标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47080" y="5153040"/>
              <a:ext cx="790200" cy="398880"/>
            </a:xfr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设计窗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02800" y="3945600"/>
              <a:ext cx="592200" cy="368280"/>
            </a:xfr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工具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02800" y="3040920"/>
              <a:ext cx="592200" cy="368280"/>
            </a:xfr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菜单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31160" y="4238640"/>
              <a:ext cx="7902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9357" y="26099"/>
                  </a:moveTo>
                  <a:lnTo>
                    <a:pt x="19559" y="2565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流程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641960" y="1125360"/>
            <a:ext cx="583164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其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问题以同样的方法设置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限制响应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程序。程序运行时，如果在规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时间内未答出正确的答案，  将显示提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超时，没有机会了。”，然后进入下一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32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163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84760" y="1258920"/>
            <a:ext cx="68983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回到第四级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线上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中。拖放一个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到交互图标的右侧，选择交互类型响应为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试响应。拖放一个群组图标至交互图标的最右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4320" y="539640"/>
            <a:ext cx="4618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. Tries Lim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尝试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33" descr=""/>
          <p:cNvPicPr/>
          <p:nvPr/>
        </p:nvPicPr>
        <p:blipFill>
          <a:blip r:embed="rId1"/>
          <a:stretch/>
        </p:blipFill>
        <p:spPr>
          <a:xfrm>
            <a:off x="2158920" y="1978200"/>
            <a:ext cx="5038920" cy="3036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11800" y="539640"/>
            <a:ext cx="544752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尝试响应标识符，进入尝试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属性对话框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ximum Trie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框中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表示尝试次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960" y="5037120"/>
            <a:ext cx="78372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it Intera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94280" y="539640"/>
            <a:ext cx="826344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该分支的群组图标的流程线上，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一个显示图标。选中该显示图标绘图工具箱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文本工具，输入“错误，没有机会了。” 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*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输入响应标识符，将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属性对话框打开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ext Entr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ter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*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为匹配文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y Agai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其他选项选择默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*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进入第五级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，双击显示图标，选择绘图工具箱中的文本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，在演示窗口中输入“错误，再来一次。”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9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08440" y="1258920"/>
            <a:ext cx="689832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利用下拉菜单来控制背景音乐的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显示简单的帮助信息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在主流程线拖放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群组图标，命名为“音乐”。双击该图标，进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级流程线，拖放一个计算图标和一个声音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计算图标，在弹出的计算窗口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ckmusic:=tru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3400" y="539640"/>
            <a:ext cx="5472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. Pull-down Menu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菜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0" descr=""/>
          <p:cNvPicPr/>
          <p:nvPr/>
        </p:nvPicPr>
        <p:blipFill>
          <a:blip r:embed="rId2"/>
          <a:stretch/>
        </p:blipFill>
        <p:spPr>
          <a:xfrm>
            <a:off x="898560" y="539640"/>
            <a:ext cx="7197840" cy="56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13" descr=""/>
          <p:cNvPicPr/>
          <p:nvPr/>
        </p:nvPicPr>
        <p:blipFill>
          <a:blip r:embed="rId1"/>
          <a:stretch/>
        </p:blipFill>
        <p:spPr>
          <a:xfrm>
            <a:off x="1978200" y="3778200"/>
            <a:ext cx="5398920" cy="2851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2880" y="539640"/>
            <a:ext cx="841644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声音图标，打开声音属性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导入一个音乐文件。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c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erpetu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la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ntil Tru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la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的播放条件输入框中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ckmusic=FAL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egi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中输入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ckmusic=TRU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77720" y="539640"/>
            <a:ext cx="64713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系统自设了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其中只包含一个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i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。对于使用中文操作系统以及创建中文界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程序的读者来说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的出现有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适宜，下面我们将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从窗口中移出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交互图标，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群组图标至交互图标的右侧，命名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i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i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中，不拖放任何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，即不做任何动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067040" y="539640"/>
            <a:ext cx="70513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交互图标的下方拖放一个擦除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，命名为“删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”。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响应标识符打开其属性窗口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erpetu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it Intera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34" descr=""/>
          <p:cNvPicPr/>
          <p:nvPr/>
        </p:nvPicPr>
        <p:blipFill>
          <a:blip r:embed="rId1"/>
          <a:stretch/>
        </p:blipFill>
        <p:spPr>
          <a:xfrm>
            <a:off x="1798560" y="2878200"/>
            <a:ext cx="575784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94480" y="942840"/>
            <a:ext cx="66852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下快捷键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程序，当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到“删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”这个擦除图标时，会自动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来，这时在演示窗口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即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删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6560" y="539640"/>
            <a:ext cx="72820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题栏：显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和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名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栏：由不同的菜单组成，用来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特殊控制和进行指令操作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栏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令按钮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“正文样式”列表框，便于编辑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和图标内容设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栏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，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核心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窗口：左侧的竖直线是程序主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线，在程序主流程线上方的手型标志为程序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针，它的位置随着操作位置的改变而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35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227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82440" y="539640"/>
            <a:ext cx="717912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交互图标，命名为“设置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依次拖放三个计算图标至交互图标的右侧。命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“开音乐”、“关音乐”、“退出”。双击“文件”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菜单响应标识符打开属性对话框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enu Item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开音乐”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ey(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o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37" descr=""/>
          <p:cNvPicPr/>
          <p:nvPr/>
        </p:nvPicPr>
        <p:blipFill>
          <a:blip r:embed="rId1"/>
          <a:stretch/>
        </p:blipFill>
        <p:spPr>
          <a:xfrm>
            <a:off x="1438200" y="2158920"/>
            <a:ext cx="6478560" cy="38894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023480" y="539640"/>
            <a:ext cx="709704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9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一定要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erpetu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ranc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tur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47720" y="539640"/>
            <a:ext cx="764856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0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群组图标至“退出”计算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的前面，命名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-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双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-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菜单的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标识符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enu Item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-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ey(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不输入值。其他设置与“开音乐”计算图标的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菜单属性对话框中的设置相同。程序运行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文件”下拉菜单，在“关音乐”和“退出”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之间有一条分隔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放一个交互图标至流程线上，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为“帮助”。拖放一个群组图标到交互图标的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侧，命名为“关于动物世界”。响应自属性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与“开音乐”的设置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620360" y="539640"/>
            <a:ext cx="58744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关于动物世界”图标，进入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级流程线，拖放一个显示图标和一个等待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至流程线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显示图标， 利用绘图工具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出一个弹出式对话框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11" descr=""/>
          <p:cNvPicPr/>
          <p:nvPr/>
        </p:nvPicPr>
        <p:blipFill>
          <a:blip r:embed="rId1"/>
          <a:stretch/>
        </p:blipFill>
        <p:spPr>
          <a:xfrm>
            <a:off x="1978200" y="2878200"/>
            <a:ext cx="539892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60400" y="539640"/>
            <a:ext cx="73069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中等待图标，选择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File|Properties…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项，弹出“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属性”对话框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a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be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确定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等待图标，设置如下图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12" descr=""/>
          <p:cNvPicPr/>
          <p:nvPr/>
        </p:nvPicPr>
        <p:blipFill>
          <a:blip r:embed="rId1"/>
          <a:stretch/>
        </p:blipFill>
        <p:spPr>
          <a:xfrm>
            <a:off x="898560" y="3057480"/>
            <a:ext cx="719784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9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4149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51440" y="539640"/>
            <a:ext cx="26344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程序。运行程序，程序的执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369240" y="539640"/>
            <a:ext cx="2170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4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声音、影视信息的加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17440" y="1566720"/>
            <a:ext cx="688032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加载声音信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个声音图标拖放至主流程线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该图标，在弹出的“声音图标属性”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 which file?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其文件列表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搜寻所需的声音文件。选择声音文件，然后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便可将声音文件加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56000" y="517680"/>
            <a:ext cx="54475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载声音文件后，在对话框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23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83600" y="539640"/>
            <a:ext cx="67705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c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，其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的作用如下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it Until Do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当前声音被播放完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，执行下一个图标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伴随声音文件的播放，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流程线上下一个图标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erpetu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选择此项，声音 文件永远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于等待状态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判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eg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条件，当其值为真时，开始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61800" y="539640"/>
            <a:ext cx="839196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la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，其中的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于设置播放次数和播放条件。其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xed Number of Tim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选择此项，在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的文本框内可输入声音文件播放的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ntil Tru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选择此项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eg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的播放条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it for Previous Soun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框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等待前一个声音文件播放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毕后，才播放此声音文件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ate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数值可控制声音播放的速率，若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速度为原来的一半，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文件正常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；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播放速度为原来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01440" y="539640"/>
            <a:ext cx="41792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2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标及常用功能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58920" y="1258920"/>
            <a:ext cx="6580800" cy="5202360"/>
            <a:chOff x="1258920" y="1258920"/>
            <a:chExt cx="6580800" cy="5202360"/>
          </a:xfrm>
        </p:grpSpPr>
        <p:grpSp>
          <p:nvGrpSpPr>
            <p:cNvPr id="87" name=""/>
            <p:cNvGrpSpPr/>
            <p:nvPr/>
          </p:nvGrpSpPr>
          <p:grpSpPr>
            <a:xfrm>
              <a:off x="1258920" y="1258920"/>
              <a:ext cx="6580800" cy="3933360"/>
              <a:chOff x="1258920" y="1258920"/>
              <a:chExt cx="6580800" cy="3933360"/>
            </a:xfrm>
          </p:grpSpPr>
          <p:sp>
            <p:nvSpPr>
              <p:cNvPr id="88" name=""/>
              <p:cNvSpPr/>
              <p:nvPr/>
            </p:nvSpPr>
            <p:spPr>
              <a:xfrm>
                <a:off x="1453680" y="1258920"/>
                <a:ext cx="6386040" cy="3933360"/>
              </a:xfrm>
              <a:prstGeom prst="rect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	</a:t>
                </a:r>
                <a:r>
                  <a:rPr b="0" lang="zh-CN" sz="28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显示</a:t>
                </a:r>
                <a:r>
                  <a:rPr b="0" lang="zh-CN" sz="28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(display)</a:t>
                </a:r>
                <a:r>
                  <a:rPr b="0" lang="zh-CN" sz="28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图标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：用于显示文字、图像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	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显示图标是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uthorware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中使用最频繁的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标，它不仅能展示文本和图像，而且有十分丰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过渡效果，使其中的对象更具动感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	</a:t>
                </a:r>
                <a:r>
                  <a:rPr b="0" lang="zh-CN" sz="28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. </a:t>
                </a:r>
                <a:r>
                  <a:rPr b="0" lang="zh-CN" sz="28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导入文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	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1)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用鼠标拖放一个显示图标到主流程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上。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	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2)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双击此显示图标，打开该显示图标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展示窗口。此时会出现绘图工具箱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" name="6" descr="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1392120"/>
                <a:ext cx="341280" cy="36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5" descr=""/>
            <p:cNvPicPr/>
            <p:nvPr/>
          </p:nvPicPr>
          <p:blipFill>
            <a:blip r:embed="rId2"/>
            <a:stretch/>
          </p:blipFill>
          <p:spPr>
            <a:xfrm>
              <a:off x="3057480" y="5218200"/>
              <a:ext cx="2879640" cy="1243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25880" y="539640"/>
            <a:ext cx="82638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加载数字电影信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身并不具有制作数字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的能力。但是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多种数字化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的格式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的数字化电影的格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DI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X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标准格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A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cintos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上使用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ick Tim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uick Tim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nima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nimator Pr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D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FL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L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E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图组合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865080" y="2282760"/>
            <a:ext cx="75632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ovie”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选项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个数字电影图标拖放至流程线上，双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该图标，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Movie Ic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(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影图标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已插入一个数字电影文件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Fi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将显示文件的名字与路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Storag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显示该文件被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的外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Extern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27280" y="958680"/>
            <a:ext cx="56610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电影属性设置数字电影图标包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选项卡，下面具体进行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24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398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386360" y="539640"/>
            <a:ext cx="63010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“Layer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可设置播放对象的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次，层次越高，播放画面显示越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0400" y="561960"/>
            <a:ext cx="775224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. “Option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设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复选框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vent Automatic Era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防止其他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的自动擦除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rase Previous Conte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执行到此图标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动将前面内容擦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默认插入对象的层次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dio 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若所播放的对象中包含声音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够正常播放声音；否则，播放时声音被关闭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e  Moive Palett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使用多媒体系统本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调色板，而不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调色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activit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允许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电影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进行交互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25" descr=""/>
          <p:cNvPicPr/>
          <p:nvPr/>
        </p:nvPicPr>
        <p:blipFill>
          <a:blip r:embed="rId1"/>
          <a:stretch/>
        </p:blipFill>
        <p:spPr>
          <a:xfrm>
            <a:off x="1438200" y="2158920"/>
            <a:ext cx="6478560" cy="400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539360" y="539640"/>
            <a:ext cx="617292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Timing”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选项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中，可以设置电影文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条件、速度和过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62640" y="539640"/>
            <a:ext cx="736776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“Pla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各选项功能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peatedl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重复播放数字电影，直至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图标将其擦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xed Number of Tim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选择此项，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下面的文本框中输入数字，可控制播放的次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ntil Tru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当其中表达式或变量的值为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，数字电影停止播放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ly While In Mo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只有当该数字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被移动时才开始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es/Cyc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将调整播放速度来限制每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播放中重复的次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troller Pause/Pla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屏幕上将显示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控制面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42640" y="539640"/>
            <a:ext cx="694116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“Rate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输入数字可调整电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速度，也可以输入变量或表达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“Start Fram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可输入播放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的起始帧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d Fram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框中可输入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终止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9760" y="3381480"/>
            <a:ext cx="557568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Layout”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选项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显示图标属性对话框一样，也设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osition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vabl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可参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Imag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61320" y="804960"/>
            <a:ext cx="790452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何插入一个数字电影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从图标栏中拖放个数字电影图标。双击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 在打开的“数字电影图标属性”对话框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 which fil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“搜寻”下拉列表中选择文件夹或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器，然后在文件列表中选择所需文件，最后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右下角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将所选文件插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939760" y="539640"/>
            <a:ext cx="34480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5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应用程序创建概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2704680" y="2362320"/>
            <a:ext cx="38934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5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库和模块简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2" action="ppaction://hlinksldjump"/>
          </p:cNvPr>
          <p:cNvSpPr/>
          <p:nvPr/>
        </p:nvSpPr>
        <p:spPr>
          <a:xfrm>
            <a:off x="2918160" y="344160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5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和函数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2491560" y="452268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5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作实例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4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816280" y="539640"/>
            <a:ext cx="34477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5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库和模块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15880" y="1258920"/>
            <a:ext cx="466128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简单介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库是一个设计图标的集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这些图标包括显示图标、交互图标、计算图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电影图标及声音图标，一个库文件只能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一个设计图标及包含内容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库文件与应用程序间是一种链接关系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不是一个图标的拷贝。因此，使用库文件可以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省存储空间，避免重复操作，当修改库中的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内容时，在程序中用到该图标的地方，将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时得到更新，即有自动更新的优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803240" y="539640"/>
            <a:ext cx="5661000" cy="1981440"/>
            <a:chOff x="1803240" y="539640"/>
            <a:chExt cx="5661000" cy="1981440"/>
          </a:xfrm>
        </p:grpSpPr>
        <p:sp>
          <p:nvSpPr>
            <p:cNvPr id="92" name=""/>
            <p:cNvSpPr/>
            <p:nvPr/>
          </p:nvSpPr>
          <p:spPr>
            <a:xfrm>
              <a:off x="1803240" y="539640"/>
              <a:ext cx="5661000" cy="13737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3).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选择绘图工具箱中的文本工具，然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在展示窗口中单击鼠标，在鼠标单击的位置将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现文本标尺，同时鼠标指针变为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I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型。如图所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58920" y="1828800"/>
              <a:ext cx="503892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1803240" y="2517840"/>
            <a:ext cx="56610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时可输入文字。标尺两端的白色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矩形块用来调整整个文本的宽度。标尺右端的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形标志是右缩进标志，输入文字到这个标志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字会自动换行，进入下一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右缩进相对应的左边位置上，也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三角形，上一半是左缩进标志，代表文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左端边界；下一半是首行缩进标志，当新一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个标志起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11080" y="539640"/>
            <a:ext cx="7562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库文件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le| New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|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Library…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ntitled-1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的新库窗口，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|Sav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为新库文件取名，将库文件保存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添加和删除库文件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添加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个设计图标从设计图标栏中拖放到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中。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中主流程线上设计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标拖放到库窗口中。使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py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st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完成将流程线上一个设计图标拷贝到库链接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中。在不同的库之间移动库文件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删除不需要的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查找和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35040" y="539640"/>
            <a:ext cx="619776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模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是流程线的一段流程结构。它可以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图标或包含多个图标的逻辑结构，同时每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个图标内还要有一定的具体内容。在交互式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使用模块时，既可以使用已创建的模块，也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以先创建一个新模块，然后在程序包中再引用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当模块中的内容移植到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的流程线中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复制了模块中的内容，但不是链接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系。因此用户可以在流程线中修改它而不会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中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62800" y="539640"/>
            <a:ext cx="890424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模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选取创建模块的所有图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|Save in Mode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ave in Mode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文本框中输入模块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名，选择“保存”按钮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默认的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文件夹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nowledge Object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也可以在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夹下自己新建自己的文件夹来存储模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|Knowledge Object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nowledge Object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fresh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钮，系统将对其中的智能对象进行更新， 新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块得以加载。此时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ll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可以找到刚存储的新模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73920" y="539640"/>
            <a:ext cx="790452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载模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所要加载模块的程序，然后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Knowledge Object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l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夹，从中选中所要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载的模块，比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，双击该模块，模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就被加载到流程线上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所要加载的模块，比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直接拖放到所要加载的位置释放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5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变量和函数的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40200" y="1258920"/>
            <a:ext cx="68130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0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变量可以分为两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变量和自定义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ff3300"/>
                </a:solidFill>
                <a:latin typeface="隶书"/>
                <a:ea typeface="隶书"/>
              </a:rPr>
              <a:t>系统变量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本身建立的，并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能自动更新这些变量的值。系统变量的名称一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以大写字母开头。有些系统变量后面可以跟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@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字符再加上一个图标标题，这种变量称为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用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自定义变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是由用户自己创建的变量。 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于完成系统变量所无法完成的某一特定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7" descr=""/>
          <p:cNvPicPr/>
          <p:nvPr/>
        </p:nvPicPr>
        <p:blipFill>
          <a:blip r:embed="rId1"/>
          <a:stretch/>
        </p:blipFill>
        <p:spPr>
          <a:xfrm>
            <a:off x="2698920" y="2698920"/>
            <a:ext cx="3598560" cy="3493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031760" y="539640"/>
            <a:ext cx="70261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使用和监控变量主要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变量窗口。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方式将变量窗口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|Variables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上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 Window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35920" y="539640"/>
            <a:ext cx="40212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使用场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用于计算图标窗口中。在计算图标窗口中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变量是时，常常写成表达式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用于对话框中。在对话框中的变量主要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来设置控制程序运行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51120" y="3200400"/>
            <a:ext cx="73494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变量的使用方法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上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 Window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y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表中选择所要使用的系统变量名，如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umEnt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ste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粘贴该系统变量。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05840" y="539640"/>
            <a:ext cx="723996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自定义变量的使用方法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上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 Window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再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w…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w Variabl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在其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am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本框中输入自定义变量名，如 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osi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itial val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对其进行初始化，例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关闭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w Variabl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能自动跟踪自定义变量在整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运行中值的变化，并将它加到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ariab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的变量列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031760" y="539640"/>
            <a:ext cx="702612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函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，一般可以认为是提供某些特殊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者作用的子程序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身带有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函数。对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函数所无法完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任务，可以由用户自己定义一个函数来完成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窗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使用和监控函数，主要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函数窗口来完成的。可以通过两种方法将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窗口激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|Fun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unctions Window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6" descr=""/>
          <p:cNvPicPr/>
          <p:nvPr/>
        </p:nvPicPr>
        <p:blipFill>
          <a:blip r:embed="rId1"/>
          <a:stretch/>
        </p:blipFill>
        <p:spPr>
          <a:xfrm>
            <a:off x="2158920" y="1258920"/>
            <a:ext cx="5038920" cy="4892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412000" y="561960"/>
            <a:ext cx="126900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函数窗口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2000" y="539640"/>
            <a:ext cx="73494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本格式设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体设定。选中所要改变字体的文本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ext|Font|Other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on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。选择要使用的字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体大小设定。选中所要改变字体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的文本，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ext|Size|Other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在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ont Siz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输入适当数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体风格设定。在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ext|sty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中，选择其中的命令可以设置文本为粗体、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及给字体添加下划线和上下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齐方式设定。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ext|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菜单，从中选择相应的命令可以设置文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齐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70400" y="539640"/>
            <a:ext cx="79048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函数的使用方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要使用系统函数的地方。选择工具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Functions Window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打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Function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选择要使用的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数所属的类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不能确认所用的函数属于哪一类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可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l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选择要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函数名，如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BS,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此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Descrip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显示该系统函数的语法及使用方法的简短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Past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粘贴该系统函数。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Do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关闭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5" descr=""/>
          <p:cNvPicPr/>
          <p:nvPr/>
        </p:nvPicPr>
        <p:blipFill>
          <a:blip r:embed="rId1"/>
          <a:stretch/>
        </p:blipFill>
        <p:spPr>
          <a:xfrm>
            <a:off x="2158920" y="3598920"/>
            <a:ext cx="5038920" cy="3090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999880" y="539640"/>
            <a:ext cx="29599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5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作实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78200" y="1258920"/>
            <a:ext cx="711144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的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双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认识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进入第二级流程线，在交互图标的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侧拖放一个计算图标，设计响应类型为按钮响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并命名为“返回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93320" y="880920"/>
            <a:ext cx="67096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图标，在弹出的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算窗口中输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oTo(IconID@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主界面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 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To()”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是一个系统函数，表达式输入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毕后。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在随后的提示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ES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运行时，按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到“主界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59040" y="539640"/>
            <a:ext cx="73497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的使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jhlx.a5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，双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考考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进入第二级流程线，双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入第三级流程线，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前拖放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图标，双击该计算图标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弹出的计算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写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在流程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拖放一个计算图标，双击该计算图标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出的计算窗口中写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=question+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62960" y="719280"/>
            <a:ext cx="846252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依次打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群组图标，在流程线开始处加入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图标，在计算窗口中加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=question+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后加一个显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该显示图标进入展示窗口，选择绘图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文本按钮，在展示窗口中写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共有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{question}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个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4" descr=""/>
          <p:cNvPicPr/>
          <p:nvPr/>
        </p:nvPicPr>
        <p:blipFill>
          <a:blip r:embed="rId1"/>
          <a:stretch/>
        </p:blipFill>
        <p:spPr>
          <a:xfrm>
            <a:off x="1978200" y="2517840"/>
            <a:ext cx="5398920" cy="4081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711800" y="539640"/>
            <a:ext cx="54475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当程序运行时，在此显示图标中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会显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共有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个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样就在文本对象中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入了一个变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ques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。其中变量名要用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括号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{}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括起来。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40200" y="1258920"/>
            <a:ext cx="6813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简述了多媒体创作工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主要功能特点、运行环境和安装。详细介绍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各图标的功能及几种常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：显示图标、等待图标、擦除图标、移动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、交互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还介绍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库、模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及变量的使用。库是一个设计图标的集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是流程线的一段流程结构。变量是一个其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改变的量。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变量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为两种：系统变量和自定义变量。函数是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某些特殊功能或者作用的子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724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048320" y="539640"/>
            <a:ext cx="719676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五种基本动画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Li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Grid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End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以及利用五种动画所制作的多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的综合实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后介绍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交互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响应、热区响应、热对象响应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标区域响应、下拉菜单响应、文本输入响应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键响应、条件响应、尝试限制响应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限制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56440" y="539640"/>
            <a:ext cx="76914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导入图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导入图片。如果主流程线上没有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，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|Import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项，从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hich file?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择所要导入的图片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，用鼠标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将图片导入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已经拖放一个显示图标到主流程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，双击该显示图标，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sert|Image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，弹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Imag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 which file?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从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所要的图片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导入图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" descr=""/>
          <p:cNvPicPr/>
          <p:nvPr/>
        </p:nvPicPr>
        <p:blipFill>
          <a:blip r:embed="rId1"/>
          <a:stretch/>
        </p:blipFill>
        <p:spPr>
          <a:xfrm>
            <a:off x="1438200" y="2878200"/>
            <a:ext cx="647856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92720" y="539640"/>
            <a:ext cx="76662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显示图标的属性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菜单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Icon|Properties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，屏幕上会弹出一个显示图标属性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Displa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的选项设置。如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720" y="53892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61720" y="1258920"/>
            <a:ext cx="66934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主要功能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运行环境与安装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启动与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常用的图标与常用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菜单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动画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常用交互类型及交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变量和函数的定义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库与模块的创建和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4360" y="1170000"/>
            <a:ext cx="702684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Lay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er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内输入整数可作为对象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层次。层次越高显示的就越靠前，层次越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的就越靠后，即两个显示图标中的图像叠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的次序可以用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er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ff3300"/>
                </a:solidFill>
                <a:latin typeface="隶书"/>
                <a:ea typeface="隶书"/>
              </a:rPr>
              <a:t>T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ransition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过渡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ansitions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右面的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按钮，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出一个过渡类型对话框，从中可以选择合适的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幕显示过渡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60600" y="330120"/>
            <a:ext cx="779472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Option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pdate Displayed Variabl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程序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过程中，如果变量值发生变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图标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随时在屏幕中显示改变后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clude Text from Searc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时设置了一个初始化的搜索，选择了此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本显示图标中的文本对象从搜索中排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vent Automatic Era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禁止后面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自动擦除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rase Previous Conte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显示该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前，会自动将前面图标的内容擦除。但它只能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除前面显示图标中比它层次低或相同的内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该图标的内容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所有对象的最前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340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88440" y="539640"/>
            <a:ext cx="43416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ff3300"/>
                </a:solidFill>
                <a:latin typeface="隶书"/>
                <a:ea typeface="隶书"/>
              </a:rPr>
              <a:t>Layout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的选项设置。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7840" y="539640"/>
            <a:ext cx="65998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Positionin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ositioning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，可选择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位置和显示方式。其中有四项选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o Chang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总是在目前所在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置出现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可能出现在屏幕上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意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Pat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会出现在预定轨迹上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起点和终点间的某一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 Are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会出现在预定区域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某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20360" y="1262160"/>
            <a:ext cx="58744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ovab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设置对象移动方式。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有四种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v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不可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可在屏幕上任意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nywhe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移动可超出屏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 Are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只能在设定的矩形范围内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219320" y="539640"/>
            <a:ext cx="6406920" cy="3080160"/>
            <a:chOff x="1219320" y="539640"/>
            <a:chExt cx="6406920" cy="3080160"/>
          </a:xfrm>
        </p:grpSpPr>
        <p:sp>
          <p:nvSpPr>
            <p:cNvPr id="106" name=""/>
            <p:cNvSpPr/>
            <p:nvPr/>
          </p:nvSpPr>
          <p:spPr>
            <a:xfrm>
              <a:off x="1666800" y="539640"/>
              <a:ext cx="5959440" cy="30801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移动</a:t>
              </a:r>
              <a:r>
                <a:rPr b="0" lang="en-US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motion</a:t>
              </a:r>
              <a:r>
                <a:rPr b="0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图标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：制作简单的二维动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擦除</a:t>
              </a:r>
              <a:r>
                <a:rPr b="0" lang="en-US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erase</a:t>
              </a:r>
              <a:r>
                <a:rPr b="0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图标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：清除前面显示过的屏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对象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擦除图标只能用来擦除图标对象，它可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显示图标、交互图标、框架图标及数字电影图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等显示的对象从屏幕上擦除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7" descr=""/>
            <p:cNvPicPr/>
            <p:nvPr/>
          </p:nvPicPr>
          <p:blipFill>
            <a:blip r:embed="rId1"/>
            <a:stretch/>
          </p:blipFill>
          <p:spPr>
            <a:xfrm>
              <a:off x="1219320" y="685800"/>
              <a:ext cx="32364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8" descr=""/>
            <p:cNvPicPr/>
            <p:nvPr/>
          </p:nvPicPr>
          <p:blipFill>
            <a:blip r:embed="rId2"/>
            <a:stretch/>
          </p:blipFill>
          <p:spPr>
            <a:xfrm>
              <a:off x="1219320" y="1523880"/>
              <a:ext cx="341280" cy="357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" descr=""/>
          <p:cNvPicPr/>
          <p:nvPr/>
        </p:nvPicPr>
        <p:blipFill>
          <a:blip r:embed="rId1"/>
          <a:stretch/>
        </p:blipFill>
        <p:spPr>
          <a:xfrm>
            <a:off x="1438200" y="1978200"/>
            <a:ext cx="6478560" cy="3489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33840" y="539640"/>
            <a:ext cx="544752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流程线上放置一个显示图标和一个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除图标，双击擦除图标可弹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图标属性”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，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800" y="5576760"/>
            <a:ext cx="766656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标题提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lick object(s) t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选择屏幕上的图形对象，对象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539640"/>
            <a:ext cx="80780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ansiti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…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rase Transiti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ategori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种类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表框中的选项为效果分类，右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ansiti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表框中选项则为具体的过渡方式。选择所需的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渡方式，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urati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持续时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moothness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平滑度值，平滑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值越大，过渡过程越粗糙。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ffects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有两个选项，选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tire Window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效果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影响全屏，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hanging Area 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只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响擦除对象区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" descr=""/>
          <p:cNvPicPr/>
          <p:nvPr/>
        </p:nvPicPr>
        <p:blipFill>
          <a:blip r:embed="rId1"/>
          <a:stretch/>
        </p:blipFill>
        <p:spPr>
          <a:xfrm>
            <a:off x="1978200" y="3598920"/>
            <a:ext cx="5398920" cy="291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39840" y="539640"/>
            <a:ext cx="696564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cons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对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表框中选择对象，然后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mov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则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或保留的图标将从列表中删除。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i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con to Eras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按钮，然后选择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幕上的对象，则此对象将被指定的擦除方式擦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cons to Preserv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按钮，则可以指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防止被擦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38200" y="3057480"/>
            <a:ext cx="6478560" cy="295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9800" y="539640"/>
            <a:ext cx="70938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等待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wait)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在程序运行中产生等待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的间隔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流程线上放置等待图标，双击此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待图标，屏幕上会弹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Wait Ic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20200" y="539640"/>
            <a:ext cx="668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555560" y="1676520"/>
            <a:ext cx="6026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述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622240" y="2397240"/>
            <a:ext cx="389304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界面屏幕组成及菜单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1875600" y="3116160"/>
            <a:ext cx="53866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3 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动画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1875600" y="3836880"/>
            <a:ext cx="53866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4 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交互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2195280" y="4556160"/>
            <a:ext cx="474660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程序创建概要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05240" y="539640"/>
            <a:ext cx="78372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vents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的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lick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则表示当用户按下鼠标时程序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续执行；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ey Press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表示用户按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上某一个键时，程序继续执行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e Limit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数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可限定等待的时间，如输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表示等待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秒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继续执行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ptions”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的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h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untdow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程序运行中将显示一个时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提示用户等待时间；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how Button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执行时将显示一个等待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143000" y="539640"/>
            <a:ext cx="6714720" cy="4786560"/>
            <a:chOff x="1143000" y="539640"/>
            <a:chExt cx="6714720" cy="4786560"/>
          </a:xfrm>
        </p:grpSpPr>
        <p:sp>
          <p:nvSpPr>
            <p:cNvPr id="119" name=""/>
            <p:cNvSpPr/>
            <p:nvPr/>
          </p:nvSpPr>
          <p:spPr>
            <a:xfrm>
              <a:off x="1257840" y="539640"/>
              <a:ext cx="6599880" cy="4786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导航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navigat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控制程序流程的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转，相当于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goto 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语句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框架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fram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建立页面系统和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文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决策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decision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控制程序流程的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转，相当于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if…then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语句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交互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interactiv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设计用户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互程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计算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alculat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导入函数、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计变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群组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map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设计子程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10" descr=""/>
            <p:cNvPicPr/>
            <p:nvPr/>
          </p:nvPicPr>
          <p:blipFill>
            <a:blip r:embed="rId1"/>
            <a:stretch/>
          </p:blipFill>
          <p:spPr>
            <a:xfrm>
              <a:off x="1239840" y="681120"/>
              <a:ext cx="36036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11" descr=""/>
            <p:cNvPicPr/>
            <p:nvPr/>
          </p:nvPicPr>
          <p:blipFill>
            <a:blip r:embed="rId2"/>
            <a:stretch/>
          </p:blipFill>
          <p:spPr>
            <a:xfrm>
              <a:off x="1219320" y="1523880"/>
              <a:ext cx="30636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12" descr=""/>
            <p:cNvPicPr/>
            <p:nvPr/>
          </p:nvPicPr>
          <p:blipFill>
            <a:blip r:embed="rId3"/>
            <a:stretch/>
          </p:blipFill>
          <p:spPr>
            <a:xfrm>
              <a:off x="1268280" y="2362320"/>
              <a:ext cx="3319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13" descr=""/>
            <p:cNvPicPr/>
            <p:nvPr/>
          </p:nvPicPr>
          <p:blipFill>
            <a:blip r:embed="rId4"/>
            <a:stretch/>
          </p:blipFill>
          <p:spPr>
            <a:xfrm>
              <a:off x="1219320" y="3200400"/>
              <a:ext cx="3157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14" descr=""/>
            <p:cNvPicPr/>
            <p:nvPr/>
          </p:nvPicPr>
          <p:blipFill>
            <a:blip r:embed="rId5"/>
            <a:stretch/>
          </p:blipFill>
          <p:spPr>
            <a:xfrm>
              <a:off x="1163520" y="4114800"/>
              <a:ext cx="36036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15" descr=""/>
            <p:cNvPicPr/>
            <p:nvPr/>
          </p:nvPicPr>
          <p:blipFill>
            <a:blip r:embed="rId6"/>
            <a:stretch/>
          </p:blipFill>
          <p:spPr>
            <a:xfrm>
              <a:off x="1143000" y="495288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137240" y="539640"/>
            <a:ext cx="6840720" cy="5213160"/>
            <a:chOff x="1137240" y="539640"/>
            <a:chExt cx="6840720" cy="5213160"/>
          </a:xfrm>
        </p:grpSpPr>
        <p:sp>
          <p:nvSpPr>
            <p:cNvPr id="127" name=""/>
            <p:cNvSpPr/>
            <p:nvPr/>
          </p:nvSpPr>
          <p:spPr>
            <a:xfrm>
              <a:off x="1137240" y="539640"/>
              <a:ext cx="6840720" cy="52131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数字电影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d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igital movi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导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vi 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MPG 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等格式的数字电影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声音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sound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导入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wav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iff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pcm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swa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vox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等格式的声音文件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视频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video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图标：用于控制计算机外接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放映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开始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start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标签：用于设定用户程序运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的起始位置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结束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stop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标签：用于设定用户程序运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结束的位置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图标调色板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icon palate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)</a:t>
              </a: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：图标调色板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于更改流程线上的图标的显示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16" descr=""/>
            <p:cNvPicPr/>
            <p:nvPr/>
          </p:nvPicPr>
          <p:blipFill>
            <a:blip r:embed="rId1"/>
            <a:stretch/>
          </p:blipFill>
          <p:spPr>
            <a:xfrm>
              <a:off x="1219320" y="685800"/>
              <a:ext cx="3603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17" descr=""/>
            <p:cNvPicPr/>
            <p:nvPr/>
          </p:nvPicPr>
          <p:blipFill>
            <a:blip r:embed="rId2"/>
            <a:stretch/>
          </p:blipFill>
          <p:spPr>
            <a:xfrm>
              <a:off x="1219320" y="1600200"/>
              <a:ext cx="36036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18" descr=""/>
            <p:cNvPicPr/>
            <p:nvPr/>
          </p:nvPicPr>
          <p:blipFill>
            <a:blip r:embed="rId3"/>
            <a:stretch/>
          </p:blipFill>
          <p:spPr>
            <a:xfrm>
              <a:off x="1163520" y="2362320"/>
              <a:ext cx="360360" cy="3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19" descr=""/>
            <p:cNvPicPr/>
            <p:nvPr/>
          </p:nvPicPr>
          <p:blipFill>
            <a:blip r:embed="rId4"/>
            <a:srcRect l="0" t="48457" r="0" b="0"/>
            <a:stretch/>
          </p:blipFill>
          <p:spPr>
            <a:xfrm>
              <a:off x="1219320" y="4114800"/>
              <a:ext cx="2649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20" descr=""/>
            <p:cNvPicPr/>
            <p:nvPr/>
          </p:nvPicPr>
          <p:blipFill>
            <a:blip r:embed="rId5"/>
            <a:stretch/>
          </p:blipFill>
          <p:spPr>
            <a:xfrm>
              <a:off x="1143000" y="4800600"/>
              <a:ext cx="34596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19" descr=""/>
            <p:cNvPicPr/>
            <p:nvPr/>
          </p:nvPicPr>
          <p:blipFill>
            <a:blip r:embed="rId6"/>
            <a:srcRect l="0" t="0" r="0" b="46219"/>
            <a:stretch/>
          </p:blipFill>
          <p:spPr>
            <a:xfrm>
              <a:off x="1219320" y="3276720"/>
              <a:ext cx="2538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35000" y="539640"/>
            <a:ext cx="29599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59680" y="1258920"/>
            <a:ext cx="7417440" cy="1009440"/>
            <a:chOff x="859680" y="1258920"/>
            <a:chExt cx="7417440" cy="1009440"/>
          </a:xfrm>
        </p:grpSpPr>
        <p:pic>
          <p:nvPicPr>
            <p:cNvPr id="136" name="21" descr=""/>
            <p:cNvPicPr/>
            <p:nvPr/>
          </p:nvPicPr>
          <p:blipFill>
            <a:blip r:embed="rId1"/>
            <a:stretch/>
          </p:blipFill>
          <p:spPr>
            <a:xfrm>
              <a:off x="1079640" y="1978200"/>
              <a:ext cx="7197480" cy="2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680" y="1258920"/>
              <a:ext cx="5618160" cy="520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uthorware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提供了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个菜单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215000" y="2338560"/>
            <a:ext cx="66852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File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处理文件的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储、打开、模板转换、属性设置、引入、输出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、打包、文件压缩、打印等功能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Ed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对流程线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图标或画面上编辑对象的编辑控制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View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对当前图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面板、工具条等的查看控制功能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Inser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在此插入知识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象、图形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tra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01880" y="539640"/>
            <a:ext cx="71118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 Modify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修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对图形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、文件及各种编辑对象的修改控制操作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 Tex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对文本的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 Control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控制程序的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、跟踪与调试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 Xtras(Xtra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一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级控制，如链接检查、拼写检查、图标大小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告以及声音文件的格式转换等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9).  Window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提供对编辑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中所有窗口的显示控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0). Help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帮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66760" y="1258920"/>
            <a:ext cx="71121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了五种类型的动画效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们是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移动图标来完成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五种动画功能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Direct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固定终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沿着一条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，将对象从它当前位置移动到目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Direct to Li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直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将对象从它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位置移动到一条直线上的通过计算得到的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Direct to Gr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指定区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将对象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当前位置移动到通过计算得到的网格上的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66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5280" y="539640"/>
            <a:ext cx="61300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3  Authorware 5.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动画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8440" y="539640"/>
            <a:ext cx="689868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Path to En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终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沿着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条路径，将对象从当前位置移动到路径的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可以由直线段或曲线段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Path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指定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着路径将对象从当前位置移动到通过计算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上某点。路径可以由直线段或曲线段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595240" y="3657600"/>
            <a:ext cx="42775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3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基本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动画类型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2574000" y="466236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3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个对象的动画设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25440" y="539640"/>
            <a:ext cx="48610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基本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种动画类型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2251440" y="1905120"/>
            <a:ext cx="45331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固定终点的动画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2251440" y="2625840"/>
            <a:ext cx="45331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直线的动画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2464560" y="334476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指定区域的动画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2678040" y="4065480"/>
            <a:ext cx="36799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终点的动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2784600" y="478476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指定点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27280" y="1258920"/>
            <a:ext cx="56610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的例子，程序运行结果为一只小船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右侧驶向屏幕左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先在主流程线上分别使用两个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来存放背景和小船，然后使用一个移动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实现小船的移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22" descr=""/>
          <p:cNvPicPr/>
          <p:nvPr/>
        </p:nvPicPr>
        <p:blipFill>
          <a:blip r:embed="rId1"/>
          <a:stretch/>
        </p:blipFill>
        <p:spPr>
          <a:xfrm>
            <a:off x="3057480" y="3957480"/>
            <a:ext cx="2519280" cy="2535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0212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固定终点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23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4381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9360" y="561960"/>
            <a:ext cx="61729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河流”图标，插入一幅河流图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然后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W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捷键返回流程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11000" y="1096920"/>
            <a:ext cx="19850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1455120" y="2570040"/>
            <a:ext cx="62402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1.1 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主要功能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455120" y="3824280"/>
            <a:ext cx="62402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1.2 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环境与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24" descr=""/>
          <p:cNvPicPr/>
          <p:nvPr/>
        </p:nvPicPr>
        <p:blipFill>
          <a:blip r:embed="rId1"/>
          <a:stretch/>
        </p:blipFill>
        <p:spPr>
          <a:xfrm>
            <a:off x="2698920" y="2698920"/>
            <a:ext cx="3598560" cy="3519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13640" y="539640"/>
            <a:ext cx="66243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小船”图标，插入一幅小船图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图片绘图模式，在混合模式对话框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ansparen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透明模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则小船的白色区域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25" descr=""/>
          <p:cNvPicPr/>
          <p:nvPr/>
        </p:nvPicPr>
        <p:blipFill>
          <a:blip r:embed="rId1"/>
          <a:stretch/>
        </p:blipFill>
        <p:spPr>
          <a:xfrm>
            <a:off x="1438200" y="2698920"/>
            <a:ext cx="6478560" cy="3306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51400" y="561960"/>
            <a:ext cx="752364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流程线后，双击“航行”图标，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“移动图标属性”对话框，系统默认动画类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Poin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固定终点的动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表示整个航行过程需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26" descr=""/>
          <p:cNvPicPr/>
          <p:nvPr/>
        </p:nvPicPr>
        <p:blipFill>
          <a:blip r:embed="rId1"/>
          <a:stretch/>
        </p:blipFill>
        <p:spPr>
          <a:xfrm>
            <a:off x="1438200" y="2158920"/>
            <a:ext cx="6478560" cy="331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48640" y="539640"/>
            <a:ext cx="779436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布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ation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文本框中显示对象的初始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维坐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18840" y="539640"/>
            <a:ext cx="63252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时，用鼠标拖动小船到屏幕的左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发现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na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的坐标随着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当前坐标值。当然也可以直接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中输入确定的坐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主流程线后，单击工具栏上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tar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程序开始运行。程序运行结束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Q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退出运行窗口，或者在运行窗口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|Qui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退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87720" y="1258920"/>
            <a:ext cx="65142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Li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Li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的动画是将对象从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位置移动到一条直线上的通过计算得到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。这种类型的动画需要指定对象移动的起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终点，以及计算对象移动终点所依赖的直线。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象移动的起点就是该对象在演示窗口中的初始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位置，终点是指对象在给定直线上的位置。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类型的移动对象可以利用变量或表达式控制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直线路径上的对象和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直线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47360" y="539640"/>
            <a:ext cx="564264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一个小球为移动对象，如下图所示，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球运动的终点在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所确定的一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线上，即通过计算，对象移到这条直线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na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38560" y="4038480"/>
            <a:ext cx="54900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352680"/>
            <a:ext cx="627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5800" y="48006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27840" y="41148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6400" y="3505320"/>
            <a:ext cx="77760" cy="1676160"/>
            <a:chOff x="5486400" y="3505320"/>
            <a:chExt cx="77760" cy="1676160"/>
          </a:xfrm>
        </p:grpSpPr>
        <p:sp>
          <p:nvSpPr>
            <p:cNvPr id="173" name=""/>
            <p:cNvSpPr/>
            <p:nvPr/>
          </p:nvSpPr>
          <p:spPr>
            <a:xfrm>
              <a:off x="5521320" y="3505320"/>
              <a:ext cx="0" cy="16761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86400" y="4267080"/>
              <a:ext cx="777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887560" y="4038480"/>
            <a:ext cx="549360" cy="53352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36920" y="4038480"/>
            <a:ext cx="55080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4038480"/>
            <a:ext cx="5493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7080" y="4038480"/>
            <a:ext cx="5493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6440" y="4038480"/>
            <a:ext cx="5493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32240" y="4038480"/>
            <a:ext cx="5493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27" descr=""/>
          <p:cNvPicPr/>
          <p:nvPr/>
        </p:nvPicPr>
        <p:blipFill>
          <a:blip r:embed="rId1"/>
          <a:stretch/>
        </p:blipFill>
        <p:spPr>
          <a:xfrm>
            <a:off x="2698920" y="2878200"/>
            <a:ext cx="3598560" cy="3394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077200" y="539640"/>
            <a:ext cx="49356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的例子用来说明点到直线动画是如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演示效果如下图，在屏幕的左侧有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猫，屏幕的右侧有三只老鼠，当输入相应的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鼠编号时，猫扑向相应的老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28" descr=""/>
          <p:cNvPicPr/>
          <p:nvPr/>
        </p:nvPicPr>
        <p:blipFill>
          <a:blip r:embed="rId1"/>
          <a:stretch/>
        </p:blipFill>
        <p:spPr>
          <a:xfrm>
            <a:off x="2878200" y="1619280"/>
            <a:ext cx="3598920" cy="4545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382920" y="539640"/>
            <a:ext cx="252756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流程线设置如下图所示。程序中用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交互图标和计算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99840" y="539640"/>
            <a:ext cx="58741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是制作该动画的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流程线上双击“猫”图标，插入一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猫的图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流程线上双击“老鼠”图标，插入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老鼠的图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中的“复制”图标，将这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老鼠复制到剪贴板中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中的“粘贴”图标，制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只和第三只老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29" descr=""/>
          <p:cNvPicPr/>
          <p:nvPr/>
        </p:nvPicPr>
        <p:blipFill>
          <a:blip r:embed="rId1"/>
          <a:stretch/>
        </p:blipFill>
        <p:spPr>
          <a:xfrm>
            <a:off x="3417840" y="2878200"/>
            <a:ext cx="2158920" cy="3371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70800" y="539640"/>
            <a:ext cx="66852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在弹出的下拉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项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lig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打开对齐方式选择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。选择绘图工具箱中的“选择工具”图标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上所有的老鼠选中，选择“左对齐”图标，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只老鼠排列整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82000" y="1566720"/>
            <a:ext cx="732564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cromedi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公司推出的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制作软件。它允许使用图片、动画、声音和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等信息来创作一个交互式应用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种基于设计图标和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线为结构的编辑平台，同时它还具有丰富的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和程序控制功能，能将编辑系统和编程语言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的融合到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8880" y="539640"/>
            <a:ext cx="71053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1.1  Authorware 5.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主要功能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1" descr=""/>
          <p:cNvPicPr/>
          <p:nvPr/>
        </p:nvPicPr>
        <p:blipFill>
          <a:blip r:embed="rId1"/>
          <a:stretch/>
        </p:blipFill>
        <p:spPr>
          <a:xfrm>
            <a:off x="1438200" y="2338560"/>
            <a:ext cx="6478560" cy="3903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5280" y="539640"/>
            <a:ext cx="811764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文本响应图标，弹出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中分别将各选项如下图所示设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2" descr="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20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70960" y="539640"/>
            <a:ext cx="63255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流程线上的计算图标，在随后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的文本框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:=NumEntr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此表达式的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义是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umEnt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值赋给变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随后弹出的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中设置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itial V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如下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2520" y="561960"/>
            <a:ext cx="72824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移动”图标，在弹出的“移动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属性”对话框中选择动画类型号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in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，将猫拖放到屏幕的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角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按钮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猫抓第一只老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9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终点值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表示抓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只老鼠。此时，可以看到在猫的起点和终点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之间产生一条直线。这条直线为猫运动的范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猫所到的终点只能在这条直线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3" descr=""/>
          <p:cNvPicPr/>
          <p:nvPr/>
        </p:nvPicPr>
        <p:blipFill>
          <a:blip r:embed="rId1"/>
          <a:stretch/>
        </p:blipFill>
        <p:spPr>
          <a:xfrm>
            <a:off x="1438200" y="2878200"/>
            <a:ext cx="6478560" cy="339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38840" y="539640"/>
            <a:ext cx="83494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0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na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其文本框中输入变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对应前面“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”图标中的变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系统将键盘输入值赋给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设置完毕后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确定。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一下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77200" y="125892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Gr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指定区域的动画的制作过程同点到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动画方式的制作过程十分相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指定区域动画的制作与点到直线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制作不同点仅仅在于：点到指定区域动画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目标区域，而点到直线动画需要设置目标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63600" y="539640"/>
            <a:ext cx="2826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到指定区域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77200" y="539640"/>
            <a:ext cx="49356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例用来讲解此类动画是如何设计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图是我们这个实例所要达到的效果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表演一颗足球以任意角度进入球队门的动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4" descr=""/>
          <p:cNvPicPr/>
          <p:nvPr/>
        </p:nvPicPr>
        <p:blipFill>
          <a:blip r:embed="rId1"/>
          <a:stretch/>
        </p:blipFill>
        <p:spPr>
          <a:xfrm>
            <a:off x="1798560" y="2158920"/>
            <a:ext cx="57578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5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5757840" cy="413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85080" y="539640"/>
            <a:ext cx="523404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的制作过程如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先创建的流程线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18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3240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28360" y="561960"/>
            <a:ext cx="739188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人”显示图标，在其中插入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人的图片和一棵树的图片，同时选择菜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File|Propertie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打开“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属性”对话框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ckgroun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框，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颜色调色板“，如下图所示，从选择绿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为足球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2960" y="539640"/>
            <a:ext cx="666684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方向”计算图标，将“计算”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编辑窗口打开，输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postion=(0,60,2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postion=(0,60,10)”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下图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8400" y="3598920"/>
            <a:ext cx="717876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计算图标的编辑窗口，屏幕上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样弹出一个对话框，要求确认是否保存修改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，选择对话框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E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由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pos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pos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新变量，系统会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w Variab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这时设置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itial v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值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作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始值。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完成初始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21" descr=""/>
          <p:cNvPicPr/>
          <p:nvPr/>
        </p:nvPicPr>
        <p:blipFill>
          <a:blip r:embed="rId1"/>
          <a:stretch/>
        </p:blipFill>
        <p:spPr>
          <a:xfrm>
            <a:off x="1978200" y="1978200"/>
            <a:ext cx="5398920" cy="15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20" descr=""/>
          <p:cNvPicPr/>
          <p:nvPr/>
        </p:nvPicPr>
        <p:blipFill>
          <a:blip r:embed="rId1"/>
          <a:stretch/>
        </p:blipFill>
        <p:spPr>
          <a:xfrm>
            <a:off x="1438200" y="2517840"/>
            <a:ext cx="6478560" cy="3313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1200" y="561960"/>
            <a:ext cx="81633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移动”图标，弹出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Motion Ic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im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图中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打开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列表，在其中选择动画类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Gr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2040" y="890640"/>
            <a:ext cx="8306280" cy="3984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以往的版本相比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许多新的功能特点，主要表现在以下几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Voxware Encoder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压缩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消除锯齿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lpha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知识对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Knowledge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批处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QuickTime3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lash Asset X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网络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19" descr=""/>
          <p:cNvPicPr/>
          <p:nvPr/>
        </p:nvPicPr>
        <p:blipFill>
          <a:blip r:embed="rId1"/>
          <a:stretch/>
        </p:blipFill>
        <p:spPr>
          <a:xfrm>
            <a:off x="1978200" y="3778200"/>
            <a:ext cx="5398920" cy="2765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74080" y="539640"/>
            <a:ext cx="75196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足球拖放到屏幕的右上方，设置好基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n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按钮，在其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框中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把足球拖放到下方的树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na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按钮，在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分别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pos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po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个变量，设置完毕后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70480" y="1278000"/>
            <a:ext cx="560016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9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工具栏上的运行按钮，程序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，足球永远会进入球门，足球移动的范围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终在所设的矩形范围内，当重复按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捷键不断运行，对象每次到达的位置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的控制下几乎不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72120" y="1582560"/>
            <a:ext cx="63010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En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En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指移动对象沿着任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运动路线移动到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通过一个具体的实例来说明沿路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制作，具体的内容是制作一个投篮过程的动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26520" y="539640"/>
            <a:ext cx="32529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终点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27280" y="539640"/>
            <a:ext cx="56610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提出的动画要求，创建如下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流程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29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15" descr=""/>
          <p:cNvPicPr/>
          <p:nvPr/>
        </p:nvPicPr>
        <p:blipFill>
          <a:blip r:embed="rId1"/>
          <a:stretch/>
        </p:blipFill>
        <p:spPr>
          <a:xfrm>
            <a:off x="1798560" y="1978200"/>
            <a:ext cx="5757840" cy="41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12" descr=""/>
          <p:cNvPicPr/>
          <p:nvPr/>
        </p:nvPicPr>
        <p:blipFill>
          <a:blip r:embed="rId1"/>
          <a:stretch/>
        </p:blipFill>
        <p:spPr>
          <a:xfrm>
            <a:off x="2517840" y="1619280"/>
            <a:ext cx="4317840" cy="3214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07760" y="561960"/>
            <a:ext cx="58741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篮框一”图标，利用绘图工具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绘制一个篮框，并插入一幅背景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99840" y="4879800"/>
            <a:ext cx="58741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篮球”图标，插入一幅篮球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14" descr=""/>
          <p:cNvPicPr/>
          <p:nvPr/>
        </p:nvPicPr>
        <p:blipFill>
          <a:blip r:embed="rId1"/>
          <a:stretch/>
        </p:blipFill>
        <p:spPr>
          <a:xfrm>
            <a:off x="2338560" y="3238560"/>
            <a:ext cx="4317840" cy="3246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51280" y="539640"/>
            <a:ext cx="696528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篮框二”图标，插入一幅半个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的图片。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Icon|Properties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:Display Ic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的值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设置完毕后，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定。这半个篮框就能挡住篮球，以使篮球在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篮框时，如同进入篮框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6" descr=""/>
          <p:cNvPicPr/>
          <p:nvPr/>
        </p:nvPicPr>
        <p:blipFill>
          <a:blip r:embed="rId1"/>
          <a:stretch/>
        </p:blipFill>
        <p:spPr>
          <a:xfrm>
            <a:off x="1438200" y="2338560"/>
            <a:ext cx="6478560" cy="3323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24560" y="561960"/>
            <a:ext cx="713628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投球”移动图标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签中，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列表中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En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，输入运动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7" descr=""/>
          <p:cNvPicPr/>
          <p:nvPr/>
        </p:nvPicPr>
        <p:blipFill>
          <a:blip r:embed="rId1"/>
          <a:stretch/>
        </p:blipFill>
        <p:spPr>
          <a:xfrm>
            <a:off x="2338560" y="3238560"/>
            <a:ext cx="4317840" cy="3338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325880" y="539640"/>
            <a:ext cx="64476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，选择篮球，此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标下方出现一个三角标志。将对话框下移以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遮住工作窗口，然后用鼠标把篮球拖放到合适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置，松开鼠标便产生了另一个三角标志，用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样的方法产生其他的节点。这些节点连接起来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成了运动路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9" descr=""/>
          <p:cNvPicPr/>
          <p:nvPr/>
        </p:nvPicPr>
        <p:blipFill>
          <a:blip r:embed="rId1"/>
          <a:stretch/>
        </p:blipFill>
        <p:spPr>
          <a:xfrm>
            <a:off x="2517840" y="3238560"/>
            <a:ext cx="4317840" cy="3241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27280" y="539640"/>
            <a:ext cx="56610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路径上某一个三角标志，三角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志会变成图形标志，此时直线就会变为圆弧。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代表该点两侧是用直线相连，圆形标志代表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两侧是曲线圆滑过渡。设置完成后将此文件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ll.a5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效果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64920" y="1258920"/>
            <a:ext cx="59598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指定点动画的设置与沿任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到终点的动画相似，区别在于：沿任意路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指定点动画可以选择路径上的任意一点作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画的目标点，而沿任意路径到终点的动画则是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移动的对象只能沿路径一次到达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下引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ll.a5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个例子，对其进行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的修改来制作投篮命中的那一精彩时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任意路径到指定点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3440" y="539640"/>
            <a:ext cx="73490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1.2  Authoreware 5.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运行环境与安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2039400" y="2209680"/>
            <a:ext cx="5173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环境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2145960" y="3290760"/>
            <a:ext cx="4959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安装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2103480" y="4370400"/>
            <a:ext cx="5045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和退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39840" y="539640"/>
            <a:ext cx="66848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硬盘中调出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ll.a5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将它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all1.a5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然后拖放一个计算图标到“篮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”和“投篮”之间，将其命名为“停止”，然后双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图标，在弹出的编辑框中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:=44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此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时，提示设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量的初始值，设定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E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保存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21" descr=""/>
          <p:cNvPicPr/>
          <p:nvPr/>
        </p:nvPicPr>
        <p:blipFill>
          <a:blip r:embed="rId1"/>
          <a:stretch/>
        </p:blipFill>
        <p:spPr>
          <a:xfrm>
            <a:off x="2517840" y="3238560"/>
            <a:ext cx="4317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22" descr=""/>
          <p:cNvPicPr/>
          <p:nvPr/>
        </p:nvPicPr>
        <p:blipFill>
          <a:blip r:embed="rId1"/>
          <a:stretch/>
        </p:blipFill>
        <p:spPr>
          <a:xfrm>
            <a:off x="1438200" y="2698920"/>
            <a:ext cx="6478560" cy="329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48240" y="561960"/>
            <a:ext cx="713628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投篮”图标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类型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Poin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然后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stina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中输入新变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,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20" descr=""/>
          <p:cNvPicPr/>
          <p:nvPr/>
        </p:nvPicPr>
        <p:blipFill>
          <a:blip r:embed="rId1"/>
          <a:stretch/>
        </p:blipFill>
        <p:spPr>
          <a:xfrm>
            <a:off x="1619280" y="2158920"/>
            <a:ext cx="5757840" cy="4330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486440" y="539640"/>
            <a:ext cx="57708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运行”按钮运行程序，也可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trl+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程序，篮球在路径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=4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位置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止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20360" y="539640"/>
            <a:ext cx="41792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3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个对象的动画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97040" y="1600200"/>
            <a:ext cx="58989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面所讲的动画对象都是只有一个，在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面往往显得有些单调。其实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方面支持多个对象的同时运动，下面的例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制作一个圣诞老人送礼物的例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56000" y="539640"/>
            <a:ext cx="544752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先制作出如下图所示的流程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23" descr=""/>
          <p:cNvPicPr/>
          <p:nvPr/>
        </p:nvPicPr>
        <p:blipFill>
          <a:blip r:embed="rId1"/>
          <a:stretch/>
        </p:blipFill>
        <p:spPr>
          <a:xfrm>
            <a:off x="1798560" y="1258920"/>
            <a:ext cx="5757840" cy="50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24" descr=""/>
          <p:cNvPicPr/>
          <p:nvPr/>
        </p:nvPicPr>
        <p:blipFill>
          <a:blip r:embed="rId1"/>
          <a:stretch/>
        </p:blipFill>
        <p:spPr>
          <a:xfrm>
            <a:off x="1798560" y="2517840"/>
            <a:ext cx="5757840" cy="2938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94960" y="539640"/>
            <a:ext cx="56365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“飞翔”移动图标，设置动画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飞行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，将圣诞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从屏幕左方拖放到屏幕右方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设置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时进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840" y="539640"/>
            <a:ext cx="80326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圣诞老人”显示图标中加入圣诞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图片，在“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分别加入礼物图片。双击“等待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等待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图标，设置等待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别把“送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送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移动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设置动画类型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th to En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飞行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c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设置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“送礼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移动图标设置动画类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Po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飞行时间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。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currenc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设置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it Until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25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5757840" cy="4322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04840" y="539640"/>
            <a:ext cx="25945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编辑完毕，运行程序。屏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的效果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3160" y="539640"/>
            <a:ext cx="58860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4  Authorware 5.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互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2251080" y="2057400"/>
            <a:ext cx="45334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4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分支和交互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2571120" y="2778120"/>
            <a:ext cx="38934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4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关交互对话框的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1931400" y="3497400"/>
            <a:ext cx="517356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4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类型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4" action="ppaction://hlinksldjump"/>
          </p:cNvPr>
          <p:cNvSpPr/>
          <p:nvPr/>
        </p:nvSpPr>
        <p:spPr>
          <a:xfrm>
            <a:off x="3556440" y="4218120"/>
            <a:ext cx="192276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4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、影视信息的加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5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71836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4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建分支和交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00840" y="1258920"/>
            <a:ext cx="608796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交互功能主要是通过交互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来实现的，使用交互图标来建立各种类型的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图标本身兼有显示图标和定向图标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功能：一方面它具有存储交互作用和显示信息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力；另一方面它具有强大的分支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交互图标可以允许在多个分支，下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如何加入新分支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756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7320" y="1258920"/>
            <a:ext cx="7538400" cy="48376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硬件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于机器的硬件配置要求较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来说，不应低于以下配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86CP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少支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40×4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显示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硬盘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声卡、音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平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既可运行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也可运行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cintos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14520" y="539640"/>
            <a:ext cx="61117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图标栏中将一个显示图标拖放至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图标的右侧释放。该图标便会自动被分支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连接起来，同时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 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。用户只需要单击所需的响应类型单选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然后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K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即可完成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26" descr=""/>
          <p:cNvPicPr/>
          <p:nvPr/>
        </p:nvPicPr>
        <p:blipFill>
          <a:blip r:embed="rId1"/>
          <a:stretch/>
        </p:blipFill>
        <p:spPr>
          <a:xfrm>
            <a:off x="2158920" y="3057480"/>
            <a:ext cx="503892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727280" y="1049400"/>
            <a:ext cx="56610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交互作用分支结构中，双击各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响应类型按钮，在弹出的对话框中分别选择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的响应类型，其各自的响应类型按钮相应地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出不同的标记符号，每个符号代表相应响应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6400" y="539640"/>
            <a:ext cx="87609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程序中一般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反馈分支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y Aga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tinu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it Interac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ry Aga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支类型时，程序流向将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支结构中，等待用户执行另外一个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tinu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支类型时，程序流向沿原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返回，期待下一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it Interac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时，执行完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内容后，程序退出交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上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反馈分支类型如下页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27" descr=""/>
          <p:cNvPicPr/>
          <p:nvPr/>
        </p:nvPicPr>
        <p:blipFill>
          <a:blip r:embed="rId2"/>
          <a:stretch/>
        </p:blipFill>
        <p:spPr>
          <a:xfrm>
            <a:off x="2832120" y="685800"/>
            <a:ext cx="3340080" cy="53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28" descr=""/>
          <p:cNvPicPr/>
          <p:nvPr/>
        </p:nvPicPr>
        <p:blipFill>
          <a:blip r:embed="rId1"/>
          <a:stretch/>
        </p:blipFill>
        <p:spPr>
          <a:xfrm>
            <a:off x="2158920" y="3417840"/>
            <a:ext cx="5038920" cy="2927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10880" y="539640"/>
            <a:ext cx="70934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面对交互图标属性对话框中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选项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介绍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个交互图标拖放到设计窗口的主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上，选中交互图标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|Icon|Properties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项，将交互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属性对话框激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32" descr=""/>
          <p:cNvPicPr/>
          <p:nvPr/>
        </p:nvPicPr>
        <p:blipFill>
          <a:blip r:embed="rId1"/>
          <a:stretch/>
        </p:blipFill>
        <p:spPr>
          <a:xfrm>
            <a:off x="1798560" y="2517840"/>
            <a:ext cx="5757840" cy="3328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601720" y="539640"/>
            <a:ext cx="44229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4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关交互对话框的选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83960" y="1258920"/>
            <a:ext cx="672804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“Interacti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的选项设置。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01880" y="539640"/>
            <a:ext cx="71118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“Era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下拉列表选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pon Ex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退出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退出该交互图标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交互图标里的显示内容擦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fter Next Entry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入下一个分支前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给出响应后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进入下一分支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交互图标里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on’t Erase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擦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不擦除该交互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内容，除非使用擦除图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“Era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擦除过渡方式：选择该项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“…”，可以决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擦除交互图标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对象时采用的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86680" y="539640"/>
            <a:ext cx="7453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“Option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use Before Exit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执行完交互图标后，会暂停下来，以便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看清屏幕上的显示内容，然后可按任意键继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。若同时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how Butt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选框，屏幕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显示一个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ntinue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选择它也可以继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29" descr=""/>
          <p:cNvPicPr/>
          <p:nvPr/>
        </p:nvPicPr>
        <p:blipFill>
          <a:blip r:embed="rId1"/>
          <a:stretch/>
        </p:blipFill>
        <p:spPr>
          <a:xfrm>
            <a:off x="1798560" y="1619280"/>
            <a:ext cx="5757840" cy="3351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97440" y="539640"/>
            <a:ext cx="63010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“Display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的选项设置。如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94280" y="5037120"/>
            <a:ext cx="630108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“Laye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层次：使用层次输入框给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图标分配一个显示层次，来决定该交互图标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49520" y="539640"/>
            <a:ext cx="779436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“Options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组中的各选项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pdate Displayed Variables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如果屏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上有被显示的变量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保持监视该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量。当变量值发生变化时，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把这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随时反映在屏幕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xclude Text from Searc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若设置了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个文字查找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屏蔽本图标中文本对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vent Automatic Eras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防止其他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中设置的自动擦除功能将交互图标的内容擦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rase Previous Content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擦除前面的所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 to Screen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直接写屏，其中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近覆盖前面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5480" y="1258920"/>
            <a:ext cx="72824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的安装步骤如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将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光盘放入光驱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SETUP.EX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后双击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安装向导界面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的安装程序后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Nex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继续后面的安装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在出现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的许可协议后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Y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进入下一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此时，安装程序提供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种安装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Typical(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典型安装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Compact(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最小化安装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Cust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自定义安装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71520" y="539640"/>
            <a:ext cx="4959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安装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30" descr=""/>
          <p:cNvPicPr/>
          <p:nvPr/>
        </p:nvPicPr>
        <p:blipFill>
          <a:blip r:embed="rId1"/>
          <a:stretch/>
        </p:blipFill>
        <p:spPr>
          <a:xfrm>
            <a:off x="1438200" y="1258920"/>
            <a:ext cx="6478560" cy="3763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315440" y="539640"/>
            <a:ext cx="608760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“Layou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设置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33600" y="539640"/>
            <a:ext cx="604836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“Positioning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o Chang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总是在目前所在的位置出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可能出现在屏幕上任意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Pat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会出现在预定轨迹上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起点和终点间的某一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 Are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对象会出现在预定区域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某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Movable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v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不可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n Scre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可在屏幕上任意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nywhe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移动可超出屏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In Area</a:t>
            </a:r>
            <a:r>
              <a:rPr b="0" sz="2800" spc="-1" strike="noStrike">
                <a:solidFill>
                  <a:srgbClr val="000000"/>
                </a:solidFill>
                <a:latin typeface="隶书"/>
                <a:ea typeface="隶书"/>
              </a:rPr>
              <a:t>：只能在设定的矩形范围内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1" descr=""/>
          <p:cNvPicPr/>
          <p:nvPr/>
        </p:nvPicPr>
        <p:blipFill>
          <a:blip r:embed="rId1"/>
          <a:stretch/>
        </p:blipFill>
        <p:spPr>
          <a:xfrm>
            <a:off x="1438200" y="1619280"/>
            <a:ext cx="6478560" cy="3753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85800" y="539640"/>
            <a:ext cx="430200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CMI”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06040" y="539640"/>
            <a:ext cx="732564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teraction 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把用户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IAddInteraction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中输入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号用为交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bjective 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把用户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IAddInteraction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中输入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号作为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。若此文本框为空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将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标题用为目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eigh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把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IAddInteraction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中输入的值作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的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把用户所设的下拉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或输入的函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IAddInteraction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作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76200" y="539640"/>
            <a:ext cx="29599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4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互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11760" y="1258920"/>
            <a:ext cx="651420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的交互响应类型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2057400" y="2266920"/>
            <a:ext cx="4832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Button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2057760" y="3166920"/>
            <a:ext cx="48319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Hot Spo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热区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2164320" y="4067280"/>
            <a:ext cx="4618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Hot Objec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热对象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>
            <a:off x="2057760" y="4967280"/>
            <a:ext cx="48319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Target Area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标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2116080" y="2638440"/>
            <a:ext cx="5045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Text Entry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输入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1902600" y="1738440"/>
            <a:ext cx="5472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Key Press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1902600" y="3538440"/>
            <a:ext cx="5472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. Time Lim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1902600" y="4437000"/>
            <a:ext cx="5472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. Tries Lim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尝试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1902600" y="5337000"/>
            <a:ext cx="5472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. Pull-down Menu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拉菜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1902600" y="838080"/>
            <a:ext cx="5472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Conditional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条件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33680" y="1258920"/>
            <a:ext cx="76482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响应是最基本的交互形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拖放一个计算图标于交互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右侧，命名为“退出”。随后屏幕上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 Typ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utt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完成按钮响应类型的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33" descr=""/>
          <p:cNvPicPr/>
          <p:nvPr/>
        </p:nvPicPr>
        <p:blipFill>
          <a:blip r:embed="rId1"/>
          <a:stretch/>
        </p:blipFill>
        <p:spPr>
          <a:xfrm>
            <a:off x="3057480" y="3598920"/>
            <a:ext cx="2519280" cy="2622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883240" y="539640"/>
            <a:ext cx="35521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Button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响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34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3895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27280" y="539640"/>
            <a:ext cx="56610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此分支的响应类型标识符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opertie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espons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35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4351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2800" y="539640"/>
            <a:ext cx="7623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utton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弹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utt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，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view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框中显示按钮的样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36" descr=""/>
          <p:cNvPicPr/>
          <p:nvPr/>
        </p:nvPicPr>
        <p:blipFill>
          <a:blip r:embed="rId1"/>
          <a:stretch/>
        </p:blipFill>
        <p:spPr>
          <a:xfrm>
            <a:off x="1438200" y="1978200"/>
            <a:ext cx="6478560" cy="4398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215360" y="539640"/>
            <a:ext cx="668484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view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中所列的按钮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想加入自已做的按钮，可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dd…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入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utton Edito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0:45:06Z</dcterms:created>
  <dc:creator>suying</dc:creator>
  <dc:description/>
  <dc:language>en-US</dc:language>
  <cp:lastModifiedBy>superbrain</cp:lastModifiedBy>
  <dcterms:modified xsi:type="dcterms:W3CDTF">2001-10-17T04:37:16Z</dcterms:modified>
  <cp:revision>303</cp:revision>
  <dc:subject/>
  <dc:title>第6章 基于流程图的创作工具Authorware 5.0</dc:title>
</cp:coreProperties>
</file>