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Drip01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image" Target="../media/image13.jpeg"/><Relationship Id="rId4" Type="http://schemas.openxmlformats.org/officeDocument/2006/relationships/slide" Target=""/><Relationship Id="rId5" Type="http://schemas.openxmlformats.org/officeDocument/2006/relationships/image" Target="../media/image13.jpeg"/><Relationship Id="rId6" Type="http://schemas.openxmlformats.org/officeDocument/2006/relationships/slide" Target="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7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7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7.jpeg"/><Relationship Id="rId8" Type="http://schemas.openxmlformats.org/officeDocument/2006/relationships/hyperlink" Target="file:///tmp/home/.config/libreoffice/4/user/gallery/Thud8.WAV" TargetMode="External"/><Relationship Id="rId9" Type="http://schemas.openxmlformats.org/officeDocument/2006/relationships/image" Target="../media/image7.jpeg"/><Relationship Id="rId10" Type="http://schemas.openxmlformats.org/officeDocument/2006/relationships/hyperlink" Target="file:///tmp/home/.config/libreoffice/4/user/gallery/Drip01.WAV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8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8.jpeg"/><Relationship Id="rId8" Type="http://schemas.openxmlformats.org/officeDocument/2006/relationships/hyperlink" Target="file:///tmp/home/.config/libreoffice/4/user/gallery/Thud8.WAV" TargetMode="External"/><Relationship Id="rId9" Type="http://schemas.openxmlformats.org/officeDocument/2006/relationships/image" Target="../media/image8.jpeg"/><Relationship Id="rId10" Type="http://schemas.openxmlformats.org/officeDocument/2006/relationships/hyperlink" Target="file:///tmp/home/.config/libreoffice/4/user/gallery/Thud8.WAV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13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13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13.jpeg"/><Relationship Id="rId8" Type="http://schemas.openxmlformats.org/officeDocument/2006/relationships/hyperlink" Target="file:///tmp/home/.config/libreoffice/4/user/gallery/Thud8.WAV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file:///tmp/home/.config/libreoffice/4/user/gallery/Thud8.WAV" TargetMode="External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8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8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8.jpeg"/><Relationship Id="rId8" Type="http://schemas.openxmlformats.org/officeDocument/2006/relationships/hyperlink" Target="file:///tmp/home/.config/libreoffice/4/user/gallery/Thud8.WAV" TargetMode="External"/><Relationship Id="rId9" Type="http://schemas.openxmlformats.org/officeDocument/2006/relationships/image" Target="../media/image8.jpeg"/><Relationship Id="rId10" Type="http://schemas.openxmlformats.org/officeDocument/2006/relationships/hyperlink" Target="file:///tmp/home/.config/libreoffice/4/user/gallery/Thud8.WAV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file:///tmp/home/.config/libreoffice/4/user/gallery/Thud8.WAV" TargetMode="Externa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hyperlink" Target="file:///tmp/home/.config/libreoffice/4/user/gallery/Drip01.WAV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8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" Target=""/><Relationship Id="rId5" Type="http://schemas.openxmlformats.org/officeDocument/2006/relationships/image" Target="../media/image16.jpeg"/><Relationship Id="rId6" Type="http://schemas.openxmlformats.org/officeDocument/2006/relationships/slide" Target="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8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slide" Target="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image" Target="../media/image5.jpeg"/><Relationship Id="rId6" Type="http://schemas.openxmlformats.org/officeDocument/2006/relationships/slide" Target=""/><Relationship Id="rId7" Type="http://schemas.openxmlformats.org/officeDocument/2006/relationships/image" Target="../media/image5.jpeg"/><Relationship Id="rId8" Type="http://schemas.openxmlformats.org/officeDocument/2006/relationships/slide" Target=""/><Relationship Id="rId9" Type="http://schemas.openxmlformats.org/officeDocument/2006/relationships/image" Target="../media/image5.jpeg"/><Relationship Id="rId10" Type="http://schemas.openxmlformats.org/officeDocument/2006/relationships/slide" Target=""/><Relationship Id="rId11" Type="http://schemas.openxmlformats.org/officeDocument/2006/relationships/image" Target="../media/image5.jpeg"/><Relationship Id="rId12" Type="http://schemas.openxmlformats.org/officeDocument/2006/relationships/slide" Target=""/><Relationship Id="rId13" Type="http://schemas.openxmlformats.org/officeDocument/2006/relationships/image" Target="../media/image5.jpeg"/><Relationship Id="rId14" Type="http://schemas.openxmlformats.org/officeDocument/2006/relationships/hyperlink" Target="file:///tmp/home/.config/libreoffice/4/user/gallery/Drip01.WAV" TargetMode="Externa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7.jpeg"/><Relationship Id="rId8" Type="http://schemas.openxmlformats.org/officeDocument/2006/relationships/slide" Target=""/><Relationship Id="rId9" Type="http://schemas.openxmlformats.org/officeDocument/2006/relationships/image" Target="../media/image7.jpeg"/><Relationship Id="rId10" Type="http://schemas.openxmlformats.org/officeDocument/2006/relationships/hyperlink" Target="file:///tmp/home/.config/libreoffice/4/user/gallery/Drip01.WAV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8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image" Target="../media/image13.jpeg"/><Relationship Id="rId4" Type="http://schemas.openxmlformats.org/officeDocument/2006/relationships/slide" Target=""/><Relationship Id="rId5" Type="http://schemas.openxmlformats.org/officeDocument/2006/relationships/image" Target="../media/image13.jpeg"/><Relationship Id="rId6" Type="http://schemas.openxmlformats.org/officeDocument/2006/relationships/slide" Target=""/><Relationship Id="rId7" Type="http://schemas.openxmlformats.org/officeDocument/2006/relationships/image" Target="../media/image13.jpeg"/><Relationship Id="rId8" Type="http://schemas.openxmlformats.org/officeDocument/2006/relationships/slide" Target="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8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" Target=""/><Relationship Id="rId5" Type="http://schemas.openxmlformats.org/officeDocument/2006/relationships/image" Target="../media/image16.jpeg"/><Relationship Id="rId6" Type="http://schemas.openxmlformats.org/officeDocument/2006/relationships/slide" Target=""/><Relationship Id="rId7" Type="http://schemas.openxmlformats.org/officeDocument/2006/relationships/image" Target="../media/image16.jpeg"/><Relationship Id="rId8" Type="http://schemas.openxmlformats.org/officeDocument/2006/relationships/slide" Target="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image" Target="../media/image7.jpeg"/><Relationship Id="rId5" Type="http://schemas.openxmlformats.org/officeDocument/2006/relationships/slide" Target=""/><Relationship Id="rId6" Type="http://schemas.openxmlformats.org/officeDocument/2006/relationships/image" Target="../media/image7.jpeg"/><Relationship Id="rId7" Type="http://schemas.openxmlformats.org/officeDocument/2006/relationships/slide" Target=""/><Relationship Id="rId8" Type="http://schemas.openxmlformats.org/officeDocument/2006/relationships/image" Target="../media/image7.jpeg"/><Relationship Id="rId9" Type="http://schemas.openxmlformats.org/officeDocument/2006/relationships/slide" Target=""/><Relationship Id="rId10" Type="http://schemas.openxmlformats.org/officeDocument/2006/relationships/image" Target="../media/image7.jpeg"/><Relationship Id="rId11" Type="http://schemas.openxmlformats.org/officeDocument/2006/relationships/slide" Target=""/><Relationship Id="rId12" Type="http://schemas.openxmlformats.org/officeDocument/2006/relationships/image" Target="../media/image7.jpeg"/><Relationship Id="rId13" Type="http://schemas.openxmlformats.org/officeDocument/2006/relationships/hyperlink" Target="file:///tmp/home/.config/libreoffice/4/user/gallery/Drip01.WAV" TargetMode="External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8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8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7.jpeg"/><Relationship Id="rId8" Type="http://schemas.openxmlformats.org/officeDocument/2006/relationships/slide" Target=""/><Relationship Id="rId9" Type="http://schemas.openxmlformats.org/officeDocument/2006/relationships/image" Target="../media/image7.jpeg"/><Relationship Id="rId10" Type="http://schemas.openxmlformats.org/officeDocument/2006/relationships/hyperlink" Target="file:///tmp/home/.config/libreoffice/4/user/gallery/Drip01.WAV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8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image" Target="../media/image24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24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24.jpeg"/><Relationship Id="rId8" Type="http://schemas.openxmlformats.org/officeDocument/2006/relationships/hyperlink" Target="file:///tmp/home/.config/libreoffice/4/user/gallery/Thud8.WAV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8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8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7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7.jpeg"/><Relationship Id="rId6" Type="http://schemas.openxmlformats.org/officeDocument/2006/relationships/hyperlink" Target="file:///tmp/home/.config/libreoffice/4/user/gallery/Drip01.WAV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8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image" Target="../media/image8.jpeg"/><Relationship Id="rId6" Type="http://schemas.openxmlformats.org/officeDocument/2006/relationships/hyperlink" Target="file:///tmp/home/.config/libreoffice/4/user/gallery/Thud8.WAV" TargetMode="External"/><Relationship Id="rId7" Type="http://schemas.openxmlformats.org/officeDocument/2006/relationships/image" Target="../media/image8.jpeg"/><Relationship Id="rId8" Type="http://schemas.openxmlformats.org/officeDocument/2006/relationships/hyperlink" Target="file:///tmp/home/.config/libreoffice/4/user/gallery/Thud8.WAV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105200" y="1523880"/>
            <a:ext cx="696528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二章  多媒体的硬件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软件环境的建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>
            <a:hlinkClick r:id="rId3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90720" y="4114800"/>
            <a:ext cx="7238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89840" y="539640"/>
            <a:ext cx="5532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卡是通过插入主板扩展槽中与主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相连。卡上的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出接口可以与摄像机、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碟机、录像机和电视机等设备相连。视频卡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集来自输入设备的视频信号，并完成由模拟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数字量的转换、压缩，以数字化形式存入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算机中，数字视频可在计算机中进行播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存储器由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和光盘片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。光盘片是一种大容量的存储设备，可存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任何多媒体信息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用来读取光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的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2402640" y="539640"/>
            <a:ext cx="44910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结构和读写原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14320" y="1258920"/>
            <a:ext cx="566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是用塑料压制成的圆盘，盘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直径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0m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中心定位孔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5m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厚度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2m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用单面存储数据，另一面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印刷商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的最上层是涂了漆的保护层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该层上印有商标。第二层是铝反射层，当驱动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读光盘时用来反射激光光束。第三层是用聚碳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脂压制的透明衬底，同时压制出的预刻槽用来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道径向定位，信息通常存储在光道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671840" y="539640"/>
            <a:ext cx="5746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的信息是沿着盘面由内向外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旋形信息轨道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道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一系列凹坑的形式存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。光道上不论内圈还是外圈，各处的存储密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一样的。光道的间距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μ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光道宽度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.6μ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光道上凹坑深约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.12μ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上记录信息时，使用功率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强的激光光源，将其聚集成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μ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光，照射到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质表面上，并用输入数据来调制光的强弱。激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束会使介质表面的微小区域温度升高，从而产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微小的凹坑，于是改变了表面的反射性质，该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叫做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烧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778760" y="539640"/>
            <a:ext cx="5805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读光盘时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的激光器发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激光束经透镜整形和聚焦后照在螺旋磁道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光道进行扫描。由于从凹坑和非凹坑反射回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激光强度不同，在边沿发生突变，通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光电检测器检测出来，从而读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现原来烧蚀在光道上的信息。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注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凹坑和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凹坑本身并不代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而是凹坑端部的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沿和后沿代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其它代表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619280" y="4138560"/>
            <a:ext cx="6019560" cy="2273040"/>
            <a:chOff x="1619280" y="4138560"/>
            <a:chExt cx="6019560" cy="2273040"/>
          </a:xfrm>
        </p:grpSpPr>
        <p:sp>
          <p:nvSpPr>
            <p:cNvPr id="627" name=""/>
            <p:cNvSpPr/>
            <p:nvPr/>
          </p:nvSpPr>
          <p:spPr>
            <a:xfrm>
              <a:off x="1619280" y="4657680"/>
              <a:ext cx="60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74360" y="4734000"/>
              <a:ext cx="59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 0 0 1 0 0 1 0 0 0 0 0 1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33920" y="413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光盘底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19280" y="5267160"/>
              <a:ext cx="6019560" cy="304920"/>
            </a:xfrm>
            <a:custGeom>
              <a:avLst/>
              <a:gdLst/>
              <a:ahLst/>
              <a:rect l="l" t="t" r="r" b="b"/>
              <a:pathLst>
                <a:path w="3744" h="240">
                  <a:moveTo>
                    <a:pt x="0" y="240"/>
                  </a:moveTo>
                  <a:lnTo>
                    <a:pt x="432" y="240"/>
                  </a:lnTo>
                  <a:lnTo>
                    <a:pt x="432" y="0"/>
                  </a:lnTo>
                  <a:lnTo>
                    <a:pt x="1104" y="0"/>
                  </a:lnTo>
                  <a:lnTo>
                    <a:pt x="1104" y="240"/>
                  </a:lnTo>
                  <a:lnTo>
                    <a:pt x="1776" y="240"/>
                  </a:lnTo>
                  <a:lnTo>
                    <a:pt x="1776" y="0"/>
                  </a:lnTo>
                  <a:lnTo>
                    <a:pt x="3120" y="0"/>
                  </a:lnTo>
                  <a:lnTo>
                    <a:pt x="3120" y="240"/>
                  </a:lnTo>
                  <a:lnTo>
                    <a:pt x="3744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57560" y="5648400"/>
              <a:ext cx="0" cy="38088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7280" y="5891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激光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2768040" y="539640"/>
            <a:ext cx="34239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规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4800" y="1258920"/>
            <a:ext cx="7367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光盘的信息存储标准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和用途如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D-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DA(CD-Digital Audio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是数字激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，用来存储音乐歌曲等。它的信息存放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是根据国际标准化组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SO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红皮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ook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义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存放标准是根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S0966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黄皮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Yellow Book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义的。主要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于作为计算机的辅助存储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520560" y="539640"/>
            <a:ext cx="8074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D-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I(CD-Interactive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规格的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础上补充了音频、视频和计算机程序方面的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可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式光盘系统中播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D-ROM/X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Extended Architec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/X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扩充了对数字音频信号的编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间的“桥梁”型产品，实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声音、视像和文字等资料同时存放在光盘片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一轨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D-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V(CD-Video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常称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用来记录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视频数据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/X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式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EG-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保存视频和音频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583720" y="539640"/>
            <a:ext cx="44910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的安装与使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14320" y="1978200"/>
            <a:ext cx="566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根据安装方式分，有内置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外置式两种；按与计算机的接口方式分，主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C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；按数据传输率分，分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速、倍速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速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速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速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速度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39880" y="467820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 CD-ROM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驱动器前面板的功能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前面板如下页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09360" y="1258920"/>
            <a:ext cx="38930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的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93760" y="3957480"/>
            <a:ext cx="47466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面板的功能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CD-ROM" descr=""/>
          <p:cNvPicPr/>
          <p:nvPr/>
        </p:nvPicPr>
        <p:blipFill>
          <a:blip r:embed="rId1"/>
          <a:stretch/>
        </p:blipFill>
        <p:spPr>
          <a:xfrm>
            <a:off x="1978200" y="539640"/>
            <a:ext cx="5398920" cy="278460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1702800" y="3417840"/>
            <a:ext cx="604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停止按钮用来打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的托盘，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盘是为放光盘设计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读盘忙标志指示灯亮时，表示驱动器正在读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耳机插口插入耳机可以直接收听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信息。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耳机音量旋钮可以调节耳机的音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小。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选择按钮用来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的播放和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选择进行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599120" y="539640"/>
            <a:ext cx="5916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驱动器后面板的功能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的内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为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源连接插口用于连接电源，可将机箱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的直流电源引出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芯标准插头插入该插口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电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线连接插口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针插头插入该口，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扁平电缆与硬盘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电缆并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跳线用于设置光驱的工作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这个跳线槽中有三组并列的针，可设置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主方式”或“从方式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信号输出插口可通过音频线直接与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卡上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 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座相连。当播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将音频信号接入声卡，经声卡放大后输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446480" y="539640"/>
            <a:ext cx="6044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驱动器安装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计算机及所有外设的电源并放掉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的静电后打开主机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卸下一个空闲的用于安装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2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英寸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器的挡板，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固定在机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支架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连接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跳线方式为主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连接数据线，将光驱的数据线接入第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连接数字音频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完毕后重新盖好机箱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随机附带的驱动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389760" y="539640"/>
            <a:ext cx="21866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光盘的保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53360" y="1258920"/>
            <a:ext cx="5386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的保养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护光盘不受强光照射，避免将光盘存放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热、过冷或潮湿的地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必须放在专用的容器内保存而不能把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们堆放或叠放在一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需要把光盘放入计算机光盘驱动器中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阅读时，要用手指托住光盘的里、外边缘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避免指印，并且使标记面朝上，然后放入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驱动器的托盘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若光盘变脏，可用一块微湿的柔软棉布从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心向边缘轻轻擦拭，不能沿圆形轨边擦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4320" y="539640"/>
            <a:ext cx="28267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多媒体个人计算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3720" y="1258920"/>
            <a:ext cx="73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个人计算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Multimedia Pers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mpute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简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C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是指具有多媒体功能的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计算机。它是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基础上增加一些硬件板卡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相应软件，使其具有综合处理文字、声音、图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等多种媒体信息的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2221560" y="3598920"/>
            <a:ext cx="32529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基本硬件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2008440" y="4317840"/>
            <a:ext cx="36795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技术标准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1794960" y="5037120"/>
            <a:ext cx="41065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配置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2520360" y="539640"/>
            <a:ext cx="41792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6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输入输出设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77200" y="1258920"/>
            <a:ext cx="49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多媒体信息输入计算机以及从计算机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到外部需要一些专门的设备，如照片可使用扫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仪数字化并输入到计算机，摄像机、录像机的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频信号也可数字化存储到计算机中，以及图像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息可通过打印机输出，开发的多媒体应用系统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要使用刻录机将软件制作成光盘进行传播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>
            <a:hlinkClick r:id="rId2"/>
          </p:cNvPr>
          <p:cNvSpPr/>
          <p:nvPr/>
        </p:nvSpPr>
        <p:spPr>
          <a:xfrm>
            <a:off x="1271160" y="3957480"/>
            <a:ext cx="28267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6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rId4"/>
          </p:cNvPr>
          <p:cNvSpPr/>
          <p:nvPr/>
        </p:nvSpPr>
        <p:spPr>
          <a:xfrm>
            <a:off x="1413360" y="4605480"/>
            <a:ext cx="32533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6 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码照相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>
            <a:hlinkClick r:id="rId6"/>
          </p:cNvPr>
          <p:cNvSpPr/>
          <p:nvPr/>
        </p:nvSpPr>
        <p:spPr>
          <a:xfrm>
            <a:off x="1413360" y="5253120"/>
            <a:ext cx="32533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6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打印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rId8"/>
          </p:cNvPr>
          <p:cNvSpPr/>
          <p:nvPr/>
        </p:nvSpPr>
        <p:spPr>
          <a:xfrm>
            <a:off x="1114920" y="5900760"/>
            <a:ext cx="49176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6.4 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>
            <a:hlinkClick r:id="rId10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892240" y="539640"/>
            <a:ext cx="32036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6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扫描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072160" y="1258920"/>
            <a:ext cx="514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扫描仪是一种图像输入设备，利用光电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原理，通过扫描仪光电管的移动或原稿的移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把黑白或彩色的原稿信息数字化后输入到计算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，它还用于文字识别、图像识别等新的领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rId2"/>
          </p:cNvPr>
          <p:cNvSpPr/>
          <p:nvPr/>
        </p:nvSpPr>
        <p:spPr>
          <a:xfrm>
            <a:off x="1875600" y="3057480"/>
            <a:ext cx="30398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结构、原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4"/>
          </p:cNvPr>
          <p:cNvSpPr/>
          <p:nvPr/>
        </p:nvSpPr>
        <p:spPr>
          <a:xfrm>
            <a:off x="1875600" y="3778200"/>
            <a:ext cx="30398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类型与性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>
            <a:hlinkClick r:id="rId6"/>
          </p:cNvPr>
          <p:cNvSpPr/>
          <p:nvPr/>
        </p:nvSpPr>
        <p:spPr>
          <a:xfrm>
            <a:off x="1804320" y="4497480"/>
            <a:ext cx="28267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技术指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rId8"/>
          </p:cNvPr>
          <p:cNvSpPr/>
          <p:nvPr/>
        </p:nvSpPr>
        <p:spPr>
          <a:xfrm>
            <a:off x="1662480" y="5218200"/>
            <a:ext cx="23997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选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10"/>
          </p:cNvPr>
          <p:cNvSpPr/>
          <p:nvPr/>
        </p:nvSpPr>
        <p:spPr>
          <a:xfrm>
            <a:off x="1875600" y="5937120"/>
            <a:ext cx="303984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安装和使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结构、原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7760" y="1258920"/>
            <a:ext cx="788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仪由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Charge Coupled Devic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荷耦合器件阵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光源及聚焦透镜组成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一行或一个阵列，阵列中的每个器件都能把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号变为电信号。光敏器件所产生的电量与所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收的光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093400" y="539640"/>
            <a:ext cx="5258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信息数字化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平面式扫描仪为例，把原件面朝下放在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描仪的玻璃台上，扫描仪内发出光照射原件，反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线经一组平面镜和透镜导向后，照射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敏器件上。来自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电量送到模数转换器中，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压转换成代表每个像素色调或颜色的数字值。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电机驱动扫描头沿平台作微增量运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移动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，即获得一行像素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彩色图像时分别用红、绿、蓝滤色镜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捉各自的灰度图像，然后把它们组合成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些扫描仪为了获得彩色图像，扫描头要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遍扫描。另一些扫描仪中，通过旋转光源前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种滤色镜使得扫描头只需扫描一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类型与性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38360" y="1258920"/>
            <a:ext cx="581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按扫描方式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扫描方式扫描仪分为四种：手动式、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板式、胶片式和滚筒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按扫描幅面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幅面表示可扫描原稿的最大尺寸，最常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幅面的台式扫描仪，此外，还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幅面扫描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按接口标准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仪按接口标准分为三种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C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P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强型并行接口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S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用串行总线接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077200" y="539640"/>
            <a:ext cx="493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按反射式或透射式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射式扫描仪用于扫描不透明的原稿，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利用光源照在原稿上的反射光来获取图形信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透射式扫描仪用于扫描透明胶片，如胶卷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片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按灰度与彩色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仪可分灰度和彩色两种。用灰度扫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仪扫描只能获得灰度图形。彩色扫描仪可还原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图像。彩色扫描仪的扫描方式有三次扫描和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次扫描两种。三次扫描方式又分三色和单色灯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063240" y="539640"/>
            <a:ext cx="28267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技术指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000880" y="1258920"/>
            <a:ext cx="49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描述扫描仪的技术指标，主要包括扫描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度、灰度级、色彩深度、扫描速度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2"/>
          </p:cNvPr>
          <p:cNvSpPr/>
          <p:nvPr/>
        </p:nvSpPr>
        <p:spPr>
          <a:xfrm>
            <a:off x="2132640" y="2517840"/>
            <a:ext cx="21862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精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4"/>
          </p:cNvPr>
          <p:cNvSpPr/>
          <p:nvPr/>
        </p:nvSpPr>
        <p:spPr>
          <a:xfrm>
            <a:off x="2026080" y="3238560"/>
            <a:ext cx="2399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灰度级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rId6"/>
          </p:cNvPr>
          <p:cNvSpPr/>
          <p:nvPr/>
        </p:nvSpPr>
        <p:spPr>
          <a:xfrm>
            <a:off x="2132640" y="3957480"/>
            <a:ext cx="21862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彩精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8"/>
          </p:cNvPr>
          <p:cNvSpPr/>
          <p:nvPr/>
        </p:nvSpPr>
        <p:spPr>
          <a:xfrm>
            <a:off x="2132640" y="4678200"/>
            <a:ext cx="218628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0"/>
          </p:cNvPr>
          <p:cNvSpPr/>
          <p:nvPr/>
        </p:nvSpPr>
        <p:spPr>
          <a:xfrm>
            <a:off x="2026080" y="5397480"/>
            <a:ext cx="239940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鲜锐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270440" y="1258920"/>
            <a:ext cx="675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精度通常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用光学分辨率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机械分辨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衡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光学分辨率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水平分辨率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指的是扫描仪上的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元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CCD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英寸能捕捉到的图像点数。光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辨率用每英寸点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PI(Dot Per Inch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。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分辨率取决于扫描头里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机械分辨率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垂直分辨率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指的是带动感光元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CCD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步进电机在机构设计上每英寸可移动的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最大分辨率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插值分辨率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指通过数学算法所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的每英寸的图像点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73720" y="539640"/>
            <a:ext cx="21862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精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767160" y="539640"/>
            <a:ext cx="23994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灰度级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77200" y="1258920"/>
            <a:ext cx="493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灰度级是表示灰度图像的亮度层次范围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指标，是指扫描仪识别和反映像素明暗程度的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力。换句话说就是扫描仪从纯黑到纯白之间平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渡的能力。目前，多数扫描仪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bi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5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灰度等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00880" y="4317840"/>
            <a:ext cx="49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扫描仪要对像素分色，把一个像素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解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基色的组合。对每一基色的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浅程度也要用灰度级表示，称为色彩精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73720" y="3598920"/>
            <a:ext cx="21862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彩精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873720" y="539640"/>
            <a:ext cx="21862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7160" y="3778200"/>
            <a:ext cx="23994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鲜锐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077200" y="1258920"/>
            <a:ext cx="493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仪的扫描速度也是一个不容忽视的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，时间太长会使其它配套设备出现闲置等待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态。扫描速度不能仅看扫描仪将一页文稿扫入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算机的速度，而应考虑将一页文稿扫入计算机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完成处理总共需要的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00880" y="4678200"/>
            <a:ext cx="49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鲜锐度是指图片扫描后的图像清晰程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扫描仪必须具备边缘扫描处理锐化的能力。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整幅度应广而细致，锐利而不粗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62640" y="539640"/>
            <a:ext cx="32529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基本硬件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32480" y="1258920"/>
            <a:ext cx="70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主要特征可以用一个简单的公式表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多媒体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PC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机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= PC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机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+ CD-ROM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驱动器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+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声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0440" y="2338560"/>
            <a:ext cx="28263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技术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9360" y="3057480"/>
            <a:ext cx="734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C3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准规定系统硬件最低配置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机：至少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M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存，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40M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硬盘容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主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5MHz Pentium CPU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分辨率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40×48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颜色数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553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的显示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：传输速率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00K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寻址时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00m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 X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：采样频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4.1kH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6bi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量化精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avetab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波表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281400" y="539640"/>
            <a:ext cx="23997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选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38360" y="1258920"/>
            <a:ext cx="581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选购扫描仪时，首要的考虑因素是扫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仪的精度。扫描仪的精度决定了扫描仪的档次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价格。目前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00×1200dp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扫描仪已经成为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业的标准，而专业级扫描则要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00×2400d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上的分辨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次要考虑扫描仪的色彩位数。色彩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越多，扫描仪能够区分的颜色种类也就越多，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能表达的色彩就越丰富，能更真实地表现原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普通用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4bi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已经足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次考虑扫描仪的接口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扫描仪的安装和使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40200" y="1258920"/>
            <a:ext cx="68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OUNDER F8180U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例说明扫描仪的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23680" y="1798560"/>
            <a:ext cx="5642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硬件连接与软件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扫描仪随机附送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S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缆线的一端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至扫描仪背面板，将另一端连接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机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S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连接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驱动程序，在安装时注意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S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描接口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附送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CR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字识别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794600" y="539640"/>
            <a:ext cx="562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扫描仪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扫描仪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启动方正扫描程序。扫描操作界面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”和“预览”两个窗口，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0516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s1" descr=""/>
          <p:cNvPicPr/>
          <p:nvPr/>
        </p:nvPicPr>
        <p:blipFill>
          <a:blip r:embed="rId1"/>
          <a:stretch/>
        </p:blipFill>
        <p:spPr>
          <a:xfrm>
            <a:off x="1978200" y="2517840"/>
            <a:ext cx="53989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922760" y="539640"/>
            <a:ext cx="5447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需扫描的图片在扫描仪面板上摆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定合适的扫描参数。在扫描设置界面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扫描图像类型设定、扫描分辨率设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缩放比例设定、亮度和对比度调节、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校正、滤镜和去网等参数设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预览”按钮，扫描仪预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确定扫描区域，移动、缩放扫描仪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矩形取景框至合适大小、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扫描”，扫描图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存扫描得到的图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875680" y="539640"/>
            <a:ext cx="36914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6 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数码照相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77200" y="1258920"/>
            <a:ext cx="493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码照相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电荷耦合器件作为成像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。它把进入镜头照射于电荷耦合器件上的光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号转换为电信号，再经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转换器处理成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信息，并把数字图像数据存储在相机内的磁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质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>
            <a:hlinkClick r:id="rId2"/>
          </p:cNvPr>
          <p:cNvSpPr/>
          <p:nvPr/>
        </p:nvSpPr>
        <p:spPr>
          <a:xfrm>
            <a:off x="1663200" y="3778200"/>
            <a:ext cx="28263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码相机的结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rId4"/>
          </p:cNvPr>
          <p:cNvSpPr/>
          <p:nvPr/>
        </p:nvSpPr>
        <p:spPr>
          <a:xfrm>
            <a:off x="1840320" y="4497480"/>
            <a:ext cx="3466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码照相机的工作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rId6"/>
          </p:cNvPr>
          <p:cNvSpPr/>
          <p:nvPr/>
        </p:nvSpPr>
        <p:spPr>
          <a:xfrm>
            <a:off x="1982160" y="5218200"/>
            <a:ext cx="38934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照相机的主要技术指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246120" y="539640"/>
            <a:ext cx="28263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码相机的结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10160" y="1258920"/>
            <a:ext cx="5447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矩形网格阵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码照相机的关键部件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数字相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阵列是排成一个矩形网格分布在芯片上，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对光线极其敏感的单元阵列，使照相机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次摄入一整幅图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数字照相机的成像部件，可以将照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于其上的光信号转变为电压信号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芯片上的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光敏元件对应将来生成的图像的一个像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芯片上光敏元件的密度决定了最终成像的分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535040" y="539640"/>
            <a:ext cx="6045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模数转换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相机内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/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转换器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产生的模拟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号转换成数字信号，变换成图像的像素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存储介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照相机内部有存储部件，通常存储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质由普通的动态随机存取存储器、闪速存储器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型硬盘组成。存储部件上可存储多幅图像，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们无需电池供电也可以长时间保存数字图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接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像数据通过一个串行口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C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从照相机传送到计算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2919600" y="539640"/>
            <a:ext cx="34664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码照相机的工作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72720" y="1258920"/>
            <a:ext cx="5344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数字照相机拍照时，进入照相机镜头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线聚焦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。当照相机判定已经聚集了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够的电荷（即相片已经被合适地曝光）时，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读出”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元中的电荷，并传送给模数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器，模数转换器把每一个模拟电平用二进制数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化。从模数转换器输出的数据传送到数字信号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器中对数据进行压缩后存储在照相机的存储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882520" y="539640"/>
            <a:ext cx="38934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照相机的主要技术指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106000" y="1258920"/>
            <a:ext cx="487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像素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数码相机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芯片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敏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数量的多少称之为数码相机的像素数，是目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衡量数码相机档次的主要技术指标，决定了数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相机的成像质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色彩深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色彩深度用来描述生成的图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能包含的颜色数。数字照相机的色彩深度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4Bi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0Bi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高档的可达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6Bi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存储功能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影像的数字化存储是数码相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特色，在选购高像素数码相机时，要尽可能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能采用更高容量存储介质的数码相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2875680" y="539640"/>
            <a:ext cx="36914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6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彩色打印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991880" y="1258920"/>
            <a:ext cx="5106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印机作为输出设备，可打印文本、图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。如果需要获得接近照片效果的高质量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印，可选择激光彩色打印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激光彩色打印机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鼓，处理过程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复杂。主要由着色装置、有机光导带、打印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器、激光器、传送鼓、传送滚筒及熔合固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装置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6040" y="539640"/>
            <a:ext cx="41065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配置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20080" y="1258920"/>
            <a:ext cx="5319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配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应该具备大容量的硬盘；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快速数据处理、数据传输能力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C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线；建立更大的高速缓存区以提高微机的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速度，内存一般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2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分辨率的图形、图像显示。图形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卡要有高的分辨率和存储容量，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024×7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分辨率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存容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速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和光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质量的声卡和音响设备。为了声音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集和回放具有较好的音质，应该采用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4.1KH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频率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6Bi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位数的声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994760" y="539640"/>
            <a:ext cx="559260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6.4  CD-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刻录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00880" y="1258920"/>
            <a:ext cx="49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光盘刻录机可将大量的多媒体信息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记录式光盘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2"/>
          </p:cNvPr>
          <p:cNvSpPr/>
          <p:nvPr/>
        </p:nvSpPr>
        <p:spPr>
          <a:xfrm>
            <a:off x="1413360" y="2338560"/>
            <a:ext cx="32533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rId4"/>
          </p:cNvPr>
          <p:cNvSpPr/>
          <p:nvPr/>
        </p:nvSpPr>
        <p:spPr>
          <a:xfrm>
            <a:off x="1626840" y="3057480"/>
            <a:ext cx="3893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刻录和读取原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>
            <a:hlinkClick r:id="rId6"/>
          </p:cNvPr>
          <p:cNvSpPr/>
          <p:nvPr/>
        </p:nvSpPr>
        <p:spPr>
          <a:xfrm>
            <a:off x="1555560" y="3778200"/>
            <a:ext cx="36799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的凹坑标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rId8"/>
          </p:cNvPr>
          <p:cNvSpPr/>
          <p:nvPr/>
        </p:nvSpPr>
        <p:spPr>
          <a:xfrm>
            <a:off x="1484280" y="4497480"/>
            <a:ext cx="34668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的选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rId10"/>
          </p:cNvPr>
          <p:cNvSpPr/>
          <p:nvPr/>
        </p:nvSpPr>
        <p:spPr>
          <a:xfrm>
            <a:off x="1413360" y="5218200"/>
            <a:ext cx="325332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的刻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12"/>
          </p:cNvPr>
          <p:cNvSpPr/>
          <p:nvPr/>
        </p:nvSpPr>
        <p:spPr>
          <a:xfrm>
            <a:off x="1697760" y="5937120"/>
            <a:ext cx="4106880" cy="5205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的安装与使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032640" y="539640"/>
            <a:ext cx="32533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53720" y="1258920"/>
            <a:ext cx="700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的尺寸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兼容，写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上信息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上读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上写入信息后不得再擦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SO966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橙皮书标准，虽不能把以前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入的数据擦除，但允许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空白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多次写入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2526840" y="539640"/>
            <a:ext cx="38934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刻录和读取原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15520" y="1258920"/>
            <a:ext cx="6258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记录数据的方法相同，也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数据由内向外刻录在螺旋轨道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刻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原理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刻录机的写激光聚焦后，通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空白盘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聚碳酸脂层照射到有机染料层的表面上，激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束照射时产生的热量将有机染料烧熔，在光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形成光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必须注意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数据过程中工作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断。如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螺旋轨道上顺序刻写数据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途由于某种原因使得刻录中断，则再次刻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无法找到中断时的位置，这张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报废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2814480" y="539640"/>
            <a:ext cx="36799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的凹坑标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20880" y="1258920"/>
            <a:ext cx="544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制机采用光学而不是物理方式模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凹坑和非凹坑。它是一种带有金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取代铝反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染料层的盘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染料层为半透明，以便金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射激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染料层经烧熔后形成微斑，反射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降低，起凹坑作用。压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印模具有很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螺旋形脊背，使压制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形成预刻槽。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槽是摆动的，用于跟踪记录期间的轨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743200" y="539640"/>
            <a:ext cx="34668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的选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93880" y="1258920"/>
            <a:ext cx="7505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衡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性能的技术指标主要包括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支持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格式种类、刻录方式、读速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缓存器大小、平均无故障时间和数据错误率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数据格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选购前，首先应弄清要刻录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么格式的盘，再选择刻录机的类型及配套刻录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及其配套软件包应支持红皮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黄皮书、橙皮书、绿皮书、白皮书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X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准。现有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一般均支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D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/X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五种光盘数据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87200" y="539640"/>
            <a:ext cx="6915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刻录方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的刻录方式有整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、轨道刻录和多段刻录三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整盘刻录必须将不超过光盘容量的所有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一次性写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。轨道刻录和多段刻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允许用户分多次将数据按轨道记录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是多次写入数据会有盘片空间浪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刻录机的写入速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刻录机的写入速度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X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倍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X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倍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X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倍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缓存区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Buffer)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的容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平均无故障时间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MTBF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数据可靠性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032640" y="539640"/>
            <a:ext cx="32533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的刻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20880" y="1258920"/>
            <a:ext cx="5447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制作一般可分为数据准备、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集中和组织、预主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卷特性、文件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模拟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SO966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映像等步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终录制之前的整个过程统称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预主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主录包括选择光盘卷结构、选择目录和文件、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文件属性。规定这些信息后，预主录软件将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源目录扫描并报告任何不一致性。然后阅读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并写出映像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该映像文件基本上已是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具有完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卷的拷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这个阶段，有些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包把该映像文件作为检验的模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整个录制过程中，记录系统的数据速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必须保持恒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2597760" y="539640"/>
            <a:ext cx="410688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 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的安装与使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79080" y="1258920"/>
            <a:ext cx="65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的清华同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D 843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为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说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53040" y="2158920"/>
            <a:ext cx="583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刻录机的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计算机及所有外设的电源并放掉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的静电后打开主机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卸下一个空闲的用于安装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2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英寸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器的挡板，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固定在机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架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连接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连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完毕后重新盖好机箱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随机附带的驱动程序及刻录软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644480" y="539640"/>
            <a:ext cx="598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刻录机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一张空白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放入刻录机托盘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计算机“程序”菜单的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asy 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reator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刻录机操作界面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100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C1" descr=""/>
          <p:cNvPicPr/>
          <p:nvPr/>
        </p:nvPicPr>
        <p:blipFill>
          <a:blip r:embed="rId1"/>
          <a:stretch/>
        </p:blipFill>
        <p:spPr>
          <a:xfrm>
            <a:off x="1978200" y="2517840"/>
            <a:ext cx="53989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594080" y="517680"/>
            <a:ext cx="574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操作界面中选择刻录的数据格式。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想制作一张数据光盘，则在操作界面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弹出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中从资源管理器选择所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的数据文件或文件夹，然后单击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栏上的“添加”工具图标，将所选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添加到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版面中，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908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x3" descr=""/>
          <p:cNvPicPr/>
          <p:nvPr/>
        </p:nvPicPr>
        <p:blipFill>
          <a:blip r:embed="rId1"/>
          <a:stretch/>
        </p:blipFill>
        <p:spPr>
          <a:xfrm>
            <a:off x="2878200" y="3670200"/>
            <a:ext cx="37782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77680" y="539640"/>
            <a:ext cx="41792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1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驱动软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5920" y="1258920"/>
            <a:ext cx="4722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多媒体驱动软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多媒体计算机软件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直接和硬件打交道的软件。它完成设备的初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化，完成各种设备操作以及设备的关闭等。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动软件一般常驻内存，每种多媒体硬件需要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个相应的驱动软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685160" y="539640"/>
            <a:ext cx="585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复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直到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版面包含想刻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所有文件和文件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工具栏上的“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图标，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图所示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9552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C3" descr=""/>
          <p:cNvPicPr/>
          <p:nvPr/>
        </p:nvPicPr>
        <p:blipFill>
          <a:blip r:embed="rId1"/>
          <a:stretch/>
        </p:blipFill>
        <p:spPr>
          <a:xfrm>
            <a:off x="2698920" y="2446200"/>
            <a:ext cx="38718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702800" y="536400"/>
            <a:ext cx="561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设置对话框中目标设备区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写入速度、复制数量，制作选项区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时是否进行数据测试，写入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区设置刻录机的刻录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  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进程窗口如下图所示。系统首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生成系统文件，接着写出映像文件，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后刻录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轨道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574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x7" descr=""/>
          <p:cNvPicPr/>
          <p:nvPr/>
        </p:nvPicPr>
        <p:blipFill>
          <a:blip r:embed="rId1"/>
          <a:stretch/>
        </p:blipFill>
        <p:spPr>
          <a:xfrm>
            <a:off x="2517840" y="3687840"/>
            <a:ext cx="4317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816200" y="1258920"/>
            <a:ext cx="581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系统由硬件和软件组成。硬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主要包括计算机主要配置和各种外部设备以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各种外部设备连接的控制接口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中包括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实时压缩和解压缩电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软件系统包括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软件、多媒体操作系统、多媒体数据处理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创作工具软件和多媒体应用软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技术快速发展使得多媒体个人计算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迅速普及，人们利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工作、学习和娱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作系统的多任务特性可使你在美妙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乐声中轻松地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25800" y="539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本章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355400" y="539640"/>
            <a:ext cx="6557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声卡可对模拟音频信号进行采样量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数字信号，采样频率、量化位数和声道数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音波形文件的质量。数字波形信号占很大的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储空间，为提高计算机处理音频信号的效率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使用多种编码对其进行压缩。利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，作曲家可在计算机上作曲，并且可以灵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编辑，如改变音色、音调、乐曲速度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作系统下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，使用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系统自带“媒体播放机”软件即可实现对数字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文件的播放功能。然而，若将电视或录像机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的模拟视频信号转化为计算机能识别的数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信号，则需要使用视频采集卡捕捉来自视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源的图像并经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转换、压缩存储到计算机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809000" y="539640"/>
            <a:ext cx="54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态图像可用视频采集卡将模拟视频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计算机，而扫描仪可将静态图像输入到计算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直接使用数字照相机拍摄图像输入计算机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化的多媒体信息量非常大，要占用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的存储空间，传统的信息载体无法满足它的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具有存储容量大、工作稳定、密度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寿命长、便于携带、价格低廉等优点，成为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信息存储普遍使用的载体。只要计算机系统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即可读取将光盘上的信息。小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量的多媒体信息光盘可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刻录机把信息记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77680" y="539640"/>
            <a:ext cx="41792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1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操作系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05920" y="1258920"/>
            <a:ext cx="47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操作系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计算机的核心，负责控制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管理计算机的所有软硬件资源，对各种资源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行合理地调度和分配，改善资源的共享和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情况，最大限度地发挥计算机的效能，它还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计算机的硬件和软件之间的协调运行，改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作环境向用户提供友好的人机界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多媒体操作系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简言之就是具有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功能的操作系统。多媒体操作系统必须具备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和多媒体设备的管理和控制功能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有综合使用各种媒体的能力，能灵活地调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种媒体数据并能进行相应的传输和处理，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各种媒体硬件和谐地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83440" y="539640"/>
            <a:ext cx="722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操作系统大致可分为两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类是为特定的交互式多媒体系统使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操作系统。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mmodo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公司为其推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mig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开发的多媒体操作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miga DO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hilip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ONY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公司为他们联合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I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设计的多媒体操作系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Real Time Operation System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另一类是通用的多媒体操作系统。随着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技术的发展，通用操作系统逐步增加了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多媒体设备和数据的内容，为多媒体技术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供支持，成为多媒体操作系统。目前流行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主要适用于多媒体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计算机；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acintos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广泛用于苹果机的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操作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80040" y="539640"/>
            <a:ext cx="466668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1.4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处理软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7600" y="1258920"/>
            <a:ext cx="7562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处理软件是专业人员在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作系统之上开发的。在多媒体应用软件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程中，对多媒体信息进行编辑和处理是十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要的，多媒体素材制作的好坏，直接影响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整个多媒体应用系统的质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常见的音频编辑软件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ound Edi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ol Edit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，图形图像编辑软件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llustra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relDraw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hotosho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非线性视频编辑软件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remie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动画编辑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nimator Studi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D Studio MA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77680" y="539640"/>
            <a:ext cx="41792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1.5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创作软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08800" y="1258920"/>
            <a:ext cx="68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创作软件是帮助开发者制作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软件的工具，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能够对文本、声音、图像、视频等多种媒体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控制和管理，并按要求连接成完整的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软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77680" y="539640"/>
            <a:ext cx="41792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1.6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4360" y="1258920"/>
            <a:ext cx="466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多媒体应用系统又称多媒体应用软件。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由各种应用领域的专家或开发人员利用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开发工具软件或计算机语言，组织编排大量的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媒体数据而成为最终多媒体产品，是直接面向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户的。多媒体应用系统所涉及的应用领域主要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文化教育教学软件、信息系统、电子出版、音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影视特技、动画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25800" y="539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17400" y="1258920"/>
            <a:ext cx="562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多媒体系统的组成结构及多媒体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的技术标准和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多媒体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数字音频基本概念、各种音频信号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、声卡的安装与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视频的色彩空间表示及转换，数字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标准和数字视频的特点、视频采集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安装与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多媒体光存储技术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的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构与读写原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扫描仪的工作原理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4800" y="539640"/>
            <a:ext cx="515448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2  Windows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多媒体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1360080" y="1619280"/>
            <a:ext cx="49600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2.1  Window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多媒体扩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1449000" y="2338560"/>
            <a:ext cx="60267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2.2  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多媒体应用程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6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14120" y="539640"/>
            <a:ext cx="564228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2.1  Windows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多媒体扩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1549440" y="1619280"/>
            <a:ext cx="36799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多媒体扩展的三个软件模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1990800" y="2338560"/>
            <a:ext cx="56001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为实现“可扩展性和设备无关性”所采取的措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6" action="ppaction://hlinksldjump"/>
          </p:cNvPr>
          <p:cNvSpPr/>
          <p:nvPr/>
        </p:nvSpPr>
        <p:spPr>
          <a:xfrm>
            <a:off x="1001520" y="3057480"/>
            <a:ext cx="5131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多媒体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28720" y="539640"/>
            <a:ext cx="36799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多媒体扩展的三个软件模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080" y="1258920"/>
            <a:ext cx="8843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支持多媒体功能，微软公司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9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3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后，开发了多媒体扩展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包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WM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with Multimedia Extens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后又将多媒体功能直接集成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3.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后各版本之中并有所发展，提供了对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支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3.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一个包括多媒体功能的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中含有几个与多媒体有关的设置程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播放程序。此外，微软公司附加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d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or Window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包还提供了视频播放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6200" y="539640"/>
            <a:ext cx="816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3.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多媒体扩展主要由以下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软件模块组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MSystem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系统模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提供统一的多媒体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接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MCI-Multimedia Control Interf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服务的低层多媒体支持函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多媒体设备驱动程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实现低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M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函数和多媒体设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波形音频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间的通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CI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驱动程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提供对媒体的高级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扩展在应用层和硬件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含有多层系统代码，应用程序首先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M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，再由后者唤醒低层多媒体设备或某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C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11520" y="539640"/>
            <a:ext cx="56001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为实现“可扩展性和设备无关性”所采取的措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3240" y="1258920"/>
            <a:ext cx="641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可扩展性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设备无关性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多媒体扩展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构设计的两个原则，为了实现可扩展性和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备无关性，在系统软件设计上采取了以下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措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中间转换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MMSystem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应用程序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驱动程序相隔离，以便开发人员可集中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写与设备无关的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时连接，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MSyste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转层与所需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程序相连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义良好的、一致的驱动程序接口，使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殊代码最少，简化了安装和升级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80800" y="539640"/>
            <a:ext cx="513108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多媒体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000" y="1258920"/>
            <a:ext cx="822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crosof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式推出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多媒体方面的性能有了很大的提高，速度更快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像更美观、更真实。目前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机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最普遍的多媒体操作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多媒体功能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2417400" y="3778200"/>
            <a:ext cx="30394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即插即用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2203920" y="4497480"/>
            <a:ext cx="3466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3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的设备驱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2097360" y="5218200"/>
            <a:ext cx="36795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娱乐性更强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58480" y="539640"/>
            <a:ext cx="303948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即插即用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46440" y="1258920"/>
            <a:ext cx="7197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即插即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Plug and Play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，简称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PnP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就是要方便用户对多媒体硬件设备的安装和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安装支持即插即用的多媒体设备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会自动探测到设备的存在，并一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步地指导安装过程，此外它还可根据计算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硬件资源进行分析，选择最合适的配置并自动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分配地址、中断和设备号等系统资源，避免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备之间的设置冲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45000" y="539640"/>
            <a:ext cx="34664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3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的设备驱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3920" y="1258920"/>
            <a:ext cx="668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了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32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位保护模式驱动程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样做有许多好处是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保护模式的设备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可以动态地装载或去除，不占用常规内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通过减小系统运行的模式开关数来提高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运行性能；同时，因为支持即插即用而使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配置变得容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440" y="539640"/>
            <a:ext cx="36795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娱乐性更强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2000" y="1258920"/>
            <a:ext cx="681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了许多新功能，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成为更实用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95480" y="2158920"/>
            <a:ext cx="6898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 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自动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中装上光盘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会自动识别出光盘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后台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改进了的视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作系统内置的各种软件视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压缩编码、解码程序支持最主要的几种视频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28280" y="539640"/>
            <a:ext cx="60267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2.2  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多媒体应用程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6160" y="1185840"/>
            <a:ext cx="63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仅为运行多媒体应用程序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支持，而且本身还附带了画图、录音机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器及媒体播放机等多媒体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2097000" y="2698920"/>
            <a:ext cx="15465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画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2047320" y="3417840"/>
            <a:ext cx="23572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2310120" y="4138560"/>
            <a:ext cx="21866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媒体播放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8" action="ppaction://hlinksldjump"/>
          </p:cNvPr>
          <p:cNvSpPr/>
          <p:nvPr/>
        </p:nvSpPr>
        <p:spPr>
          <a:xfrm>
            <a:off x="2168280" y="4857840"/>
            <a:ext cx="175968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录音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72640" y="539640"/>
            <a:ext cx="125316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2018160" y="1619280"/>
            <a:ext cx="4533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系统的组成结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395720" y="2338560"/>
            <a:ext cx="45334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2  Window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多媒体环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449000" y="3057480"/>
            <a:ext cx="28263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音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449000" y="3778200"/>
            <a:ext cx="28263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视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1591200" y="4497480"/>
            <a:ext cx="325296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光存储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1733400" y="5218200"/>
            <a:ext cx="3679920" cy="5205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6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输入输出设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4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1680" y="1258920"/>
            <a:ext cx="438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带一个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程序在附件中。画图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启动后的界面如右图所示。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标移动到画图区的控制点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标变成双箭头，此时可以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拽改变画图区大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箱中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画图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工具。用户可以利用工具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行画图、填充、喷涂、清除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文字和重新排列画图区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容等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009" descr=""/>
          <p:cNvPicPr/>
          <p:nvPr/>
        </p:nvPicPr>
        <p:blipFill>
          <a:blip r:embed="rId1"/>
          <a:stretch/>
        </p:blipFill>
        <p:spPr>
          <a:xfrm>
            <a:off x="5397480" y="1438200"/>
            <a:ext cx="324000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536640" y="539640"/>
            <a:ext cx="15465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画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54240" y="1258920"/>
            <a:ext cx="642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器是一个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播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程序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器操作面板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曲目下拉框中可以选择要播放的曲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然后单击“播放”按钮即可开始播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乐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009" descr=""/>
          <p:cNvPicPr/>
          <p:nvPr/>
        </p:nvPicPr>
        <p:blipFill>
          <a:blip r:embed="rId1"/>
          <a:stretch/>
        </p:blipFill>
        <p:spPr>
          <a:xfrm>
            <a:off x="2158920" y="3238560"/>
            <a:ext cx="4857840" cy="3152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307680" y="539640"/>
            <a:ext cx="23572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09000" y="539640"/>
            <a:ext cx="531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辑播放曲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张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上可能只有几首自己喜欢的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曲，如果想自己排定播放顺序，可执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【唱片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|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【编辑播放曲目】命令，弹出如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示窗口，在此可进行播放曲目的设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10" descr=""/>
          <p:cNvPicPr/>
          <p:nvPr/>
        </p:nvPicPr>
        <p:blipFill>
          <a:blip r:embed="rId1"/>
          <a:stretch/>
        </p:blipFill>
        <p:spPr>
          <a:xfrm>
            <a:off x="2338560" y="2878200"/>
            <a:ext cx="44989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404800" y="539640"/>
            <a:ext cx="466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调整播放音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器中，执行【查看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|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【音量控制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或在桌面上双击任务栏上的喇叭，打开如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音量控制对话框。在对话框中可调整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量和左右音箱均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011" descr=""/>
          <p:cNvPicPr/>
          <p:nvPr/>
        </p:nvPicPr>
        <p:blipFill>
          <a:blip r:embed="rId1"/>
          <a:stretch/>
        </p:blipFill>
        <p:spPr>
          <a:xfrm>
            <a:off x="1798560" y="2878200"/>
            <a:ext cx="57578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72520" y="1258920"/>
            <a:ext cx="677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基本配置硬件，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“媒体播放机”应用程序，就可以播放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，例如播放波形声音文件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乐、视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播放机” 的操作界面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013" descr=""/>
          <p:cNvPicPr/>
          <p:nvPr/>
        </p:nvPicPr>
        <p:blipFill>
          <a:blip r:embed="rId1"/>
          <a:stretch/>
        </p:blipFill>
        <p:spPr>
          <a:xfrm>
            <a:off x="1258920" y="3598920"/>
            <a:ext cx="6837480" cy="2020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570840" y="539640"/>
            <a:ext cx="21866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媒体播放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8640" y="539640"/>
            <a:ext cx="677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启动媒体播放机后，要播放某个内容，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先需要从设备菜单中选择一种播放的设备，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些设备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Movi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播放扩展名是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VI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视频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音播放扩展名是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AV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序器播放扩展名是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播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的音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示：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Movi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盘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EG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都放置在光盘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EGAV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夹下，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扩展名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AT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54960" y="1258920"/>
            <a:ext cx="63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“录音机”程序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制、播放、编辑数字波形声音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音机操作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音机的操作界面如下图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7664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014" descr=""/>
          <p:cNvPicPr/>
          <p:nvPr/>
        </p:nvPicPr>
        <p:blipFill>
          <a:blip r:embed="rId1"/>
          <a:stretch/>
        </p:blipFill>
        <p:spPr>
          <a:xfrm>
            <a:off x="1978200" y="3238560"/>
            <a:ext cx="5398920" cy="2930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607920" y="539640"/>
            <a:ext cx="175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录音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51800" y="539640"/>
            <a:ext cx="6386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制声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“录音机”程序可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录制来自麦克风、外接音频信号等的声音。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需要把声卡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C 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孔与话筒相连，或者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LINE 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其它声音输入设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如录放机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机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线性输出端相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制一个声音文件的操作步骤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执行【文件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|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【新建】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录音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麦克风开关并对着麦克风说话或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其它的信号输入开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束录音时，单击“停止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执行【文件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|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【保存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16000" y="539640"/>
            <a:ext cx="320400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音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23680" y="1258920"/>
            <a:ext cx="564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是多媒体技术的重要特征之一，是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带信息的重要媒体。在计算机多媒体技术中，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的种类主要有波形音频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1342440" y="3238560"/>
            <a:ext cx="30398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3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波形音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1129320" y="3957480"/>
            <a:ext cx="3466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3.2 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6" action="ppaction://hlinksldjump"/>
          </p:cNvPr>
          <p:cNvSpPr/>
          <p:nvPr/>
        </p:nvSpPr>
        <p:spPr>
          <a:xfrm>
            <a:off x="1111320" y="4678200"/>
            <a:ext cx="36799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3.3  CD-D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8" action="ppaction://hlinksldjump"/>
          </p:cNvPr>
          <p:cNvSpPr/>
          <p:nvPr/>
        </p:nvSpPr>
        <p:spPr>
          <a:xfrm>
            <a:off x="1200240" y="5397480"/>
            <a:ext cx="26132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3.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0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73600" y="539640"/>
            <a:ext cx="344772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3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波形音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733400" y="1619280"/>
            <a:ext cx="26132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声音的基本特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4" action="ppaction://hlinksldjump"/>
          </p:cNvPr>
          <p:cNvSpPr/>
          <p:nvPr/>
        </p:nvSpPr>
        <p:spPr>
          <a:xfrm>
            <a:off x="1519920" y="2338560"/>
            <a:ext cx="19731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数字音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26160" y="539640"/>
            <a:ext cx="51548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系统的组成结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0880" y="1258920"/>
            <a:ext cx="4935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系统由硬件系统和软件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组成。其中硬件系统主要包括计算机主要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各种外部设备以及与各种外部设备的控制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中包括多媒体实时压缩和解压缩电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系统包括多媒体驱动软件、多媒体操作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统、多媒体数据处理软件、多媒体创作工具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和多媒体应用软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3400" y="539640"/>
            <a:ext cx="2613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声音的基本特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7200" y="1258920"/>
            <a:ext cx="493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声音是由空气中分子的振动而产生的。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然界的声音是一个随时间而变化的连续信号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近似地看成是一种周期性的函数。通常用模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连续波形描述声波的形状，单一频率的声波可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一条正弦波表示，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19280" y="485784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517480" y="3778200"/>
            <a:ext cx="3240" cy="186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3924360"/>
            <a:ext cx="3657600" cy="1638360"/>
          </a:xfrm>
          <a:custGeom>
            <a:avLst/>
            <a:gdLst/>
            <a:ahLst/>
            <a:rect l="l" t="t" r="r" b="b"/>
            <a:pathLst>
              <a:path w="2304" h="1032">
                <a:moveTo>
                  <a:pt x="0" y="600"/>
                </a:moveTo>
                <a:cubicBezTo>
                  <a:pt x="84" y="300"/>
                  <a:pt x="168" y="0"/>
                  <a:pt x="288" y="72"/>
                </a:cubicBezTo>
                <a:cubicBezTo>
                  <a:pt x="408" y="144"/>
                  <a:pt x="576" y="1032"/>
                  <a:pt x="720" y="1032"/>
                </a:cubicBezTo>
                <a:cubicBezTo>
                  <a:pt x="864" y="1032"/>
                  <a:pt x="1008" y="72"/>
                  <a:pt x="1152" y="72"/>
                </a:cubicBezTo>
                <a:cubicBezTo>
                  <a:pt x="1296" y="72"/>
                  <a:pt x="1440" y="1032"/>
                  <a:pt x="1584" y="1032"/>
                </a:cubicBezTo>
                <a:cubicBezTo>
                  <a:pt x="1728" y="1032"/>
                  <a:pt x="1896" y="144"/>
                  <a:pt x="2016" y="72"/>
                </a:cubicBezTo>
                <a:cubicBezTo>
                  <a:pt x="2136" y="0"/>
                  <a:pt x="2220" y="300"/>
                  <a:pt x="2304" y="600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066320" y="4038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8200" y="39099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振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5638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5638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0200" y="5815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周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5410080"/>
            <a:ext cx="1219320" cy="457200"/>
          </a:xfrm>
          <a:prstGeom prst="wedgeRectCallout">
            <a:avLst>
              <a:gd name="adj1" fmla="val -67967"/>
              <a:gd name="adj2" fmla="val -170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基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077200" y="539640"/>
            <a:ext cx="4935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基线是测量模拟信号的基准点。声波的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幅表示声音信号的强弱程度。声波的频率反映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音的音调，声音细尖表示频率高，声音粗低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频率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振幅和频率不变的声音信号，称为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单音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音一般只能由专用电子设备产生。在日常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我们听到的自然界的声音一般都属于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复音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声音信号由不同的振幅与频率合成而得到。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中的最低频率称为复音的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基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基音），是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声调的基本要素，它通常是个常数。复音中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在一些其它频率，是复音中的次要成分，通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称为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谐音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基频和谐音合成复音，决定了特定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音音质和音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99560" y="539640"/>
            <a:ext cx="19731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数字音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00880" y="1258920"/>
            <a:ext cx="49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声波是随时间而连续变化的物理量，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能量转换装置，可用随声波变化而改变的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或电流信号来模拟。以模拟电压的幅度来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声音的强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为使计算机能处理音频，必须对声音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数字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1919520" y="3957480"/>
            <a:ext cx="58132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和量化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2772720" y="4678200"/>
            <a:ext cx="41065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影响数字音频质量的技术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6" action="ppaction://hlinksldjump"/>
          </p:cNvPr>
          <p:cNvSpPr/>
          <p:nvPr/>
        </p:nvSpPr>
        <p:spPr>
          <a:xfrm>
            <a:off x="2452680" y="5397480"/>
            <a:ext cx="47466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音频文件的存储量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2346120" y="6116760"/>
            <a:ext cx="495972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音频信号的编码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60600" y="539640"/>
            <a:ext cx="581328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和量化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85880" y="5937120"/>
            <a:ext cx="2527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c)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信号的量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3598920"/>
            <a:ext cx="2314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a)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拟音频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878200" y="4497480"/>
            <a:ext cx="3429000" cy="1241280"/>
            <a:chOff x="2878200" y="4497480"/>
            <a:chExt cx="3429000" cy="1241280"/>
          </a:xfrm>
        </p:grpSpPr>
        <p:sp>
          <p:nvSpPr>
            <p:cNvPr id="200" name=""/>
            <p:cNvSpPr/>
            <p:nvPr/>
          </p:nvSpPr>
          <p:spPr>
            <a:xfrm>
              <a:off x="2878200" y="512856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2480" y="4497480"/>
              <a:ext cx="0" cy="12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560480" y="5128200"/>
              <a:ext cx="0" cy="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925960" y="5128560"/>
              <a:ext cx="1080" cy="82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388320" y="4913640"/>
              <a:ext cx="0" cy="2062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88320" y="4914000"/>
              <a:ext cx="1008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489120" y="4758120"/>
              <a:ext cx="0" cy="1551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89120" y="4758480"/>
              <a:ext cx="114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603600" y="4628160"/>
              <a:ext cx="0" cy="1303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03600" y="4628160"/>
              <a:ext cx="105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709440" y="4586760"/>
              <a:ext cx="0" cy="40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09440" y="4587120"/>
              <a:ext cx="107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7440" y="4587120"/>
              <a:ext cx="0" cy="40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17440" y="4628160"/>
              <a:ext cx="99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7520" y="4628160"/>
              <a:ext cx="0" cy="42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17520" y="4671000"/>
              <a:ext cx="1065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24080" y="4671000"/>
              <a:ext cx="0" cy="43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24080" y="4714920"/>
              <a:ext cx="108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33160" y="4714920"/>
              <a:ext cx="0" cy="853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32080" y="4800240"/>
              <a:ext cx="968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28920" y="4800240"/>
              <a:ext cx="0" cy="810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0000" y="4881240"/>
              <a:ext cx="107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7640" y="4881240"/>
              <a:ext cx="0" cy="1152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7640" y="4996800"/>
              <a:ext cx="114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2480" y="5079240"/>
              <a:ext cx="107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60480" y="5079240"/>
              <a:ext cx="0" cy="414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60480" y="5128560"/>
              <a:ext cx="0" cy="72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60480" y="5198040"/>
              <a:ext cx="98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9120" y="5198040"/>
              <a:ext cx="0" cy="612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59120" y="5259240"/>
              <a:ext cx="1069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66040" y="5259240"/>
              <a:ext cx="0" cy="759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67120" y="5335200"/>
              <a:ext cx="105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72960" y="5335200"/>
              <a:ext cx="0" cy="982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2960" y="5433840"/>
              <a:ext cx="107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80600" y="5433840"/>
              <a:ext cx="0" cy="109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52480" y="4996800"/>
              <a:ext cx="0" cy="82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80600" y="5433840"/>
              <a:ext cx="0" cy="109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80600" y="5543280"/>
              <a:ext cx="1069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87520" y="5543280"/>
              <a:ext cx="0" cy="42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87520" y="5586480"/>
              <a:ext cx="98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6520" y="5586480"/>
              <a:ext cx="0" cy="43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6520" y="5630040"/>
              <a:ext cx="1065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93080" y="5630040"/>
              <a:ext cx="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93080" y="5586480"/>
              <a:ext cx="99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393160" y="5520600"/>
              <a:ext cx="0" cy="655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93160" y="5520600"/>
              <a:ext cx="105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499000" y="5433480"/>
              <a:ext cx="0" cy="867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99000" y="5433840"/>
              <a:ext cx="1155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14920" y="5369040"/>
              <a:ext cx="0" cy="64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14920" y="5369040"/>
              <a:ext cx="105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720760" y="5294520"/>
              <a:ext cx="0" cy="741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9320" y="5294520"/>
              <a:ext cx="1018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820120" y="5197680"/>
              <a:ext cx="0" cy="96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21560" y="5201640"/>
              <a:ext cx="1137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927400" y="5128200"/>
              <a:ext cx="0" cy="414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93080" y="5586480"/>
              <a:ext cx="0" cy="43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465520" y="3598920"/>
            <a:ext cx="2527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)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信号的采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857840" y="2158920"/>
            <a:ext cx="3429000" cy="1241640"/>
            <a:chOff x="4857840" y="2158920"/>
            <a:chExt cx="3429000" cy="1241640"/>
          </a:xfrm>
        </p:grpSpPr>
        <p:sp>
          <p:nvSpPr>
            <p:cNvPr id="258" name=""/>
            <p:cNvSpPr/>
            <p:nvPr/>
          </p:nvSpPr>
          <p:spPr>
            <a:xfrm>
              <a:off x="4857840" y="279036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61760" y="2158920"/>
              <a:ext cx="0" cy="12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400" y="2420280"/>
              <a:ext cx="0" cy="370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83240" y="2289600"/>
              <a:ext cx="0" cy="5007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89080" y="2248560"/>
              <a:ext cx="0" cy="541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7080" y="2267640"/>
              <a:ext cx="0" cy="522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96800" y="2332440"/>
              <a:ext cx="0" cy="457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03720" y="2376360"/>
              <a:ext cx="0" cy="4136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1720" y="2461680"/>
              <a:ext cx="720" cy="3312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08200" y="2542680"/>
              <a:ext cx="720" cy="2480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17280" y="2658240"/>
              <a:ext cx="1080" cy="123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32120" y="2740680"/>
              <a:ext cx="720" cy="414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540120" y="2790000"/>
              <a:ext cx="0" cy="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638760" y="2790360"/>
              <a:ext cx="0" cy="1303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45320" y="2790000"/>
              <a:ext cx="1080" cy="2062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852600" y="2790000"/>
              <a:ext cx="0" cy="304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960240" y="2790000"/>
              <a:ext cx="0" cy="414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067160" y="2790000"/>
              <a:ext cx="0" cy="457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165800" y="2790360"/>
              <a:ext cx="0" cy="501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272720" y="2790360"/>
              <a:ext cx="0" cy="501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372440" y="2790000"/>
              <a:ext cx="0" cy="457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478280" y="2790360"/>
              <a:ext cx="0" cy="391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594200" y="2790000"/>
              <a:ext cx="0" cy="304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698960" y="2790000"/>
              <a:ext cx="720" cy="240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799760" y="2790360"/>
              <a:ext cx="720" cy="1656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905600" y="2790000"/>
              <a:ext cx="720" cy="82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77960" y="2245680"/>
              <a:ext cx="2703960" cy="1045800"/>
            </a:xfrm>
            <a:custGeom>
              <a:avLst/>
              <a:gdLst/>
              <a:ahLst/>
              <a:rect l="l" t="t" r="r" b="b"/>
              <a:pathLst>
                <a:path w="2016" h="2304">
                  <a:moveTo>
                    <a:pt x="0" y="1200"/>
                  </a:moveTo>
                  <a:cubicBezTo>
                    <a:pt x="92" y="600"/>
                    <a:pt x="184" y="0"/>
                    <a:pt x="336" y="0"/>
                  </a:cubicBezTo>
                  <a:cubicBezTo>
                    <a:pt x="488" y="0"/>
                    <a:pt x="728" y="816"/>
                    <a:pt x="912" y="1200"/>
                  </a:cubicBezTo>
                  <a:cubicBezTo>
                    <a:pt x="1096" y="1584"/>
                    <a:pt x="1256" y="2304"/>
                    <a:pt x="1440" y="2304"/>
                  </a:cubicBezTo>
                  <a:cubicBezTo>
                    <a:pt x="1624" y="2304"/>
                    <a:pt x="1920" y="1384"/>
                    <a:pt x="2016" y="12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48240" y="238788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51760" y="255384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79800" y="224568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2160" y="222300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58400" y="2292480"/>
              <a:ext cx="28080" cy="20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73760" y="228672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79600" y="236088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5840" y="2719440"/>
              <a:ext cx="4536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07440" y="2900520"/>
              <a:ext cx="4536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25240" y="308736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47800" y="327420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87240" y="245016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84080" y="253332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49400" y="322236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49120" y="3166920"/>
              <a:ext cx="4536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93880" y="263124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21200" y="2986200"/>
              <a:ext cx="4536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1080" y="316620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38000" y="3236400"/>
              <a:ext cx="4536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47520" y="3259080"/>
              <a:ext cx="4536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84360" y="2830320"/>
              <a:ext cx="4536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0080" y="3062520"/>
              <a:ext cx="4536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82840" y="2918160"/>
              <a:ext cx="4500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367600" y="2575080"/>
              <a:ext cx="1080" cy="2062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75920" y="2997720"/>
              <a:ext cx="4536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66920" y="3041640"/>
              <a:ext cx="37080" cy="385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0" y="0"/>
                  </a:moveTo>
                  <a:cubicBezTo>
                    <a:pt x="25" y="17"/>
                    <a:pt x="25" y="27"/>
                    <a:pt x="37" y="5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37080" y="2445480"/>
              <a:ext cx="6840" cy="165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0" y="23"/>
                  </a:moveTo>
                  <a:cubicBezTo>
                    <a:pt x="2" y="15"/>
                    <a:pt x="7" y="0"/>
                    <a:pt x="7" y="0"/>
                  </a:cubicBezTo>
                  <a:cubicBezTo>
                    <a:pt x="7" y="0"/>
                    <a:pt x="2" y="15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31840" y="2255760"/>
              <a:ext cx="6840" cy="165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0" y="23"/>
                  </a:moveTo>
                  <a:cubicBezTo>
                    <a:pt x="2" y="15"/>
                    <a:pt x="7" y="0"/>
                    <a:pt x="7" y="0"/>
                  </a:cubicBezTo>
                  <a:cubicBezTo>
                    <a:pt x="7" y="0"/>
                    <a:pt x="2" y="15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72960" y="2950920"/>
              <a:ext cx="6840" cy="165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0" y="23"/>
                  </a:moveTo>
                  <a:cubicBezTo>
                    <a:pt x="2" y="15"/>
                    <a:pt x="7" y="0"/>
                    <a:pt x="7" y="0"/>
                  </a:cubicBezTo>
                  <a:cubicBezTo>
                    <a:pt x="7" y="0"/>
                    <a:pt x="2" y="15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59720" y="3040560"/>
              <a:ext cx="6840" cy="165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0" y="23"/>
                  </a:moveTo>
                  <a:cubicBezTo>
                    <a:pt x="2" y="15"/>
                    <a:pt x="7" y="0"/>
                    <a:pt x="7" y="0"/>
                  </a:cubicBezTo>
                  <a:cubicBezTo>
                    <a:pt x="7" y="0"/>
                    <a:pt x="2" y="15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2720" y="2678760"/>
              <a:ext cx="6840" cy="165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0" y="23"/>
                  </a:moveTo>
                  <a:cubicBezTo>
                    <a:pt x="2" y="15"/>
                    <a:pt x="7" y="0"/>
                    <a:pt x="7" y="0"/>
                  </a:cubicBezTo>
                  <a:cubicBezTo>
                    <a:pt x="7" y="0"/>
                    <a:pt x="2" y="15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21760" y="3201480"/>
              <a:ext cx="6840" cy="165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0" y="23"/>
                  </a:moveTo>
                  <a:cubicBezTo>
                    <a:pt x="2" y="15"/>
                    <a:pt x="7" y="0"/>
                    <a:pt x="7" y="0"/>
                  </a:cubicBezTo>
                  <a:cubicBezTo>
                    <a:pt x="7" y="0"/>
                    <a:pt x="2" y="15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77200" y="2859840"/>
              <a:ext cx="6840" cy="165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0" y="23"/>
                  </a:moveTo>
                  <a:cubicBezTo>
                    <a:pt x="2" y="15"/>
                    <a:pt x="7" y="0"/>
                    <a:pt x="7" y="0"/>
                  </a:cubicBezTo>
                  <a:cubicBezTo>
                    <a:pt x="7" y="0"/>
                    <a:pt x="2" y="15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19280" y="2158920"/>
            <a:ext cx="3429000" cy="1241640"/>
            <a:chOff x="719280" y="2158920"/>
            <a:chExt cx="3429000" cy="1241640"/>
          </a:xfrm>
        </p:grpSpPr>
        <p:sp>
          <p:nvSpPr>
            <p:cNvPr id="319" name=""/>
            <p:cNvSpPr/>
            <p:nvPr/>
          </p:nvSpPr>
          <p:spPr>
            <a:xfrm>
              <a:off x="719280" y="279072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22840" y="2158920"/>
              <a:ext cx="0" cy="12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27520" y="2249280"/>
              <a:ext cx="2703960" cy="1045800"/>
            </a:xfrm>
            <a:custGeom>
              <a:avLst/>
              <a:gdLst/>
              <a:ahLst/>
              <a:rect l="l" t="t" r="r" b="b"/>
              <a:pathLst>
                <a:path w="2016" h="2304">
                  <a:moveTo>
                    <a:pt x="0" y="1200"/>
                  </a:moveTo>
                  <a:cubicBezTo>
                    <a:pt x="92" y="600"/>
                    <a:pt x="184" y="0"/>
                    <a:pt x="336" y="0"/>
                  </a:cubicBezTo>
                  <a:cubicBezTo>
                    <a:pt x="488" y="0"/>
                    <a:pt x="728" y="816"/>
                    <a:pt x="912" y="1200"/>
                  </a:cubicBezTo>
                  <a:cubicBezTo>
                    <a:pt x="1096" y="1584"/>
                    <a:pt x="1256" y="2304"/>
                    <a:pt x="1440" y="2304"/>
                  </a:cubicBezTo>
                  <a:cubicBezTo>
                    <a:pt x="1624" y="2304"/>
                    <a:pt x="1920" y="1384"/>
                    <a:pt x="2016" y="12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123000" y="1258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化音频的过程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19200" y="539640"/>
            <a:ext cx="5899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拟声音在时间上是连续的，或称连续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间函数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用计算机处理这些信号时，必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先对连续信号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采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即按一定的时间间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拟声波上截取一个振幅值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常为反映某一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间声波幅度的电压值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得到离散信号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整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称采样周期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/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称为采样频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了把采样得到的离散序列信号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入计算机，必须将采样值量化成有限个幅度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集合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采样值用二进制数字表示的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称为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量化编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13800" y="539640"/>
            <a:ext cx="41065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影响数字音频质量的技术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77200" y="1258920"/>
            <a:ext cx="49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模拟音频信号进行采样量化编码后，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到数字音频。数字音频的质量取决于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采样频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量化位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和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声道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三个因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46800" y="2698920"/>
            <a:ext cx="70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采样频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频率是指一秒钟时间内采样的次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计算机多媒体音频处理中，采样频率通常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三种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1.025KHz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音效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2.05KHz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乐效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4.1KHz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保真效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常见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采样频率即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4.1KH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857240" y="539640"/>
            <a:ext cx="5553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量化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量化位数也称“量化精度”，是描述每个采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样值的二进制位数。例如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量化位数表示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采样值可以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即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5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不同的量化值之一来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，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量化位数表示每个采样值可以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553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不同的量化值之一来表示。常用的量化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77200" y="3598920"/>
            <a:ext cx="49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声道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音通道的个数称为声道数，是指一次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样所记录产生的声音波形个数。记录声音时，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果每次生成一个声波数据，称为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单声道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每次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两个声波数据，称为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双声道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立体声）。随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道数的增加，所占用的存储容量也成倍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93760" y="539640"/>
            <a:ext cx="47466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音频文件的存储量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72520" y="1258920"/>
            <a:ext cx="6770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字节为单位，模拟波形声音被数字化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文件的存储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假定未经压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存储量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采样频率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量化位数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/8×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声道数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如，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4.1KH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采样频率进行采样，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化位数选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，则录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的立体声节目，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波形文件所需的存储量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4100×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×2×1=176400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087200" y="539640"/>
            <a:ext cx="49597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音频信号的编码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75160" y="1258920"/>
            <a:ext cx="5387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般情况下，声音的制作是使用麦克风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音机来产生，再由声卡上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AV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转换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模拟音频采样后，量化编码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定字长的二进制序列，并在计算机内传输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储。在数字音频回放时，再由数字到模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转化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转换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码可将二进制编码恢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原始的声音信号，通过音响设备输出。如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69160" y="4857840"/>
            <a:ext cx="18874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拟音频信号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2920" y="4857840"/>
            <a:ext cx="18450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量化编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60000" y="5757840"/>
            <a:ext cx="14180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传输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01480" y="5757840"/>
            <a:ext cx="6073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82560" y="5757840"/>
            <a:ext cx="6073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3" idx="3"/>
            <a:endCxn id="334" idx="1"/>
          </p:cNvCxnSpPr>
          <p:nvPr/>
        </p:nvCxnSpPr>
        <p:spPr>
          <a:xfrm>
            <a:off x="3927600" y="5117760"/>
            <a:ext cx="930960" cy="1080"/>
          </a:xfrm>
          <a:prstGeom prst="straightConnector1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4" idx="3"/>
            <a:endCxn id="335" idx="3"/>
          </p:cNvCxnSpPr>
          <p:nvPr/>
        </p:nvCxnSpPr>
        <p:spPr>
          <a:xfrm>
            <a:off x="7353360" y="5118120"/>
            <a:ext cx="8640" cy="900720"/>
          </a:xfrm>
          <a:prstGeom prst="bentConnector3">
            <a:avLst>
              <a:gd name="adj1" fmla="val 2978260"/>
            </a:avLst>
          </a:prstGeom>
          <a:ln w="126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5" idx="1"/>
            <a:endCxn id="336" idx="3"/>
          </p:cNvCxnSpPr>
          <p:nvPr/>
        </p:nvCxnSpPr>
        <p:spPr>
          <a:xfrm flipH="1">
            <a:off x="4852800" y="6017760"/>
            <a:ext cx="724320" cy="1080"/>
          </a:xfrm>
          <a:prstGeom prst="straightConnector1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6" idx="1"/>
            <a:endCxn id="337" idx="3"/>
          </p:cNvCxnSpPr>
          <p:nvPr/>
        </p:nvCxnSpPr>
        <p:spPr>
          <a:xfrm flipH="1">
            <a:off x="3233520" y="6017760"/>
            <a:ext cx="724320" cy="1080"/>
          </a:xfrm>
          <a:prstGeom prst="straightConnector1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000880" y="539640"/>
            <a:ext cx="493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波形文件数据量大，数字音频的编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必须采用高效的数据压缩编码技术。音频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能够被压缩编码的依据有两个，一是声音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在着数据冗余；二是利用人的听觉特性来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低编码率，人的听觉具有一个强音能抑制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时存在的弱音现象，这样就可以抑制与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时存在的量化噪声；另外人耳对低频端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敏感，而对高频端不太敏感，由此引出了“子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技术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信号的压缩编码方式可分为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波形编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参数编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混合编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13640" y="539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多媒体计算机系统组成结构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447920"/>
          <a:ext cx="7543800" cy="4011480"/>
        </p:xfrm>
        <a:graphic>
          <a:graphicData uri="http://schemas.openxmlformats.org/drawingml/2006/table">
            <a:tbl>
              <a:tblPr/>
              <a:tblGrid>
                <a:gridCol w="4572000"/>
                <a:gridCol w="1523880"/>
                <a:gridCol w="1447920"/>
              </a:tblGrid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多媒体应用软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八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软件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多媒体创作软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七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多媒体数据处理软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六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多媒体操作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五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多媒体驱动软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四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多媒体输入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输出控制卡及接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硬件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多媒体计算机硬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多媒体外围设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10200" y="539640"/>
            <a:ext cx="606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波形编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波形编码的算法简单，易于实现，可获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质量的语音。常见的三种波形编码方法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脉冲编码调制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PCM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实际为直接对声音信号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转换。只要采样频率足够高，量化位数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够多，就能使解码后恢复的声音信号有很高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质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差分脉冲编码调制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DPCM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即只传输声音预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值和样本值的差值以此降低音频数据的编码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自适应差分编码调制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ADPCM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PC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方法的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步改进，通过调整量化步长，对不同频段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不同的量化字长，使数据得到进一步的压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000880" y="539640"/>
            <a:ext cx="493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参数编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参数编码方法通过建立起声音信号的产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型，将声音信号用模型参数来表示，再对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进行编码，在声音播放时根据参数重建声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号。参数编码法算法复杂，计算量大，压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率高，但还原声音的质量不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混合编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混合编码是把波形编码的高质量和参数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码的低数据率结合在一起，取得了较好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519720" y="358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编码标准和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80880" y="1066680"/>
          <a:ext cx="8305920" cy="5325840"/>
        </p:xfrm>
        <a:graphic>
          <a:graphicData uri="http://schemas.openxmlformats.org/drawingml/2006/table">
            <a:tbl>
              <a:tblPr/>
              <a:tblGrid>
                <a:gridCol w="685800"/>
                <a:gridCol w="1143000"/>
                <a:gridCol w="2514600"/>
                <a:gridCol w="1371600"/>
                <a:gridCol w="762120"/>
                <a:gridCol w="1143000"/>
                <a:gridCol w="685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编码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算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数据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标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质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波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P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均匀量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公共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ISD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配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0-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μ(A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μ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4kbit/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G.7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P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适应量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DP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差值量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DP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适应差值量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2kbit/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G.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SB-ADP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子带一自适应差值量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4kbit/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G.7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参数 编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L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性预测编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kbit/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保密电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5-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混合 编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EL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码激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L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8kbit/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移动通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7-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VSE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矢量和激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L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kbit/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语音邮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RPE-CE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时预测规则码激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2kbit/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ISD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LD-CE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低延时码激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L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6kbit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G.7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多子带感知编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8kbit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729880" y="539640"/>
            <a:ext cx="393552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3.2  MIDI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音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16760" y="1258920"/>
            <a:ext cx="5856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是将电子乐器键盘上的弹奏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记录下来，包括键名、力度、时值长短等，是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谱的一种数字式描述。当需要播放时，只需从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中读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消息，生成所需要的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波形，经放大后由扬声器输出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468440" y="3598920"/>
            <a:ext cx="6044400" cy="2679480"/>
            <a:chOff x="1468440" y="3598920"/>
            <a:chExt cx="6044400" cy="2679480"/>
          </a:xfrm>
        </p:grpSpPr>
        <p:sp>
          <p:nvSpPr>
            <p:cNvPr id="350" name=""/>
            <p:cNvSpPr/>
            <p:nvPr/>
          </p:nvSpPr>
          <p:spPr>
            <a:xfrm>
              <a:off x="6692040" y="4678200"/>
              <a:ext cx="82080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合成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92040" y="5757840"/>
              <a:ext cx="82080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扬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468440" y="3598920"/>
              <a:ext cx="6044400" cy="520560"/>
              <a:chOff x="1468440" y="3598920"/>
              <a:chExt cx="604440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468440" y="3598920"/>
                <a:ext cx="1546200" cy="520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MIDI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键盘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87720" y="3598920"/>
                <a:ext cx="1546200" cy="520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MIDI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接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92040" y="3598920"/>
                <a:ext cx="820800" cy="520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音序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6" name=""/>
              <p:cNvCxnSpPr>
                <a:stCxn id="353" idx="3"/>
                <a:endCxn id="354" idx="1"/>
              </p:cNvCxnSpPr>
              <p:nvPr/>
            </p:nvCxnSpPr>
            <p:spPr>
              <a:xfrm>
                <a:off x="3044520" y="3858840"/>
                <a:ext cx="913320" cy="1080"/>
              </a:xfrm>
              <a:prstGeom prst="straightConnector1">
                <a:avLst/>
              </a:prstGeom>
              <a:ln w="12600">
                <a:solidFill>
                  <a:srgbClr val="0066ff"/>
                </a:solidFill>
                <a:miter/>
                <a:tailEnd len="med" type="triangle" w="med"/>
              </a:ln>
            </p:spPr>
          </p:cxnSp>
          <p:cxnSp>
            <p:nvCxnSpPr>
              <p:cNvPr id="357" name=""/>
              <p:cNvCxnSpPr>
                <a:stCxn id="354" idx="3"/>
                <a:endCxn id="355" idx="1"/>
              </p:cNvCxnSpPr>
              <p:nvPr/>
            </p:nvCxnSpPr>
            <p:spPr>
              <a:xfrm>
                <a:off x="5564160" y="3858840"/>
                <a:ext cx="913680" cy="1080"/>
              </a:xfrm>
              <a:prstGeom prst="straightConnector1">
                <a:avLst/>
              </a:prstGeom>
              <a:ln w="12600">
                <a:solidFill>
                  <a:srgbClr val="0066ff"/>
                </a:solidFill>
                <a:miter/>
                <a:tailEnd len="med" type="triangle" w="med"/>
              </a:ln>
            </p:spPr>
          </p:cxnSp>
        </p:grpSp>
        <p:cxnSp>
          <p:nvCxnSpPr>
            <p:cNvPr id="358" name=""/>
            <p:cNvCxnSpPr>
              <a:stCxn id="355" idx="2"/>
              <a:endCxn id="350" idx="0"/>
            </p:cNvCxnSpPr>
            <p:nvPr/>
          </p:nvCxnSpPr>
          <p:spPr>
            <a:xfrm>
              <a:off x="7102080" y="4118040"/>
              <a:ext cx="1080" cy="560880"/>
            </a:xfrm>
            <a:prstGeom prst="straightConnector1">
              <a:avLst/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0" idx="2"/>
              <a:endCxn id="351" idx="0"/>
            </p:cNvCxnSpPr>
            <p:nvPr/>
          </p:nvCxnSpPr>
          <p:spPr>
            <a:xfrm>
              <a:off x="7102080" y="5196960"/>
              <a:ext cx="1080" cy="561240"/>
            </a:xfrm>
            <a:prstGeom prst="straightConnector1">
              <a:avLst/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</p:grp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1407960" y="4317840"/>
            <a:ext cx="29116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什么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4" action="ppaction://hlinksldjump"/>
          </p:cNvPr>
          <p:cNvSpPr/>
          <p:nvPr/>
        </p:nvSpPr>
        <p:spPr>
          <a:xfrm>
            <a:off x="1521720" y="5037120"/>
            <a:ext cx="30398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配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6" action="ppaction://hlinksldjump"/>
          </p:cNvPr>
          <p:cNvSpPr/>
          <p:nvPr/>
        </p:nvSpPr>
        <p:spPr>
          <a:xfrm>
            <a:off x="1592640" y="5757840"/>
            <a:ext cx="32533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98240" y="1258920"/>
            <a:ext cx="809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usical Instrument Dig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terface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乐器数字接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缩写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一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国际标准，是计算机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之间进行信息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换的一整套规则，包括各种电子乐器之间传送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的通信协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27240" y="539640"/>
            <a:ext cx="291168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什么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446120" y="1258920"/>
            <a:ext cx="604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就是处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所需的硬件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备，其基本组成包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61360" y="539640"/>
            <a:ext cx="30398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配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1759680" y="2517840"/>
            <a:ext cx="4533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端口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4" action="ppaction://hlinksldjump"/>
          </p:cNvPr>
          <p:cNvSpPr/>
          <p:nvPr/>
        </p:nvSpPr>
        <p:spPr>
          <a:xfrm>
            <a:off x="1759680" y="3238560"/>
            <a:ext cx="4533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键盘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6" action="ppaction://hlinksldjump"/>
          </p:cNvPr>
          <p:cNvSpPr/>
          <p:nvPr/>
        </p:nvSpPr>
        <p:spPr>
          <a:xfrm>
            <a:off x="1823760" y="3957480"/>
            <a:ext cx="44049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序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Sequenc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8" action="ppaction://hlinksldjump"/>
          </p:cNvPr>
          <p:cNvSpPr/>
          <p:nvPr/>
        </p:nvSpPr>
        <p:spPr>
          <a:xfrm>
            <a:off x="1866240" y="4678200"/>
            <a:ext cx="43196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00760" y="539640"/>
            <a:ext cx="45331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端口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22760" y="1258920"/>
            <a:ext cx="7069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可以有一至三个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端口，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称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 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 Ou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 Thru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它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IDI 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接收来自其它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IDI Ou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发送本设备生成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设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IDI Thru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将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 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端口传来的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转发到相连的另一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备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00760" y="539640"/>
            <a:ext cx="45331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键盘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23640" y="1258920"/>
            <a:ext cx="664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键盘是用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乐曲演奏的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本身并不发出声音，当作曲人员触动键盘上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键时，就发出按键信息，所产生的仅仅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乐消息，从而由音序器录制生成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4840" y="3238560"/>
            <a:ext cx="44049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序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Sequenc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16760" y="3957480"/>
            <a:ext cx="585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于记录、编辑、播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声音文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序器有以硬件形式提供的，目前大多为软件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器。音序器可捕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消息，将其存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扩展名为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MI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音序器还可编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7320" y="539640"/>
            <a:ext cx="43196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1520" y="1258920"/>
            <a:ext cx="583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的播放是通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，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器解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中的指令符号，生成所需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声音波形，经放大后由扬声器输出，声音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比较丰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17680" y="3057480"/>
            <a:ext cx="5898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合成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方式主要有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调频合成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FM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形表合成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Wave Table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种方式。调频合成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，其原理是根据傅立叶级数而来。波形表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的原理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已存储着各种实际乐器的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采样，合成时以查表方式调用这些样本将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还原回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460520" y="539640"/>
            <a:ext cx="581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硬波形表合成与软波形表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硬波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方式的数字声音样本被保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AM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动态更换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。而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软波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化样本保存于系统主存中，合成运算靠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完成，最终的音频合成靠声卡上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AV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波表实际上是针对合成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乐而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的一套软件，其主要作用是控制高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完成波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的部分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555560" y="1438200"/>
            <a:ext cx="36799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1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硬件系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1555560" y="2158920"/>
            <a:ext cx="36799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1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驱动软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1555560" y="2878200"/>
            <a:ext cx="36799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1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操作系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1697760" y="3598920"/>
            <a:ext cx="41068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1.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处理软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9" action="ppaction://hlinksldjump"/>
          </p:cNvPr>
          <p:cNvSpPr/>
          <p:nvPr/>
        </p:nvSpPr>
        <p:spPr>
          <a:xfrm>
            <a:off x="1555560" y="4317840"/>
            <a:ext cx="367992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1.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创作软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1555560" y="5037120"/>
            <a:ext cx="3679920" cy="520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1.6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3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853360" y="539640"/>
            <a:ext cx="32533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41600" y="1258920"/>
            <a:ext cx="5984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只是一系列指令的集合，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此它比数字波形文件小得多，大大节省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储空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，其声音卡上必需含有硬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序器或者配置有软件音序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音适于重现打击乐或一些电子乐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声音，利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音方式可用计算机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作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编辑很灵活，在音序器的帮助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可自由地改变音调、音色以及乐曲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度等，以达到需要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530080" y="539640"/>
            <a:ext cx="41792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3.3  CD-D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唱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2720" y="1258920"/>
            <a:ext cx="843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DA(Compact Disk-Digital Audio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音频光盘。是光盘的一种存储格式，专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来记录和存储音乐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也是利用数字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技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的，只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上不存在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声波文件的概念，而是利用激光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转换成微小的信息凹凸坑制作在光盘上，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特殊芯片读出其内容，再经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转换，把它变成模拟信号输出播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990520" y="539640"/>
            <a:ext cx="295992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3.4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声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2160" y="1258920"/>
            <a:ext cx="514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是多媒体计算机必备的部件之一，用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理各种类型数字化声音信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1697760" y="2338560"/>
            <a:ext cx="30398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的结构与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rId4" action="ppaction://hlinksldjump"/>
          </p:cNvPr>
          <p:cNvSpPr/>
          <p:nvPr/>
        </p:nvSpPr>
        <p:spPr>
          <a:xfrm>
            <a:off x="1484640" y="3057480"/>
            <a:ext cx="23997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的安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6" action="ppaction://hlinksldjump"/>
          </p:cNvPr>
          <p:cNvSpPr/>
          <p:nvPr/>
        </p:nvSpPr>
        <p:spPr>
          <a:xfrm>
            <a:off x="1413360" y="3778200"/>
            <a:ext cx="21862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测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137760" y="539640"/>
            <a:ext cx="30398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的结构与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80680" y="1258920"/>
            <a:ext cx="59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一般由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av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、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器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路接口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S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号处理器等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67720" y="2698920"/>
            <a:ext cx="600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Wave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合成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av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的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转换和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转换是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卡上数据处理器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02440" y="4138560"/>
            <a:ext cx="553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合成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准的多媒体计算机通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器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85200" y="539640"/>
            <a:ext cx="636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混音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上的混音器芯片可以对以下音源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混合：数字化声音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DAC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调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成音乐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F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CD-ROM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线路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AUX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话筒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MIC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音输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SPK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44640" y="2878200"/>
            <a:ext cx="5045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接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能够接收、录制及输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完成电子音乐设备与声卡之间的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传输通道，通过软件控制可以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乐设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演奏，反之，也可以将电子音乐设备上演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乐录制成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文件，在计算机中进行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演奏或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845280" y="539640"/>
            <a:ext cx="7068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接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提供了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D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信号到声卡音源输入的通路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的音频时，将音频信号直接通过声卡的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送到扬声器，通过调节声卡的音量控制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控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唱盘的音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06280" y="3238560"/>
            <a:ext cx="472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DSP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数字信号处理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作对数字音频信号的实时压缩和解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缩，以及用于语音朗读、语音识别等特殊音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号的处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000880" y="539640"/>
            <a:ext cx="49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了声卡的组成及工作原理后，可总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声卡有以下主要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制与播放波形音频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辑与合成波形音频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乐录制和合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语转换和语音识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283200" y="539640"/>
            <a:ext cx="23997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的安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05680" y="1258920"/>
            <a:ext cx="5856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硬件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计算机电源，拔下供电电源和所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外接线插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机箱外壳，选择一个空闲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展槽并将声卡插入扩展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连接来自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的音频输出线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 I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针形输入线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盖上机箱外壳，并将电源插头插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与其它外设的连接，按下页图进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495520" y="1606680"/>
            <a:ext cx="13795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LIN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89320" y="3344760"/>
            <a:ext cx="168588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LINE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81400" y="2655720"/>
            <a:ext cx="1533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SPK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5440" y="4557600"/>
            <a:ext cx="10731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26080" y="898560"/>
            <a:ext cx="2530440" cy="99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录音机、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唱机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线性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856040" y="1949400"/>
            <a:ext cx="611280" cy="152280"/>
            <a:chOff x="4856040" y="1949400"/>
            <a:chExt cx="611280" cy="152280"/>
          </a:xfrm>
        </p:grpSpPr>
        <p:sp>
          <p:nvSpPr>
            <p:cNvPr id="407" name=""/>
            <p:cNvSpPr/>
            <p:nvPr/>
          </p:nvSpPr>
          <p:spPr>
            <a:xfrm>
              <a:off x="4963680" y="1966680"/>
              <a:ext cx="251640" cy="12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56040" y="1966680"/>
              <a:ext cx="11268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35680" y="1966680"/>
              <a:ext cx="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82120" y="1972440"/>
              <a:ext cx="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15680" y="1949400"/>
              <a:ext cx="251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884840" y="2373480"/>
            <a:ext cx="2486880" cy="153720"/>
            <a:chOff x="4884840" y="2373480"/>
            <a:chExt cx="2486880" cy="153720"/>
          </a:xfrm>
        </p:grpSpPr>
        <p:grpSp>
          <p:nvGrpSpPr>
            <p:cNvPr id="413" name=""/>
            <p:cNvGrpSpPr/>
            <p:nvPr/>
          </p:nvGrpSpPr>
          <p:grpSpPr>
            <a:xfrm>
              <a:off x="4884840" y="2373480"/>
              <a:ext cx="611280" cy="153720"/>
              <a:chOff x="4884840" y="2373480"/>
              <a:chExt cx="611280" cy="153720"/>
            </a:xfrm>
          </p:grpSpPr>
          <p:sp>
            <p:nvSpPr>
              <p:cNvPr id="414" name=""/>
              <p:cNvSpPr/>
              <p:nvPr/>
            </p:nvSpPr>
            <p:spPr>
              <a:xfrm>
                <a:off x="4992480" y="2390760"/>
                <a:ext cx="251640" cy="12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884840" y="2390760"/>
                <a:ext cx="112680" cy="12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64480" y="2390760"/>
                <a:ext cx="0" cy="1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110920" y="2396520"/>
                <a:ext cx="0" cy="1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244480" y="2373480"/>
                <a:ext cx="25164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223320" y="2373480"/>
              <a:ext cx="1148400" cy="153720"/>
              <a:chOff x="6223320" y="2373480"/>
              <a:chExt cx="1148400" cy="153720"/>
            </a:xfrm>
          </p:grpSpPr>
          <p:sp>
            <p:nvSpPr>
              <p:cNvPr id="420" name=""/>
              <p:cNvSpPr/>
              <p:nvPr/>
            </p:nvSpPr>
            <p:spPr>
              <a:xfrm>
                <a:off x="6223320" y="2373480"/>
                <a:ext cx="972720" cy="15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94880" y="2373480"/>
                <a:ext cx="276840" cy="1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5391720" y="2453760"/>
              <a:ext cx="85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7439040" y="2171880"/>
            <a:ext cx="9968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话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500800" y="2870280"/>
            <a:ext cx="1533240" cy="230040"/>
            <a:chOff x="5500800" y="2870280"/>
            <a:chExt cx="1533240" cy="230040"/>
          </a:xfrm>
        </p:grpSpPr>
        <p:sp>
          <p:nvSpPr>
            <p:cNvPr id="425" name=""/>
            <p:cNvSpPr/>
            <p:nvPr/>
          </p:nvSpPr>
          <p:spPr>
            <a:xfrm>
              <a:off x="5500800" y="2870280"/>
              <a:ext cx="1533240" cy="230040"/>
            </a:xfrm>
            <a:custGeom>
              <a:avLst/>
              <a:gdLst/>
              <a:ahLst/>
              <a:rect l="l" t="t" r="r" b="b"/>
              <a:pathLst>
                <a:path w="2205" h="384">
                  <a:moveTo>
                    <a:pt x="0" y="55"/>
                  </a:moveTo>
                  <a:cubicBezTo>
                    <a:pt x="446" y="27"/>
                    <a:pt x="893" y="0"/>
                    <a:pt x="1260" y="55"/>
                  </a:cubicBezTo>
                  <a:cubicBezTo>
                    <a:pt x="1627" y="110"/>
                    <a:pt x="1916" y="247"/>
                    <a:pt x="2205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58520" y="2885400"/>
              <a:ext cx="218160" cy="214920"/>
            </a:xfrm>
            <a:custGeom>
              <a:avLst/>
              <a:gdLst/>
              <a:ahLst/>
              <a:rect l="l" t="t" r="r" b="b"/>
              <a:pathLst>
                <a:path w="314" h="363">
                  <a:moveTo>
                    <a:pt x="0" y="0"/>
                  </a:moveTo>
                  <a:cubicBezTo>
                    <a:pt x="15" y="13"/>
                    <a:pt x="22" y="21"/>
                    <a:pt x="74" y="81"/>
                  </a:cubicBezTo>
                  <a:cubicBezTo>
                    <a:pt x="126" y="141"/>
                    <a:pt x="229" y="246"/>
                    <a:pt x="314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876920" y="2838600"/>
            <a:ext cx="610560" cy="153720"/>
            <a:chOff x="4876920" y="2838600"/>
            <a:chExt cx="610560" cy="153720"/>
          </a:xfrm>
        </p:grpSpPr>
        <p:sp>
          <p:nvSpPr>
            <p:cNvPr id="428" name=""/>
            <p:cNvSpPr/>
            <p:nvPr/>
          </p:nvSpPr>
          <p:spPr>
            <a:xfrm>
              <a:off x="4984560" y="2855880"/>
              <a:ext cx="251640" cy="12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76920" y="2855880"/>
              <a:ext cx="112320" cy="12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56560" y="285588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02640" y="286164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36200" y="2838600"/>
              <a:ext cx="251280" cy="153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134040" y="3021120"/>
            <a:ext cx="973080" cy="461880"/>
            <a:chOff x="6134040" y="3021120"/>
            <a:chExt cx="973080" cy="461880"/>
          </a:xfrm>
        </p:grpSpPr>
        <p:grpSp>
          <p:nvGrpSpPr>
            <p:cNvPr id="434" name=""/>
            <p:cNvGrpSpPr/>
            <p:nvPr/>
          </p:nvGrpSpPr>
          <p:grpSpPr>
            <a:xfrm>
              <a:off x="6134040" y="3021120"/>
              <a:ext cx="332280" cy="450000"/>
              <a:chOff x="6134040" y="3021120"/>
              <a:chExt cx="332280" cy="450000"/>
            </a:xfrm>
          </p:grpSpPr>
          <p:sp>
            <p:nvSpPr>
              <p:cNvPr id="435" name=""/>
              <p:cNvSpPr/>
              <p:nvPr/>
            </p:nvSpPr>
            <p:spPr>
              <a:xfrm>
                <a:off x="6134040" y="3021120"/>
                <a:ext cx="332280" cy="45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7200" y="3208320"/>
                <a:ext cx="179280" cy="18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6774840" y="3033000"/>
              <a:ext cx="332280" cy="450000"/>
              <a:chOff x="6774840" y="3033000"/>
              <a:chExt cx="332280" cy="450000"/>
            </a:xfrm>
          </p:grpSpPr>
          <p:sp>
            <p:nvSpPr>
              <p:cNvPr id="438" name=""/>
              <p:cNvSpPr/>
              <p:nvPr/>
            </p:nvSpPr>
            <p:spPr>
              <a:xfrm>
                <a:off x="6774840" y="3033000"/>
                <a:ext cx="332280" cy="45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858000" y="3220200"/>
                <a:ext cx="179280" cy="18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"/>
          <p:cNvSpPr/>
          <p:nvPr/>
        </p:nvSpPr>
        <p:spPr>
          <a:xfrm>
            <a:off x="7358040" y="2778120"/>
            <a:ext cx="12780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扬声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68960" y="1079640"/>
            <a:ext cx="0" cy="489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65480" y="3344760"/>
            <a:ext cx="2844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65480" y="1787400"/>
            <a:ext cx="457200" cy="382680"/>
            <a:chOff x="4065480" y="1787400"/>
            <a:chExt cx="457200" cy="382680"/>
          </a:xfrm>
        </p:grpSpPr>
        <p:sp>
          <p:nvSpPr>
            <p:cNvPr id="444" name=""/>
            <p:cNvSpPr/>
            <p:nvPr/>
          </p:nvSpPr>
          <p:spPr>
            <a:xfrm>
              <a:off x="4065480" y="1787400"/>
              <a:ext cx="28368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69680" y="1902240"/>
              <a:ext cx="1530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065480" y="2293920"/>
            <a:ext cx="457200" cy="382680"/>
            <a:chOff x="4065480" y="2293920"/>
            <a:chExt cx="457200" cy="382680"/>
          </a:xfrm>
        </p:grpSpPr>
        <p:sp>
          <p:nvSpPr>
            <p:cNvPr id="447" name=""/>
            <p:cNvSpPr/>
            <p:nvPr/>
          </p:nvSpPr>
          <p:spPr>
            <a:xfrm>
              <a:off x="4065480" y="2293920"/>
              <a:ext cx="28368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69680" y="2373840"/>
              <a:ext cx="1530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065480" y="2798640"/>
            <a:ext cx="457200" cy="382680"/>
            <a:chOff x="4065480" y="2798640"/>
            <a:chExt cx="457200" cy="382680"/>
          </a:xfrm>
        </p:grpSpPr>
        <p:sp>
          <p:nvSpPr>
            <p:cNvPr id="450" name=""/>
            <p:cNvSpPr/>
            <p:nvPr/>
          </p:nvSpPr>
          <p:spPr>
            <a:xfrm>
              <a:off x="4065480" y="2798640"/>
              <a:ext cx="28368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69680" y="2859480"/>
              <a:ext cx="1530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368960" y="3444840"/>
            <a:ext cx="15372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31000" y="3666960"/>
            <a:ext cx="2128680" cy="9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线性输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立体声放大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6499080" y="376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7269120" y="378936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894200" y="3495600"/>
            <a:ext cx="611280" cy="152640"/>
            <a:chOff x="4894200" y="3495600"/>
            <a:chExt cx="611280" cy="152640"/>
          </a:xfrm>
        </p:grpSpPr>
        <p:sp>
          <p:nvSpPr>
            <p:cNvPr id="457" name=""/>
            <p:cNvSpPr/>
            <p:nvPr/>
          </p:nvSpPr>
          <p:spPr>
            <a:xfrm>
              <a:off x="5001840" y="3512880"/>
              <a:ext cx="251640" cy="12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4200" y="3512880"/>
              <a:ext cx="11268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73840" y="3512880"/>
              <a:ext cx="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20280" y="3518640"/>
              <a:ext cx="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53840" y="3495600"/>
              <a:ext cx="251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513400" y="3546360"/>
            <a:ext cx="1755720" cy="230400"/>
            <a:chOff x="5513400" y="3546360"/>
            <a:chExt cx="1755720" cy="230400"/>
          </a:xfrm>
        </p:grpSpPr>
        <p:sp>
          <p:nvSpPr>
            <p:cNvPr id="463" name=""/>
            <p:cNvSpPr/>
            <p:nvPr/>
          </p:nvSpPr>
          <p:spPr>
            <a:xfrm>
              <a:off x="5513400" y="3546360"/>
              <a:ext cx="1755720" cy="230400"/>
            </a:xfrm>
            <a:custGeom>
              <a:avLst/>
              <a:gdLst/>
              <a:ahLst/>
              <a:rect l="l" t="t" r="r" b="b"/>
              <a:pathLst>
                <a:path w="2205" h="384">
                  <a:moveTo>
                    <a:pt x="0" y="55"/>
                  </a:moveTo>
                  <a:cubicBezTo>
                    <a:pt x="446" y="27"/>
                    <a:pt x="893" y="0"/>
                    <a:pt x="1260" y="55"/>
                  </a:cubicBezTo>
                  <a:cubicBezTo>
                    <a:pt x="1627" y="110"/>
                    <a:pt x="1916" y="247"/>
                    <a:pt x="2205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66520" y="3561480"/>
              <a:ext cx="249840" cy="215280"/>
            </a:xfrm>
            <a:custGeom>
              <a:avLst/>
              <a:gdLst/>
              <a:ahLst/>
              <a:rect l="l" t="t" r="r" b="b"/>
              <a:pathLst>
                <a:path w="314" h="363">
                  <a:moveTo>
                    <a:pt x="0" y="0"/>
                  </a:moveTo>
                  <a:cubicBezTo>
                    <a:pt x="15" y="13"/>
                    <a:pt x="22" y="21"/>
                    <a:pt x="74" y="81"/>
                  </a:cubicBezTo>
                  <a:cubicBezTo>
                    <a:pt x="126" y="141"/>
                    <a:pt x="229" y="246"/>
                    <a:pt x="314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653000" y="4719600"/>
            <a:ext cx="3406320" cy="674640"/>
            <a:chOff x="4653000" y="4719600"/>
            <a:chExt cx="3406320" cy="674640"/>
          </a:xfrm>
        </p:grpSpPr>
        <p:grpSp>
          <p:nvGrpSpPr>
            <p:cNvPr id="466" name=""/>
            <p:cNvGrpSpPr/>
            <p:nvPr/>
          </p:nvGrpSpPr>
          <p:grpSpPr>
            <a:xfrm>
              <a:off x="4653000" y="4719600"/>
              <a:ext cx="1344600" cy="674640"/>
              <a:chOff x="4653000" y="4719600"/>
              <a:chExt cx="1344600" cy="674640"/>
            </a:xfrm>
          </p:grpSpPr>
          <p:sp>
            <p:nvSpPr>
              <p:cNvPr id="467" name=""/>
              <p:cNvSpPr/>
              <p:nvPr/>
            </p:nvSpPr>
            <p:spPr>
              <a:xfrm>
                <a:off x="4653000" y="4719600"/>
                <a:ext cx="229680" cy="67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6200000">
                <a:off x="4693320" y="4942800"/>
                <a:ext cx="567360" cy="202320"/>
              </a:xfrm>
              <a:custGeom>
                <a:avLst/>
                <a:gdLst>
                  <a:gd name="textAreaLeft" fmla="*/ 124560 w 567360"/>
                  <a:gd name="textAreaRight" fmla="*/ 442800 w 567360"/>
                  <a:gd name="textAreaTop" fmla="*/ 44280 h 202320"/>
                  <a:gd name="textAreaBottom" fmla="*/ 158040 h 20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78520" y="4981680"/>
                <a:ext cx="91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78520" y="5083200"/>
                <a:ext cx="91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5930280" y="4780440"/>
              <a:ext cx="212904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MIDI</a:t>
              </a:r>
              <a:r>
                <a:rPr b="0" lang="zh-CN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设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922560" y="4638600"/>
            <a:ext cx="600120" cy="828720"/>
            <a:chOff x="3922560" y="4638600"/>
            <a:chExt cx="600120" cy="828720"/>
          </a:xfrm>
        </p:grpSpPr>
        <p:sp>
          <p:nvSpPr>
            <p:cNvPr id="473" name=""/>
            <p:cNvSpPr/>
            <p:nvPr/>
          </p:nvSpPr>
          <p:spPr>
            <a:xfrm>
              <a:off x="3922560" y="4638600"/>
              <a:ext cx="426600" cy="8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69680" y="4699080"/>
              <a:ext cx="153000" cy="69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719280" y="1068480"/>
            <a:ext cx="3649320" cy="4620600"/>
            <a:chOff x="719280" y="1068480"/>
            <a:chExt cx="3649320" cy="4620600"/>
          </a:xfrm>
        </p:grpSpPr>
        <p:sp>
          <p:nvSpPr>
            <p:cNvPr id="476" name=""/>
            <p:cNvSpPr/>
            <p:nvPr/>
          </p:nvSpPr>
          <p:spPr>
            <a:xfrm flipH="1">
              <a:off x="1528560" y="1079280"/>
              <a:ext cx="28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1303200" y="5244120"/>
              <a:ext cx="3065400" cy="444960"/>
              <a:chOff x="1303200" y="5244120"/>
              <a:chExt cx="3065400" cy="444960"/>
            </a:xfrm>
          </p:grpSpPr>
          <p:sp>
            <p:nvSpPr>
              <p:cNvPr id="478" name=""/>
              <p:cNvSpPr/>
              <p:nvPr/>
            </p:nvSpPr>
            <p:spPr>
              <a:xfrm>
                <a:off x="1303200" y="5689080"/>
                <a:ext cx="178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3083400" y="5244120"/>
                <a:ext cx="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83400" y="5244480"/>
                <a:ext cx="49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77680" y="5689080"/>
                <a:ext cx="79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77680" y="5244480"/>
                <a:ext cx="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19280" y="1068480"/>
              <a:ext cx="875520" cy="4600440"/>
            </a:xfrm>
            <a:custGeom>
              <a:avLst/>
              <a:gdLst/>
              <a:ahLst/>
              <a:rect l="l" t="t" r="r" b="b"/>
              <a:pathLst>
                <a:path w="648" h="3619">
                  <a:moveTo>
                    <a:pt x="648" y="0"/>
                  </a:moveTo>
                  <a:cubicBezTo>
                    <a:pt x="342" y="603"/>
                    <a:pt x="36" y="1206"/>
                    <a:pt x="18" y="1645"/>
                  </a:cubicBezTo>
                  <a:cubicBezTo>
                    <a:pt x="0" y="2084"/>
                    <a:pt x="473" y="2303"/>
                    <a:pt x="543" y="2632"/>
                  </a:cubicBezTo>
                  <a:cubicBezTo>
                    <a:pt x="613" y="2961"/>
                    <a:pt x="525" y="3290"/>
                    <a:pt x="438" y="36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2500200" y="2111400"/>
            <a:ext cx="15321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MIC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472000" y="1860120"/>
            <a:ext cx="1755720" cy="228600"/>
            <a:chOff x="5472000" y="1860120"/>
            <a:chExt cx="1755720" cy="228600"/>
          </a:xfrm>
        </p:grpSpPr>
        <p:sp>
          <p:nvSpPr>
            <p:cNvPr id="486" name=""/>
            <p:cNvSpPr/>
            <p:nvPr/>
          </p:nvSpPr>
          <p:spPr>
            <a:xfrm flipV="1">
              <a:off x="5472000" y="1859760"/>
              <a:ext cx="1755720" cy="228600"/>
            </a:xfrm>
            <a:custGeom>
              <a:avLst/>
              <a:gdLst/>
              <a:ahLst/>
              <a:rect l="l" t="t" r="r" b="b"/>
              <a:pathLst>
                <a:path w="2205" h="384">
                  <a:moveTo>
                    <a:pt x="0" y="55"/>
                  </a:moveTo>
                  <a:cubicBezTo>
                    <a:pt x="446" y="27"/>
                    <a:pt x="893" y="0"/>
                    <a:pt x="1260" y="55"/>
                  </a:cubicBezTo>
                  <a:cubicBezTo>
                    <a:pt x="1627" y="110"/>
                    <a:pt x="1916" y="247"/>
                    <a:pt x="2205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225120" y="1859760"/>
              <a:ext cx="249840" cy="213480"/>
            </a:xfrm>
            <a:custGeom>
              <a:avLst/>
              <a:gdLst/>
              <a:ahLst/>
              <a:rect l="l" t="t" r="r" b="b"/>
              <a:pathLst>
                <a:path w="314" h="363">
                  <a:moveTo>
                    <a:pt x="0" y="0"/>
                  </a:moveTo>
                  <a:cubicBezTo>
                    <a:pt x="15" y="13"/>
                    <a:pt x="22" y="21"/>
                    <a:pt x="74" y="81"/>
                  </a:cubicBezTo>
                  <a:cubicBezTo>
                    <a:pt x="126" y="141"/>
                    <a:pt x="229" y="246"/>
                    <a:pt x="314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rot="5400000">
            <a:off x="6417720" y="17874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5400000">
            <a:off x="7188120" y="178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000880" y="539640"/>
            <a:ext cx="493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软件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不同的声卡，软件的安装方法不完全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，需要按照说明书安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驱动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的驱动程序是控制声卡工作的必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，不同的声卡驱动程序是不同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应用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声卡的应用程序，例如混音器、录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师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ID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辑软件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77680" y="539640"/>
            <a:ext cx="41792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1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硬件系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1946880" y="1619280"/>
            <a:ext cx="32533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多媒体硬件系统的组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1804320" y="2338560"/>
            <a:ext cx="28267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多媒体个人计算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393000" y="539640"/>
            <a:ext cx="218628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安装测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51240" y="1258920"/>
            <a:ext cx="5987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安装完成后，即可对声卡进行测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检查声卡能否正常工作，可以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“媒体播放机”进行测试。如果测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，没有声音播出，可能有两种情况：一是插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触不良，请检测扬声器插孔、音量开关等；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配置产生冲突，进入控制面板的“系统”设置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看是否有冲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916000" y="539640"/>
            <a:ext cx="320400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4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视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77200" y="1258920"/>
            <a:ext cx="493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凡是通过视觉传递信息的媒体，都属于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觉媒体。视频是多媒体的重要组成部分，是人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容易接受的信息媒体。包括静态视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静态图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和动态视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电影、动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。通常，我们将静态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频称“图像”，而用“视频”专指动态视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rId2" action="ppaction://hlinksldjump"/>
          </p:cNvPr>
          <p:cNvSpPr/>
          <p:nvPr/>
        </p:nvSpPr>
        <p:spPr>
          <a:xfrm>
            <a:off x="1982520" y="3598920"/>
            <a:ext cx="49600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4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的彩色空间的表示及转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rId4" action="ppaction://hlinksldjump"/>
          </p:cNvPr>
          <p:cNvSpPr/>
          <p:nvPr/>
        </p:nvSpPr>
        <p:spPr>
          <a:xfrm>
            <a:off x="1484280" y="4317840"/>
            <a:ext cx="34668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4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拟视频标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>
            <a:hlinkClick r:id="rId6" action="ppaction://hlinksldjump"/>
          </p:cNvPr>
          <p:cNvSpPr/>
          <p:nvPr/>
        </p:nvSpPr>
        <p:spPr>
          <a:xfrm>
            <a:off x="1342440" y="5037120"/>
            <a:ext cx="30398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4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视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rId8" action="ppaction://hlinksldjump"/>
          </p:cNvPr>
          <p:cNvSpPr/>
          <p:nvPr/>
        </p:nvSpPr>
        <p:spPr>
          <a:xfrm>
            <a:off x="1413360" y="5757840"/>
            <a:ext cx="325332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4.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rId10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725480" y="539640"/>
            <a:ext cx="564228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4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视频的彩色空间的表示及转换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15560" y="1258920"/>
            <a:ext cx="525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多媒体计算机中，常常涉及到几种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色彩空间表示颜色。如计算机显示时采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；彩色印刷时采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MY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；彩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电视信号数字化时采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UV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；为了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于色彩处理和识别，视觉系统又经常采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空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rId2" action="ppaction://hlinksldjump"/>
          </p:cNvPr>
          <p:cNvSpPr/>
          <p:nvPr/>
        </p:nvSpPr>
        <p:spPr>
          <a:xfrm>
            <a:off x="1626840" y="3957480"/>
            <a:ext cx="28263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彩的基本概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4" action="ppaction://hlinksldjump"/>
          </p:cNvPr>
          <p:cNvSpPr/>
          <p:nvPr/>
        </p:nvSpPr>
        <p:spPr>
          <a:xfrm>
            <a:off x="1626840" y="4678200"/>
            <a:ext cx="28263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彩空间的表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rId6" action="ppaction://hlinksldjump"/>
          </p:cNvPr>
          <p:cNvSpPr/>
          <p:nvPr/>
        </p:nvSpPr>
        <p:spPr>
          <a:xfrm>
            <a:off x="1626840" y="5397480"/>
            <a:ext cx="28263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彩空间的转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066840" y="539640"/>
            <a:ext cx="28263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彩的基本概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77200" y="1258920"/>
            <a:ext cx="493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颜色与光的波长有关，不同波长的光呈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同颜色。颜色具有三个特征：色调、亮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饱和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色调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表示颜色的种类，如红、黄、蓝等。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取决于光的波长，是决定颜色的基本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饱和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是表示颜色的纯净程度，即色彩含有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单色光的纯净程度。它是按单色光中混入其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的比例来表示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亮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是指色彩所引起的人眼对明暗程度的感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一种色调的亮度会因光源的强弱产生不同的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化，同一色调如加上不同比例的黑或白色混合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亮度也会发生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66840" y="539640"/>
            <a:ext cx="28263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彩空间的表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rId2" action="ppaction://hlinksldjump"/>
          </p:cNvPr>
          <p:cNvSpPr/>
          <p:nvPr/>
        </p:nvSpPr>
        <p:spPr>
          <a:xfrm>
            <a:off x="2403000" y="1619280"/>
            <a:ext cx="44902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显视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rId4"/>
          </p:cNvPr>
          <p:cNvSpPr/>
          <p:nvPr/>
        </p:nvSpPr>
        <p:spPr>
          <a:xfrm>
            <a:off x="2189520" y="2338560"/>
            <a:ext cx="49172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印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MY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6"/>
          </p:cNvPr>
          <p:cNvSpPr/>
          <p:nvPr/>
        </p:nvSpPr>
        <p:spPr>
          <a:xfrm>
            <a:off x="2210760" y="3057480"/>
            <a:ext cx="48747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电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UV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IQ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8"/>
          </p:cNvPr>
          <p:cNvSpPr/>
          <p:nvPr/>
        </p:nvSpPr>
        <p:spPr>
          <a:xfrm>
            <a:off x="1848600" y="3778200"/>
            <a:ext cx="55998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H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144080" y="539640"/>
            <a:ext cx="449028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显视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23560" y="1258920"/>
            <a:ext cx="68684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RGB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彩色空间又称加色法系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空间采用三种基本颜色，即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红，绿，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显视器的输入需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个彩色分量，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个分量的不同比例配合，在显示屏幕上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需要的任意颜色，三种颜色均无时显示黑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，任意彩色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其配色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可写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F=r[R]+g[G]+b[B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中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三色系数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[R]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[G]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[B]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光的三色分量。任意一种色光，其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度可由相对色系数中的任意两个唯一的确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30600" y="539640"/>
            <a:ext cx="4917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印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MY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44920" y="1258920"/>
            <a:ext cx="544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CMYK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彩色空间又称减色法系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彩色印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靛蓝、品红、黄色和黑色四种油墨印刷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颜色，通常把这四种颜色简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MY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靛蓝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品红、黄色三种颜色混合在一起时应呈黑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现实中，把等量的靛蓝、品红、黄色油墨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在一起产生不是黑色而是深棕色。因此又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入一些黑墨以打印真正的黑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951840" y="539640"/>
            <a:ext cx="48747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电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UV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IQ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95000" y="1258920"/>
            <a:ext cx="614736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代彩色电视系统中，通常采用三管彩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摄像机或彩色电荷耦合器件摄像机，把摄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图像信号，经分色棱镜分成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个分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信号，分别经放大和校正得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号，再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矩阵变换电路得到亮度信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色差信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-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最后发送端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-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-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个信号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行编码，用同一信道发送出去。这就是常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YUV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彩色空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中采用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UV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，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化后通常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∶U∶V = 8∶4∶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者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∶U∶V = 8∶2∶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549440" y="539640"/>
            <a:ext cx="56358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美国、日本等国采用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TS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，选用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YIQ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彩色空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仍为亮度信号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仍为色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号，但它们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不同的，其区别是色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矢量图中的位置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间的关系可以表示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I=Vcos33</a:t>
            </a:r>
            <a:r>
              <a:rPr b="0" lang="zh-CN" sz="2800" spc="-1" strike="noStrike" baseline="50000">
                <a:solidFill>
                  <a:srgbClr val="ff3300"/>
                </a:solidFill>
                <a:latin typeface="隶书"/>
                <a:ea typeface="隶书"/>
              </a:rPr>
              <a:t>o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–Usin33</a:t>
            </a:r>
            <a:r>
              <a:rPr b="0" lang="zh-CN" sz="2800" spc="-1" strike="noStrike" baseline="50000">
                <a:solidFill>
                  <a:srgbClr val="ff3300"/>
                </a:solidFill>
                <a:latin typeface="隶书"/>
                <a:ea typeface="隶书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Q=Vsin33</a:t>
            </a:r>
            <a:r>
              <a:rPr b="0" lang="zh-CN" sz="2800" spc="-1" strike="noStrike" baseline="50000">
                <a:solidFill>
                  <a:srgbClr val="ff3300"/>
                </a:solidFill>
                <a:latin typeface="隶书"/>
                <a:ea typeface="隶书"/>
              </a:rPr>
              <a:t>o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+Ucos33</a:t>
            </a:r>
            <a:r>
              <a:rPr b="0" lang="zh-CN" sz="2800" spc="-1" strike="noStrike" baseline="50000">
                <a:solidFill>
                  <a:srgbClr val="ff3300"/>
                </a:solidFill>
                <a:latin typeface="隶书"/>
                <a:ea typeface="隶书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20080" y="3598920"/>
            <a:ext cx="5319360" cy="27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IQ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的好处是，人眼的彩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觉特性表明，人眼分辨红、黄之间颜色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能力最强，而分辨蓝与紫之间颜色变化的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力最弱。在色度矢量图中，人眼对于处在红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黄之间，相角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3</a:t>
            </a:r>
            <a:r>
              <a:rPr b="0" lang="zh-CN" sz="2800" spc="-1" strike="noStrike" baseline="50000">
                <a:solidFill>
                  <a:srgbClr val="000000"/>
                </a:solidFill>
                <a:latin typeface="隶书"/>
                <a:ea typeface="隶书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橙色及其相反方向相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03</a:t>
            </a:r>
            <a:r>
              <a:rPr b="0" lang="zh-CN" sz="2800" spc="-1" strike="noStrike" baseline="50000">
                <a:solidFill>
                  <a:srgbClr val="000000"/>
                </a:solidFill>
                <a:latin typeface="隶书"/>
                <a:ea typeface="隶书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青色，具有最大的彩色分辨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89680" y="539640"/>
            <a:ext cx="55998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H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65920" y="1258920"/>
            <a:ext cx="61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中，人们常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描述颜色特性，其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色调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颜色的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度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光的强度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能够减少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图像处理的复杂性，而且更接近人对色彩的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识和解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26160" y="539640"/>
            <a:ext cx="32533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多媒体硬件系统的组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92600" y="1258920"/>
            <a:ext cx="495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硬件系统是由计算机传统硬件设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存储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CD-ROM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音频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出和处理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备、视频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出和处理设备等选择性组合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，其基本框图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98560" y="2932560"/>
            <a:ext cx="7196040" cy="3816000"/>
            <a:chOff x="898560" y="2932560"/>
            <a:chExt cx="7196040" cy="3816000"/>
          </a:xfrm>
        </p:grpSpPr>
        <p:sp>
          <p:nvSpPr>
            <p:cNvPr id="68" name=""/>
            <p:cNvSpPr/>
            <p:nvPr/>
          </p:nvSpPr>
          <p:spPr>
            <a:xfrm>
              <a:off x="3417840" y="5308560"/>
              <a:ext cx="2158920" cy="71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主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76400" y="3780000"/>
              <a:ext cx="1440000" cy="10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显示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35680" y="5399280"/>
              <a:ext cx="2158920" cy="539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视频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8560" y="5399280"/>
              <a:ext cx="2158920" cy="539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声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76400" y="6299280"/>
              <a:ext cx="1440000" cy="4492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CD-R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8" idx="2"/>
              <a:endCxn id="72" idx="0"/>
            </p:cNvCxnSpPr>
            <p:nvPr/>
          </p:nvCxnSpPr>
          <p:spPr>
            <a:xfrm>
              <a:off x="4496760" y="6027840"/>
              <a:ext cx="1080" cy="27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>
              <a:stCxn id="68" idx="0"/>
              <a:endCxn id="69" idx="2"/>
            </p:cNvCxnSpPr>
            <p:nvPr/>
          </p:nvCxnSpPr>
          <p:spPr>
            <a:xfrm flipV="1">
              <a:off x="4496760" y="4858920"/>
              <a:ext cx="108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"/>
            <p:cNvCxnSpPr>
              <a:stCxn id="68" idx="1"/>
              <a:endCxn id="71" idx="3"/>
            </p:cNvCxnSpPr>
            <p:nvPr/>
          </p:nvCxnSpPr>
          <p:spPr>
            <a:xfrm flipH="1">
              <a:off x="3056760" y="5668560"/>
              <a:ext cx="3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" name=""/>
            <p:cNvCxnSpPr>
              <a:stCxn id="68" idx="3"/>
              <a:endCxn id="70" idx="1"/>
            </p:cNvCxnSpPr>
            <p:nvPr/>
          </p:nvCxnSpPr>
          <p:spPr>
            <a:xfrm>
              <a:off x="5576400" y="5668560"/>
              <a:ext cx="35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7" name=""/>
            <p:cNvSpPr/>
            <p:nvPr/>
          </p:nvSpPr>
          <p:spPr>
            <a:xfrm>
              <a:off x="5939640" y="322740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摄像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60360" y="322740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影碟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79640" y="322740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录像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21800" y="322740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麦克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2160" y="322740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扬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2520" y="322740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收录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02160" y="2932560"/>
              <a:ext cx="521640" cy="24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MIDI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合成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25480" y="44989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5120" y="44989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5120" y="44989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24400" y="44989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3680" y="44989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4400" y="44989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5840" y="5038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LIN_107" descr=""/>
          <p:cNvPicPr/>
          <p:nvPr/>
        </p:nvPicPr>
        <p:blipFill>
          <a:blip r:embed="rId7"/>
          <a:stretch/>
        </p:blipFill>
        <p:spPr>
          <a:xfrm>
            <a:off x="898560" y="3057480"/>
            <a:ext cx="719784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066840" y="539640"/>
            <a:ext cx="28263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色彩空间的转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00320" y="1258920"/>
            <a:ext cx="6514560" cy="46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与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YUV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YIQ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之间的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摄像机最初得到的是经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校正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号，为了和黑白电视机兼容及压缩编码，在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送过程中包含亮度信号和色差信号，亮度方程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化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Y=0.3R+0.59G+0.11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个色差信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-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-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-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有两个是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立的，另一个可用亮度方程和两个色差信号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算得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971640" y="539640"/>
            <a:ext cx="73497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IQ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彩色空间的转换方法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V=0.877(R-Y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U=0.493(B-Y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代入下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=Vcos33</a:t>
            </a:r>
            <a:r>
              <a:rPr b="0" lang="zh-CN" sz="2800" spc="-1" strike="noStrike" baseline="50000">
                <a:solidFill>
                  <a:srgbClr val="000000"/>
                </a:solidFill>
                <a:latin typeface="隶书"/>
                <a:ea typeface="隶书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–Usin33</a:t>
            </a:r>
            <a:r>
              <a:rPr b="0" lang="zh-CN" sz="2800" spc="-1" strike="noStrike" baseline="50000">
                <a:solidFill>
                  <a:srgbClr val="000000"/>
                </a:solidFill>
                <a:latin typeface="隶书"/>
                <a:ea typeface="隶书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Q=Vsin33</a:t>
            </a:r>
            <a:r>
              <a:rPr b="0" lang="zh-CN" sz="2800" spc="-1" strike="noStrike" baseline="50000">
                <a:solidFill>
                  <a:srgbClr val="000000"/>
                </a:solidFill>
                <a:latin typeface="隶书"/>
                <a:ea typeface="隶书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+Ucos33</a:t>
            </a:r>
            <a:r>
              <a:rPr b="0" lang="zh-CN" sz="2800" spc="-1" strike="noStrike" baseline="50000">
                <a:solidFill>
                  <a:srgbClr val="000000"/>
                </a:solidFill>
                <a:latin typeface="隶书"/>
                <a:ea typeface="隶书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4040" y="2517840"/>
            <a:ext cx="40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HIS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与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之间的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258920" y="3238560"/>
                <a:ext cx="6934320" cy="27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r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/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e>
                                </m:d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775960" y="539640"/>
            <a:ext cx="393516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4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模拟视频标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65640" y="1258920"/>
            <a:ext cx="5984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国际上流行的视频制式标准分别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TS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式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式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ECA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美国、日本、中国台湾等地区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TS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及欧洲大多数地区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式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式规定：每秒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帧，每帧水平扫描线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2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水平分辨率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40-4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像素点，采用隔行扫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方式，场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垂直扫描频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0H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行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水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扫描频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5625H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法国、俄罗斯、非洲地区采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ECA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794320" y="539640"/>
            <a:ext cx="344772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4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数字视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00880" y="1258920"/>
            <a:ext cx="49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视频数字化是指以一定的速度对模拟视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信号进行捕获、处理生成数字信息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>
            <a:hlinkClick r:id="rId2"/>
          </p:cNvPr>
          <p:cNvSpPr/>
          <p:nvPr/>
        </p:nvSpPr>
        <p:spPr>
          <a:xfrm>
            <a:off x="1662480" y="2495520"/>
            <a:ext cx="23997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数字视频标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rId4"/>
          </p:cNvPr>
          <p:cNvSpPr/>
          <p:nvPr/>
        </p:nvSpPr>
        <p:spPr>
          <a:xfrm>
            <a:off x="1733400" y="3216240"/>
            <a:ext cx="26132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数字视频的压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>
            <a:hlinkClick r:id="rId6"/>
          </p:cNvPr>
          <p:cNvSpPr/>
          <p:nvPr/>
        </p:nvSpPr>
        <p:spPr>
          <a:xfrm>
            <a:off x="1733400" y="3935520"/>
            <a:ext cx="26132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数字视频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281400" y="539640"/>
            <a:ext cx="23997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数字视频标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35080" y="1258920"/>
            <a:ext cx="646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拟视频的数字化主要包括色彩空间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转换、光栅扫描的转换以及分辨率的统一。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视频一般采用分量数字化方式，先把复合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信号中的亮度和色度分离，得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UV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IQ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量，然后用三个模／数转换器对三个分量分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数字化，最后再转换成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空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了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TS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ECA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视制式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确定共同的数字化参数，国家无线电咨询委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CCIR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定了广播级质量的数字电视编码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，称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CIR 60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072080" y="539640"/>
            <a:ext cx="678708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频率为</a:t>
            </a:r>
            <a:r>
              <a:rPr b="0" lang="zh-CN" sz="2800" spc="-1" strike="noStrike">
                <a:solidFill>
                  <a:srgbClr val="000000"/>
                </a:solidFill>
                <a:latin typeface="Monotype Corsiva"/>
                <a:ea typeface="隶书"/>
              </a:rPr>
              <a:t>f </a:t>
            </a:r>
            <a:r>
              <a:rPr b="0" lang="zh-CN" sz="2800" spc="-1" strike="noStrike" baseline="-40000">
                <a:solidFill>
                  <a:srgbClr val="000000"/>
                </a:solidFill>
                <a:latin typeface="Monotype Corsiva"/>
                <a:ea typeface="隶书"/>
              </a:rPr>
              <a:t>s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=13.5MH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这个采样频率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好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A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ECA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行频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6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倍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TS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行频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5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倍，可以保证采样时采样时钟与行同步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29400" y="233856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辨率与帧率见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523880" y="3048120"/>
          <a:ext cx="6096240" cy="1552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电视制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分辨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帧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NT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40×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PA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、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SEC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768×5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"/>
          <p:cNvSpPr/>
          <p:nvPr/>
        </p:nvSpPr>
        <p:spPr>
          <a:xfrm>
            <a:off x="439920" y="4678200"/>
            <a:ext cx="803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采样率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3.5MH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采样格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样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量化，计算出数字视频的数据量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3.5(MHz)×8(bi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×6.75(MHz)×8(bit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7 Mbyte /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173400" y="539640"/>
            <a:ext cx="2613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数字视频的压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47360" y="1258920"/>
            <a:ext cx="5642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信息的原始数据存在帧内“空间相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相邻帧间“时间相关”，使原始数据存在大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数据冗余。另外，人类视觉、听觉器官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某些不敏感性，如对色彩亮度敏感而对色调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辨力弱等因素，以至于可对某些原非冗余的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进行压缩，从而可大幅度地提高压缩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视频压缩编码方法有多种，其中最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代表性的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MPEG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视频格式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V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视频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。各种压缩编码算法可用软件、硬件或软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结合的方法来实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173400" y="539640"/>
            <a:ext cx="2613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数字视频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76040" y="1258920"/>
            <a:ext cx="5243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视频可以无失真地进行无限次拷贝，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拟视频信号每转录一次，就会有一次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差积累，产生信号失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拟视频长时间存放后视频质量会降低，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视频便于长时间的存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对数字视频进行非线性编辑，并可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技效果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视频数据量大，在存储与传输的过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必须进行压缩编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694600" y="539640"/>
            <a:ext cx="36914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4.4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00880" y="1258920"/>
            <a:ext cx="49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视频采集卡又称视频捕获卡，是对模拟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频图像进行捕捉并转化为数字信号的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rId2"/>
          </p:cNvPr>
          <p:cNvSpPr/>
          <p:nvPr/>
        </p:nvSpPr>
        <p:spPr>
          <a:xfrm>
            <a:off x="1697760" y="2338560"/>
            <a:ext cx="30398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>
            <a:hlinkClick r:id="rId4"/>
          </p:cNvPr>
          <p:cNvSpPr/>
          <p:nvPr/>
        </p:nvSpPr>
        <p:spPr>
          <a:xfrm>
            <a:off x="1840320" y="3057480"/>
            <a:ext cx="3466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的工作原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6"/>
          </p:cNvPr>
          <p:cNvSpPr/>
          <p:nvPr/>
        </p:nvSpPr>
        <p:spPr>
          <a:xfrm>
            <a:off x="1697760" y="3778200"/>
            <a:ext cx="30398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的安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137760" y="539640"/>
            <a:ext cx="30398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77200" y="1258920"/>
            <a:ext cx="493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的主要功能是从动态视频中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或非实时捕获图像并存储。它可以将摄像机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录像机和其它视频信号源的模拟视频信号转录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内部，也可以用摄像机将现场的图像实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计算机。视频采集卡能在捕捉视频信息的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获得伴音，使音频部分和视频部分在数字化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步保存、同步播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不但能把视频图像以不同的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窗口大小显示在计算机的显示器上，而且还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许多特殊效果，如冻结、淡出、旋转、镜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65880" y="539640"/>
            <a:ext cx="500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卡是处理和播放多媒体声音的关键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，它通过插入主板扩展槽中与主机相连。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的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出接口可以与相应的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备相连。常见的输入设备包括麦克风、收录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电子乐器等，常见的输出设备包括扬声器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响设备等。声卡由声源获取声音，并进行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转换或压缩，而后存入计算机中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理。声卡还可以把经过计算机处理的数字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声音通过解压缩、数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拟转换后，送到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设备进行播放或录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740320" y="539640"/>
            <a:ext cx="34664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的工作原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16480" y="12589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视频采集卡的结构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184760" y="1978200"/>
            <a:ext cx="6943680" cy="2860200"/>
            <a:chOff x="1184760" y="1978200"/>
            <a:chExt cx="6943680" cy="2860200"/>
          </a:xfrm>
        </p:grpSpPr>
        <p:sp>
          <p:nvSpPr>
            <p:cNvPr id="554" name=""/>
            <p:cNvSpPr/>
            <p:nvPr/>
          </p:nvSpPr>
          <p:spPr>
            <a:xfrm>
              <a:off x="1184760" y="1978200"/>
              <a:ext cx="1034280" cy="947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多通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视频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5280" y="1978200"/>
              <a:ext cx="820800" cy="947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/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转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24760" y="1978200"/>
              <a:ext cx="1034280" cy="947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视频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帧存储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53840" y="1978200"/>
              <a:ext cx="820800" cy="947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D/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转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21120" y="1978200"/>
              <a:ext cx="607320" cy="947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显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92840" y="3417840"/>
              <a:ext cx="346644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视频采集控制器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79360" y="4317840"/>
              <a:ext cx="389304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计算机主机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"/>
            <p:cNvCxnSpPr>
              <a:stCxn id="559" idx="2"/>
              <a:endCxn id="560" idx="0"/>
            </p:cNvCxnSpPr>
            <p:nvPr/>
          </p:nvCxnSpPr>
          <p:spPr>
            <a:xfrm>
              <a:off x="4925520" y="3936960"/>
              <a:ext cx="1080" cy="381600"/>
            </a:xfrm>
            <a:prstGeom prst="straightConnector1">
              <a:avLst/>
            </a:prstGeom>
            <a:ln w="1260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62" name=""/>
            <p:cNvCxnSpPr>
              <a:stCxn id="554" idx="3"/>
              <a:endCxn id="555" idx="1"/>
            </p:cNvCxnSpPr>
            <p:nvPr/>
          </p:nvCxnSpPr>
          <p:spPr>
            <a:xfrm>
              <a:off x="2505240" y="2450880"/>
              <a:ext cx="373680" cy="1080"/>
            </a:xfrm>
            <a:prstGeom prst="straightConnector1">
              <a:avLst/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563" name=""/>
            <p:cNvCxnSpPr>
              <a:stCxn id="555" idx="3"/>
              <a:endCxn id="556" idx="1"/>
            </p:cNvCxnSpPr>
            <p:nvPr/>
          </p:nvCxnSpPr>
          <p:spPr>
            <a:xfrm>
              <a:off x="3773520" y="2450880"/>
              <a:ext cx="365760" cy="1080"/>
            </a:xfrm>
            <a:prstGeom prst="straightConnector1">
              <a:avLst/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564" name=""/>
            <p:cNvCxnSpPr>
              <a:stCxn id="556" idx="3"/>
              <a:endCxn id="557" idx="1"/>
            </p:cNvCxnSpPr>
            <p:nvPr/>
          </p:nvCxnSpPr>
          <p:spPr>
            <a:xfrm>
              <a:off x="5745240" y="2450880"/>
              <a:ext cx="372240" cy="1080"/>
            </a:xfrm>
            <a:prstGeom prst="straightConnector1">
              <a:avLst/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565" name=""/>
            <p:cNvCxnSpPr>
              <a:stCxn id="557" idx="3"/>
              <a:endCxn id="558" idx="1"/>
            </p:cNvCxnSpPr>
            <p:nvPr/>
          </p:nvCxnSpPr>
          <p:spPr>
            <a:xfrm>
              <a:off x="7012080" y="2450880"/>
              <a:ext cx="365760" cy="1080"/>
            </a:xfrm>
            <a:prstGeom prst="straightConnector1">
              <a:avLst/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  <p:sp>
          <p:nvSpPr>
            <p:cNvPr id="566" name=""/>
            <p:cNvSpPr/>
            <p:nvPr/>
          </p:nvSpPr>
          <p:spPr>
            <a:xfrm>
              <a:off x="3276720" y="2895480"/>
              <a:ext cx="0" cy="533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48200" y="2895480"/>
              <a:ext cx="0" cy="533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137760" y="539640"/>
            <a:ext cx="30398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的安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54280" y="1258920"/>
            <a:ext cx="5429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硬件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闭计算机及所有外围设备的电源，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拔去电源插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触摸计算机金属外壳并使自己接地，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放掉身上的静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主机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视频采集卡插入到主板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插槽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用螺钉把视频采集卡紧固在机箱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机箱重新安装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采集卡与视频信号源的连接如下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1798560" y="539640"/>
            <a:ext cx="4950720" cy="2819520"/>
            <a:chOff x="1798560" y="539640"/>
            <a:chExt cx="4950720" cy="2819520"/>
          </a:xfrm>
        </p:grpSpPr>
        <p:sp>
          <p:nvSpPr>
            <p:cNvPr id="572" name=""/>
            <p:cNvSpPr/>
            <p:nvPr/>
          </p:nvSpPr>
          <p:spPr>
            <a:xfrm>
              <a:off x="2428200" y="2448000"/>
              <a:ext cx="1826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S-Video</a:t>
              </a: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输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95240" y="720720"/>
              <a:ext cx="146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Vide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73240" y="539640"/>
              <a:ext cx="0" cy="28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4248000" y="617400"/>
              <a:ext cx="684000" cy="730440"/>
              <a:chOff x="4248000" y="617400"/>
              <a:chExt cx="684000" cy="730440"/>
            </a:xfrm>
          </p:grpSpPr>
          <p:sp>
            <p:nvSpPr>
              <p:cNvPr id="576" name=""/>
              <p:cNvSpPr/>
              <p:nvPr/>
            </p:nvSpPr>
            <p:spPr>
              <a:xfrm>
                <a:off x="4248000" y="825840"/>
                <a:ext cx="684000" cy="401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722120" y="617400"/>
                <a:ext cx="68400" cy="73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4338360" y="2502000"/>
              <a:ext cx="43488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4248000" y="1479600"/>
              <a:ext cx="684000" cy="730080"/>
              <a:chOff x="4248000" y="1479600"/>
              <a:chExt cx="684000" cy="730080"/>
            </a:xfrm>
          </p:grpSpPr>
          <p:sp>
            <p:nvSpPr>
              <p:cNvPr id="580" name=""/>
              <p:cNvSpPr/>
              <p:nvPr/>
            </p:nvSpPr>
            <p:spPr>
              <a:xfrm>
                <a:off x="4248000" y="1688040"/>
                <a:ext cx="684000" cy="401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722120" y="1479600"/>
                <a:ext cx="68400" cy="73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179440" y="2955960"/>
              <a:ext cx="2610720" cy="403200"/>
              <a:chOff x="2179440" y="2955960"/>
              <a:chExt cx="2610720" cy="40320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4315320" y="3359160"/>
                <a:ext cx="47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4315680" y="2955960"/>
                <a:ext cx="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841200" y="2955960"/>
                <a:ext cx="47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41200" y="2955960"/>
                <a:ext cx="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179440" y="3359160"/>
                <a:ext cx="16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 flipH="1">
              <a:off x="2342520" y="539640"/>
              <a:ext cx="24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8560" y="539640"/>
              <a:ext cx="688680" cy="2814840"/>
            </a:xfrm>
            <a:custGeom>
              <a:avLst/>
              <a:gdLst/>
              <a:ahLst/>
              <a:rect l="l" t="t" r="r" b="b"/>
              <a:pathLst>
                <a:path w="570" h="2184">
                  <a:moveTo>
                    <a:pt x="570" y="0"/>
                  </a:moveTo>
                  <a:cubicBezTo>
                    <a:pt x="315" y="247"/>
                    <a:pt x="60" y="494"/>
                    <a:pt x="30" y="780"/>
                  </a:cubicBezTo>
                  <a:cubicBezTo>
                    <a:pt x="0" y="1066"/>
                    <a:pt x="330" y="1482"/>
                    <a:pt x="390" y="1716"/>
                  </a:cubicBezTo>
                  <a:cubicBezTo>
                    <a:pt x="450" y="1950"/>
                    <a:pt x="390" y="2132"/>
                    <a:pt x="390" y="21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19920" y="79380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录像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19920" y="15127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摄像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19920" y="223200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影碟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52840" y="993960"/>
              <a:ext cx="127080" cy="184464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47880 h 1844640"/>
                <a:gd name="textAreaBottom" fmla="*/ 1796760 h 18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5240" y="1620720"/>
              <a:ext cx="146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Vide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1638000" y="3598920"/>
            <a:ext cx="581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软件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卡在硬件安装完成之后，开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 9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就会自动地显示找到一个新设备，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持即插即用的采集卡可使用安装向导安装驱动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。驱动程序安装完毕后再安装视频捕捉应用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077200" y="1258920"/>
            <a:ext cx="49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字化的多媒体信息量非常大，要占用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的存储空间，光存储技术的发展为存储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提供了保证。光盘存储器具有存储容量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作稳定、密度高、寿命长、介质可换、便于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带、价格低廉等优点，已成为多媒体信息存储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遍使用的载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8000" y="539640"/>
            <a:ext cx="369180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5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光存储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2"/>
          </p:cNvPr>
          <p:cNvSpPr/>
          <p:nvPr/>
        </p:nvSpPr>
        <p:spPr>
          <a:xfrm>
            <a:off x="1555560" y="4138560"/>
            <a:ext cx="36799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5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存储技术概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4"/>
          </p:cNvPr>
          <p:cNvSpPr/>
          <p:nvPr/>
        </p:nvSpPr>
        <p:spPr>
          <a:xfrm>
            <a:off x="1235880" y="4857840"/>
            <a:ext cx="43200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5.2  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系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6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498040" y="539640"/>
            <a:ext cx="417924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5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光存储技术概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77200" y="1258920"/>
            <a:ext cx="49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存储技术是通过激光在记录介质上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读写数据的存储技术。其基本原理是：改变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储单元的某种性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反射率、反射光极化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向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使其性质的变化反映被存储的二进制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读取数据时，光电检测器检测出光强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极性的变化，从而读出存储在介质上的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2"/>
          </p:cNvPr>
          <p:cNvSpPr/>
          <p:nvPr/>
        </p:nvSpPr>
        <p:spPr>
          <a:xfrm>
            <a:off x="1591200" y="3957480"/>
            <a:ext cx="21866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系统的组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4"/>
          </p:cNvPr>
          <p:cNvSpPr/>
          <p:nvPr/>
        </p:nvSpPr>
        <p:spPr>
          <a:xfrm>
            <a:off x="1733400" y="4678200"/>
            <a:ext cx="26132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系统的技术指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6"/>
          </p:cNvPr>
          <p:cNvSpPr/>
          <p:nvPr/>
        </p:nvSpPr>
        <p:spPr>
          <a:xfrm>
            <a:off x="1733400" y="5397480"/>
            <a:ext cx="26132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光盘系统的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389760" y="539640"/>
            <a:ext cx="21866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系统的组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07800" y="1258920"/>
            <a:ext cx="472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光盘系统由光盘驱动器和光盘盘片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光学存储的基本特点是用激光引导测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系统的精密光学结构取代硬盘驱动器的精密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械结构。光盘驱动器的读写头是用半导体激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器和光路系统组成的光学头，光盘盘片采用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光材料。驱动器采用一系列透镜和反射镜，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微细的激光束引导至一个旋转光盘上的微小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173400" y="539640"/>
            <a:ext cx="2613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系统的技术指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06280" y="1258920"/>
            <a:ext cx="472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衡量一个光盘系统特性的主要技术指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包括存储容量、平均存取时间、数据传输率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标准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29960" y="2517840"/>
            <a:ext cx="472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存储容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存储容量是指能存储在光盘中的信息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量。目前光盘常用的容量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50M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95240" y="3957480"/>
            <a:ext cx="534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数据传输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传输率一般是指单位时间内光盘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器读取出的数据量。该数值与光盘转速和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储密度有关。对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其数据传输率已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期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50K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高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600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865880" y="358920"/>
            <a:ext cx="500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平均存取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均存取时间是指从计算机向光盘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器发出命令开始，到光盘驱动器在光盘上找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读／写的信息的位置并接受读／写命令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一段时间。光学头沿半径移动全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需的时间为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平均寻道时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盘片旋转半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为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平均等待时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把平均寻道时间、平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待时间和读／写光学头稳定时间相加，就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平均存取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76080" y="4317840"/>
            <a:ext cx="5429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接口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常用的光盘驱动器接口标准有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SC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ID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种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C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型数据传输快，需配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相应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CS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卡；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D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的光驱使用方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价格便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173400" y="539640"/>
            <a:ext cx="2613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光盘系统的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54520" y="1258920"/>
            <a:ext cx="7136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光盘系统的读写能力，常用的光存储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可分为三类：只读型、一次写入型、可重写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只读型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CD-R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盘的内容是在制作光盘时写入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可任意多次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读取信息，而不能往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写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一次写光盘系统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CD-WO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次写多次读光盘系统中的光盘，用户可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做一次写入内容，以后成为只读光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可重写型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Rewriteable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或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Eras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重写型光盘像磁盘一样具有可擦写性。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又分磁光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MO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相变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PC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种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311920" y="539640"/>
            <a:ext cx="491076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5.2  CD-RO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光盘系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000" y="1258920"/>
            <a:ext cx="8989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(Compact Disc-Read Only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包括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两部分。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是多媒体信息的载体；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器通过连线与计算机相连，主要任务是完成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片上的数据读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rId2"/>
          </p:cNvPr>
          <p:cNvSpPr/>
          <p:nvPr/>
        </p:nvSpPr>
        <p:spPr>
          <a:xfrm>
            <a:off x="1683360" y="3598920"/>
            <a:ext cx="44910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结构和读写原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rId4"/>
          </p:cNvPr>
          <p:cNvSpPr/>
          <p:nvPr/>
        </p:nvSpPr>
        <p:spPr>
          <a:xfrm>
            <a:off x="1328040" y="4317840"/>
            <a:ext cx="34239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盘的规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>
            <a:hlinkClick r:id="rId6"/>
          </p:cNvPr>
          <p:cNvSpPr/>
          <p:nvPr/>
        </p:nvSpPr>
        <p:spPr>
          <a:xfrm>
            <a:off x="1683360" y="5037120"/>
            <a:ext cx="44910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D-RO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驱动器的安装与使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8"/>
          </p:cNvPr>
          <p:cNvSpPr/>
          <p:nvPr/>
        </p:nvSpPr>
        <p:spPr>
          <a:xfrm>
            <a:off x="1591200" y="5757840"/>
            <a:ext cx="21866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光盘的保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3T03:45:36Z</dcterms:created>
  <dc:creator>superbrain</dc:creator>
  <dc:description/>
  <dc:language>en-US</dc:language>
  <cp:lastModifiedBy>superbrain</cp:lastModifiedBy>
  <dcterms:modified xsi:type="dcterms:W3CDTF">2001-10-17T04:32:29Z</dcterms:modified>
  <cp:revision>373</cp:revision>
  <dc:subject/>
  <dc:title>PowerPoint 演示文稿</dc:title>
</cp:coreProperties>
</file>