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Drip01.WAV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hyperlink" Target="file:///tmp/home/.config/libreoffice/4/user/gallery/Thud8.WAV" TargetMode="External"/><Relationship Id="rId6" Type="http://schemas.openxmlformats.org/officeDocument/2006/relationships/hyperlink" Target="file:///tmp/home/.config/libreoffice/4/user/gallery/Drip01.WAV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Drip01.WAV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hyperlink" Target="file:///tmp/home/.config/libreoffice/4/user/gallery/Drip01.WAV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60960" y="1981080"/>
            <a:ext cx="6142320" cy="1191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第五章  多媒体应用系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创作工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4648320"/>
            <a:ext cx="6172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91640" y="539640"/>
            <a:ext cx="41065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传统程序语言为基础的创作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7800" y="1689120"/>
            <a:ext cx="757404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传统程序语言为基础的创作工具需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量编程，可重用性差，不便于组织和管理多媒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素材，且调试困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Visual C++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Visual Basic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他如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类多媒体节目编制系统的则存在着通用性差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操作不规范等缺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422440" y="539640"/>
            <a:ext cx="442296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.1.3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创作工具的选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77200" y="1566720"/>
            <a:ext cx="493560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欲善其事，必先利其器”要想创作出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部优秀的多媒体软件，就必须根据自己的实际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况选择一套适合自己的多媒体创作工具，所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磨刀不误砍柴工”，多积累一些这方面的知识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自己的多媒体创作会大有帮助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创作工具的类型主要有以上四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针对不同的应用，选择相应的类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53960" y="539640"/>
            <a:ext cx="466740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.2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应用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/>
          </p:cNvPr>
          <p:cNvSpPr/>
          <p:nvPr/>
        </p:nvSpPr>
        <p:spPr>
          <a:xfrm>
            <a:off x="2013840" y="1828800"/>
            <a:ext cx="517356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2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概述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/>
          </p:cNvPr>
          <p:cNvSpPr/>
          <p:nvPr/>
        </p:nvSpPr>
        <p:spPr>
          <a:xfrm>
            <a:off x="2227320" y="2728800"/>
            <a:ext cx="474660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2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介绍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3"/>
          </p:cNvPr>
          <p:cNvSpPr/>
          <p:nvPr/>
        </p:nvSpPr>
        <p:spPr>
          <a:xfrm>
            <a:off x="2333880" y="3629160"/>
            <a:ext cx="453348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2.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角色的应用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4"/>
          </p:cNvPr>
          <p:cNvSpPr/>
          <p:nvPr/>
        </p:nvSpPr>
        <p:spPr>
          <a:xfrm>
            <a:off x="2227320" y="4529160"/>
            <a:ext cx="474660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2.4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画初步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5"/>
          </p:cNvPr>
          <p:cNvSpPr/>
          <p:nvPr/>
        </p:nvSpPr>
        <p:spPr>
          <a:xfrm>
            <a:off x="2158560" y="5427720"/>
            <a:ext cx="486864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2.5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建“电影”</a:t>
            </a:r>
            <a:r>
              <a:rPr b="0" lang="zh-CN" sz="1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6"/>
          </p:cNvPr>
          <p:cNvSpPr/>
          <p:nvPr/>
        </p:nvSpPr>
        <p:spPr>
          <a:xfrm>
            <a:off x="7162920" y="570852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31200" y="539640"/>
            <a:ext cx="247248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.2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88920" y="1258920"/>
            <a:ext cx="71118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Macromedi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公司开发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软件，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广大多媒体制作人员提供了创作交互式应用软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强大工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一个较为简单且观的软件，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是首次使用该软件的用户也能编出令人赏心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目的程序。而且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功能强大，开发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将三维界面、数据库访问和因特网链接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集成于一个多媒体作品中，同时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高度面向对象的工具，非常适合图像设计者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它所独有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Lingo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可以对程序中各个部分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行精确控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07240" y="1093680"/>
            <a:ext cx="630108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功能表现如下：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从外部导入图像、声音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频、影片以及其他对象，并利用其所带的辅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具进行编辑，用来创建电影片断、场景和影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用来创建动画，多媒体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示软件、游戏、广告以及演示器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因特网充分接轨，其生成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Shockwav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影片在网络中得到了良好的应用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83200" y="1185840"/>
            <a:ext cx="630108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几乎所有的功能都有与之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应的浮动窗口，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Pain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ex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，编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和控制面板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每个角色，窗口以及几乎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按钮的快捷菜单都有共同的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，光标停留在任一组件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间超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秒，即会显示该组件的说明与提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46760" y="539640"/>
            <a:ext cx="659952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最新推出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 8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增加了以下功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舞台大小可变化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仅限于编辑状态，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译后就不行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角色表能以列表形式查看，并且可以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序和更改属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增加了角色表管理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允许将脚本语言存储到处部文件进行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对位图进行压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锁定精灵，以避免在编辑过程中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慎移动精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4280" y="539640"/>
            <a:ext cx="668484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舞台进行了较大的改进，舞台分为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题栏，画布区和滚动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楼中生成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Shockwav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电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自由伸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Shockwav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电影，使之与浏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器匹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0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支持和编辑多种向量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支持日文双字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2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Lingo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性能有了很大的提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使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Lingo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程控制位图元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使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Lingo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声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14280" y="539640"/>
            <a:ext cx="295992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.2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界面介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/>
          </p:cNvPr>
          <p:cNvSpPr/>
          <p:nvPr/>
        </p:nvSpPr>
        <p:spPr>
          <a:xfrm>
            <a:off x="3450240" y="2351160"/>
            <a:ext cx="21862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介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"/>
          </p:cNvPr>
          <p:cNvSpPr/>
          <p:nvPr/>
        </p:nvSpPr>
        <p:spPr>
          <a:xfrm>
            <a:off x="3557160" y="3430440"/>
            <a:ext cx="19728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具栏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3"/>
          </p:cNvPr>
          <p:cNvSpPr/>
          <p:nvPr/>
        </p:nvSpPr>
        <p:spPr>
          <a:xfrm>
            <a:off x="3450240" y="4510080"/>
            <a:ext cx="21862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介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428640" y="539640"/>
            <a:ext cx="17596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16280" y="3778200"/>
            <a:ext cx="687996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Fil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包含的命令是用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建，打开和保存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一个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件称作电影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Movie)]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输出文件，以及文件的设置，打包和打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001" descr=""/>
          <p:cNvPicPr/>
          <p:nvPr/>
        </p:nvPicPr>
        <p:blipFill>
          <a:blip r:embed="rId1"/>
          <a:stretch/>
        </p:blipFill>
        <p:spPr>
          <a:xfrm>
            <a:off x="898560" y="1258920"/>
            <a:ext cx="71978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32200" y="990720"/>
            <a:ext cx="1155960" cy="581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480" y="1947960"/>
            <a:ext cx="541332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多媒体创作工具的主要性能和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多媒体创作工具的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 8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基本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k Book 5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性能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09640" y="789120"/>
            <a:ext cx="749592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Edit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Edi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辑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，包含标准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辑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View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View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视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，显示标记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标尺、 关键帧等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Insert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Inser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删除关键锁，插入媒体元素、控件、胶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环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OL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象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Modify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Modify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修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，准备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素材后，便要对进行修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37800" y="1185840"/>
            <a:ext cx="723960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Control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包括控制电影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tra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，加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很多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8). Window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，包含用于控制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种编辑窗口的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9). Help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318840" y="539640"/>
            <a:ext cx="19728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具栏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98560" y="1981080"/>
            <a:ext cx="7197840" cy="1960560"/>
            <a:chOff x="898560" y="1981080"/>
            <a:chExt cx="7197840" cy="1960560"/>
          </a:xfrm>
        </p:grpSpPr>
        <p:pic>
          <p:nvPicPr>
            <p:cNvPr id="133" name="002" descr=""/>
            <p:cNvPicPr/>
            <p:nvPr/>
          </p:nvPicPr>
          <p:blipFill>
            <a:blip r:embed="rId1"/>
            <a:stretch/>
          </p:blipFill>
          <p:spPr>
            <a:xfrm>
              <a:off x="898560" y="3060720"/>
              <a:ext cx="7197840" cy="8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912960" y="1981080"/>
              <a:ext cx="7111800" cy="9471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Director8.0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的标准工具栏与</a:t>
              </a: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Windows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下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许多应用程序很相似。如下图所示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3598920"/>
            <a:ext cx="6478560" cy="2727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428640" y="539640"/>
            <a:ext cx="17596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17080" y="1258920"/>
            <a:ext cx="685584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Cas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角色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提供了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Cas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角色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来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放电影的角色，存放在角色表中的成员称为角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成员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Cast Member)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导入角色表成员后的角色表如下图所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8560" y="3417840"/>
            <a:ext cx="5399280" cy="3076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02080" y="539640"/>
            <a:ext cx="568548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Score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排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排表把对电路的控制可视化地展现在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户的面前，编排表是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核心，窗口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每一列代表着一帧，相当于电影的一个定格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连续流动的帧组成了电影。表中的时间线指示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前帧，表示电影运行到该帧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1619280" y="3057480"/>
            <a:ext cx="5757840" cy="3330720"/>
            <a:chOff x="1619280" y="3057480"/>
            <a:chExt cx="5757840" cy="333072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619280" y="3057480"/>
              <a:ext cx="5757840" cy="33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1619280" y="3057480"/>
              <a:ext cx="5757840" cy="333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702440" y="539640"/>
            <a:ext cx="568512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Pain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绘图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虽然用户可以利用一些外部的图像编辑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具对导入的图像进行编辑，但是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内部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供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Pain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也可满足用户的基本要求，如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798560" y="3417840"/>
            <a:ext cx="5399280" cy="3121200"/>
            <a:chOff x="1798560" y="3417840"/>
            <a:chExt cx="5399280" cy="312120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1798560" y="3417840"/>
              <a:ext cx="5399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 txBox="1"/>
            <p:nvPr/>
          </p:nvSpPr>
          <p:spPr>
            <a:xfrm>
              <a:off x="1798560" y="3417840"/>
              <a:ext cx="5399280" cy="312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581480" y="539640"/>
            <a:ext cx="613044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ext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编辑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可以出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形式的文本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位图格式保存的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段成员：可以在电影运行过程中对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行修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ex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中进行编辑的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619280" y="2878200"/>
            <a:ext cx="5757840" cy="3330360"/>
            <a:chOff x="1619280" y="2878200"/>
            <a:chExt cx="5757840" cy="333036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619280" y="2878200"/>
              <a:ext cx="5757840" cy="33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 txBox="1"/>
            <p:nvPr/>
          </p:nvSpPr>
          <p:spPr>
            <a:xfrm>
              <a:off x="1619280" y="2878200"/>
              <a:ext cx="5757840" cy="333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407240" y="539640"/>
            <a:ext cx="630108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Vector Shape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矢量形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8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又新增了多种矢量曲线，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来创建矢量形状，矢量形状具有存储空间小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重复修改的优点，而且通过矢量形状的节点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柄可以把其处改成复杂的矢量形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619280" y="2878200"/>
            <a:ext cx="5757840" cy="3330360"/>
            <a:chOff x="1619280" y="2878200"/>
            <a:chExt cx="5757840" cy="333036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1619280" y="2878200"/>
              <a:ext cx="5757840" cy="33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 txBox="1"/>
            <p:nvPr/>
          </p:nvSpPr>
          <p:spPr>
            <a:xfrm>
              <a:off x="1619280" y="2878200"/>
              <a:ext cx="5757840" cy="333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46080" y="539640"/>
            <a:ext cx="719748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Librar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8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提供了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Librar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板，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正实现了无代码的编程，利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Librar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板，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通过简单的鼠标拖放，就能赋予角色某些特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表现效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619280" y="3238560"/>
            <a:ext cx="5757840" cy="3330360"/>
            <a:chOff x="1619280" y="3238560"/>
            <a:chExt cx="5757840" cy="333036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1619280" y="3238560"/>
              <a:ext cx="5757840" cy="33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 txBox="1"/>
            <p:nvPr/>
          </p:nvSpPr>
          <p:spPr>
            <a:xfrm>
              <a:off x="1619280" y="3238560"/>
              <a:ext cx="5757840" cy="333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215360" y="539640"/>
            <a:ext cx="668484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编辑窗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Lingo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言是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所特有的面向对象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言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了一个专门的编辑窗口进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的编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分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：电影脚本、角色脚本和行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121640" y="960480"/>
            <a:ext cx="668520" cy="5814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2942280" y="2579760"/>
            <a:ext cx="325296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创作工具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2195640" y="4738680"/>
            <a:ext cx="474660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3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简介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2515680" y="3659040"/>
            <a:ext cx="410616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2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应用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4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98560" y="2517840"/>
            <a:ext cx="7197840" cy="3033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946160" y="539640"/>
            <a:ext cx="504540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8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面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面板，顾名思义就是实现对电影的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功能，控制面板与普通的录像机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V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板有几分相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916000" y="539640"/>
            <a:ext cx="320400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.2.3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角色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01880" y="1258920"/>
            <a:ext cx="711144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基于角色的编辑工具，掌握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角色的使用是最基本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例将由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角色组成：瀑布背景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CIF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画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鸟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声音文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鸟鸣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导入角色的步骤如下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s|Cas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，或者直接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击标准工具栏中的角色表按钮，打开角色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898560" y="1798560"/>
            <a:ext cx="7197840" cy="4162680"/>
            <a:chOff x="898560" y="1798560"/>
            <a:chExt cx="7197840" cy="416268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898560" y="1798560"/>
              <a:ext cx="7197840" cy="416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 txBox="1"/>
            <p:nvPr/>
          </p:nvSpPr>
          <p:spPr>
            <a:xfrm>
              <a:off x="898560" y="1798560"/>
              <a:ext cx="7197840" cy="416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727280" y="539640"/>
            <a:ext cx="566100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角色表中右击，在弹出的快捷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选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Impo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。如下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978200" y="2158920"/>
            <a:ext cx="5038560" cy="4192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76560" y="561960"/>
            <a:ext cx="8520120" cy="1373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弹出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Import Files into “Inter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nal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中选定将要导入的文件，单击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Im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898560" y="1798560"/>
            <a:ext cx="7197840" cy="3740400"/>
            <a:chOff x="898560" y="1798560"/>
            <a:chExt cx="7197840" cy="37404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898560" y="1798560"/>
              <a:ext cx="7197840" cy="37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 txBox="1"/>
            <p:nvPr/>
          </p:nvSpPr>
          <p:spPr>
            <a:xfrm>
              <a:off x="898560" y="1798560"/>
              <a:ext cx="7197840" cy="374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912960" y="539640"/>
            <a:ext cx="711180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弹出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Select Forma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定角色的格式，单击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14280" y="539640"/>
            <a:ext cx="295992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.2.4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动画初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61520" y="1281240"/>
            <a:ext cx="617292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我们将利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很“傻瓜”的功能来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建一些简单的动态效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具体操作步骤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小鸟和背景图拖入舞台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98560" y="3238560"/>
            <a:ext cx="7197840" cy="2957400"/>
            <a:chOff x="898560" y="3238560"/>
            <a:chExt cx="7197840" cy="295740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898560" y="3238560"/>
              <a:ext cx="7197840" cy="29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 txBox="1"/>
            <p:nvPr/>
          </p:nvSpPr>
          <p:spPr>
            <a:xfrm>
              <a:off x="898560" y="3238560"/>
              <a:ext cx="7197840" cy="29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2698920" y="2158920"/>
            <a:ext cx="3958920" cy="4316400"/>
            <a:chOff x="2698920" y="2158920"/>
            <a:chExt cx="3958920" cy="43164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2698920" y="2158920"/>
              <a:ext cx="3958920" cy="43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 txBox="1"/>
            <p:nvPr/>
          </p:nvSpPr>
          <p:spPr>
            <a:xfrm>
              <a:off x="2698920" y="2158920"/>
              <a:ext cx="3958920" cy="431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97440" y="539640"/>
            <a:ext cx="7965000" cy="1373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声音文件施入编排表中的声音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道，作为背景音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Window|Library Palett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898560" y="1798560"/>
            <a:ext cx="7197840" cy="4586400"/>
            <a:chOff x="898560" y="1798560"/>
            <a:chExt cx="7197840" cy="45864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898560" y="1798560"/>
              <a:ext cx="719784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 txBox="1"/>
            <p:nvPr/>
          </p:nvSpPr>
          <p:spPr>
            <a:xfrm>
              <a:off x="898560" y="1798560"/>
              <a:ext cx="7197840" cy="458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233000" y="539640"/>
            <a:ext cx="647172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Librar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板左上角的按钮，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弹出的菜单中选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nimation|Automati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91000" y="539640"/>
            <a:ext cx="568548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光标放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Librar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板上的任一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上，光标变成手形表示可施动，按住鼠标左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所选的选项拖至目标角色上，光标右下角出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个小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+”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号，表示可以添加，释放鼠标左键，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实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Librar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的添加。在本例中所选的选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Fade In/out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即淡入与淡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78200" y="3238560"/>
            <a:ext cx="5038560" cy="3211560"/>
            <a:chOff x="1978200" y="3238560"/>
            <a:chExt cx="5038560" cy="321156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1978200" y="3238560"/>
              <a:ext cx="5038560" cy="32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 txBox="1"/>
            <p:nvPr/>
          </p:nvSpPr>
          <p:spPr>
            <a:xfrm>
              <a:off x="1978200" y="3238560"/>
              <a:ext cx="5038560" cy="321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96200" y="539640"/>
            <a:ext cx="692280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同上述操作步骤，给角色“小鸟”添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名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void mous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Library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项，这样，小鸟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会随着鼠标的移动而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态效果至此已制作完毕，如下图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示。现在可以打开控制面板，运行该电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38560" y="2878200"/>
            <a:ext cx="431784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741760" y="808200"/>
            <a:ext cx="369180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创作工具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2459520" y="2427120"/>
            <a:ext cx="432000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1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作工具的主要功能及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1926000" y="3506760"/>
            <a:ext cx="538668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1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作工具的种类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246040" y="4586400"/>
            <a:ext cx="474660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1.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创作工具的选择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4" action="ppaction://hlinksldjump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842840" y="539640"/>
            <a:ext cx="539856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.2.5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创建“电影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/>
          </p:cNvPr>
          <p:cNvSpPr/>
          <p:nvPr/>
        </p:nvSpPr>
        <p:spPr>
          <a:xfrm>
            <a:off x="3292560" y="4357800"/>
            <a:ext cx="23997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及修改电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/>
          </p:cNvPr>
          <p:cNvSpPr/>
          <p:nvPr/>
        </p:nvSpPr>
        <p:spPr>
          <a:xfrm>
            <a:off x="2972520" y="327816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保存影片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/>
          </p:cNvPr>
          <p:cNvSpPr/>
          <p:nvPr/>
        </p:nvSpPr>
        <p:spPr>
          <a:xfrm>
            <a:off x="2972520" y="219852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运行电影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95320" y="1258920"/>
            <a:ext cx="732492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运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8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新建电影的方法两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File|New|Movi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，新建电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338560" y="2338560"/>
            <a:ext cx="4317840" cy="29192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27280" y="5397480"/>
            <a:ext cx="566100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标准工具栏选择新建电影按钮也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新建电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7560" y="539640"/>
            <a:ext cx="17596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运行电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428640" y="539640"/>
            <a:ext cx="17596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保存影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09320" y="1258920"/>
            <a:ext cx="647136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保存电影有很多技巧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保存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格式的电影：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标准工具栏中的按钮，或者选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File|S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，在弹出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Save Movi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中选择目标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夹并输入文件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619280" y="3598920"/>
            <a:ext cx="575784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5000" y="1308240"/>
            <a:ext cx="668520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保存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Shockwav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格式的电影：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击标准工具中的按钮或者选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File|Publish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Shockwav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格式的电影可以放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TTP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服务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，连接到网上的用户可以用安装了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Shock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插件的浏览器下载并播放电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07200" y="692280"/>
            <a:ext cx="745308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建播放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File|Create Proj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，在弹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“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Create Projector”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中选择要创建播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的电影，单击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Create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钮，在弹出的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S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Projector a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中选择目标文件夹并输入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名，生成的文件将是可执行程序，直接双击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便可播放电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35360" y="3914640"/>
            <a:ext cx="719676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导出位图、视频或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QuickTim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电影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File|Expo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在弹出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Expo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框中进行一些参数的设置后，可导出想要的电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格式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445200" y="539640"/>
            <a:ext cx="23997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及修改电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08800" y="1566720"/>
            <a:ext cx="689796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电影方法有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该电影图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双击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8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程序图标，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File/Ope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，在弹出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打开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话框中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择将要打开的电影文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直接在标准工具栏中单击打开电影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422080" y="716040"/>
            <a:ext cx="417960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.3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简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"/>
          </p:cNvPr>
          <p:cNvSpPr/>
          <p:nvPr/>
        </p:nvSpPr>
        <p:spPr>
          <a:xfrm>
            <a:off x="2050920" y="2502000"/>
            <a:ext cx="496008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3.1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功能特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2"/>
          </p:cNvPr>
          <p:cNvSpPr/>
          <p:nvPr/>
        </p:nvSpPr>
        <p:spPr>
          <a:xfrm>
            <a:off x="1837440" y="3581280"/>
            <a:ext cx="538668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3.2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环境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3"/>
          </p:cNvPr>
          <p:cNvSpPr/>
          <p:nvPr/>
        </p:nvSpPr>
        <p:spPr>
          <a:xfrm>
            <a:off x="2157480" y="4662360"/>
            <a:ext cx="474660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3.3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程序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4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112120" y="539640"/>
            <a:ext cx="515448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.3.1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功能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17400" y="1258920"/>
            <a:ext cx="625824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易用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拖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放下附件使课件开发摆脱了编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建立专业课件所用时间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管理课程、学生注册和跟踪学生学习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度非常容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容易使用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OpenScrip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程语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非常容易地集成图形、动画、音频和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把超文本和数据库功能放入多媒体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308320" y="539640"/>
            <a:ext cx="466704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.3.2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环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91360" y="1676520"/>
            <a:ext cx="715500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书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Book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建立的基本文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展名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BK)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个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可以由一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多本书组成，书可以看成是调用其他执行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.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EXE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执行程序，书也可以看成是一个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虑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及其构件的一种比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72280" y="539640"/>
            <a:ext cx="772668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书的基本组成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域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fields)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视口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Viewers)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建立的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，可从任何书中显示任何页的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页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pages)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书的基本单位，页上的对象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在背景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按钮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buttons)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种比一般按钮涵义更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对象类型，包括一般按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push button)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核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check box)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择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radio button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标记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label button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背景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backgrounds)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书上各页的共享背景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每页的对象都显示在背景上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24440" y="539640"/>
            <a:ext cx="491076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.1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创作工具的主要功能及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66160" y="1627200"/>
            <a:ext cx="540504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根据应用目标和使用对象的不同，一般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为，多媒体创作工具应有以下功能和特点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具有良好的，面向对象的编程环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具有较强的多媒体数据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I/O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画处理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超级连接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程序的连接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块化和面向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良好的界面，易学易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37160" y="1095480"/>
            <a:ext cx="683784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建立一本书的过程为：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建立页，将对象放置到页上，然后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OpenScrip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言编写脚本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Scripts)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用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给定对象应执行的动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012400" y="539640"/>
            <a:ext cx="539856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.3.3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程序设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1"/>
          </p:cNvPr>
          <p:cNvSpPr/>
          <p:nvPr/>
        </p:nvSpPr>
        <p:spPr>
          <a:xfrm>
            <a:off x="3688920" y="2197080"/>
            <a:ext cx="17596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2"/>
          </p:cNvPr>
          <p:cNvSpPr/>
          <p:nvPr/>
        </p:nvSpPr>
        <p:spPr>
          <a:xfrm>
            <a:off x="3688920" y="3278160"/>
            <a:ext cx="17596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事件驱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3"/>
          </p:cNvPr>
          <p:cNvSpPr/>
          <p:nvPr/>
        </p:nvSpPr>
        <p:spPr>
          <a:xfrm>
            <a:off x="3688920" y="4357800"/>
            <a:ext cx="17596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象层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247560" y="539640"/>
            <a:ext cx="17596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7760" y="1258920"/>
            <a:ext cx="788004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面向对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object orien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事件驱动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event driven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设计环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环境中，开发应用程序的步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为：先建立对象，然后在对象的脚本中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行为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像传统的线性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序设计环境，因为你不是通过定义数据，然后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写相关的过程来开发应用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247560" y="539640"/>
            <a:ext cx="17596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事件驱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77320" y="1258920"/>
            <a:ext cx="75384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事件驱动的。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程序中的脚本只有当它们被事件触发时才执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程序中的任何动作都是事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一个事件发生时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则收到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消息，消息联结应用程序中动作的事件，每一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产生一个或多个消息，这个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些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消息被送到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事件影响的对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通过使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程序语言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OpenScri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为每一个对象编写脚本。脚本中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andle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定什么样的消息运行脚本以及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执行什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47560" y="539640"/>
            <a:ext cx="17596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象层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89760" y="1258920"/>
            <a:ext cx="608796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内部结构叫做对象层次，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层次中的对象按上升的顺序依次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Graph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页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P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背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Backgr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书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Boo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书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System boo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任何组、页、背景或书都包含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父对象。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的消息按层次上升的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一个对象传送到另一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925800" y="539640"/>
            <a:ext cx="1155960" cy="581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本章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51800" y="1596960"/>
            <a:ext cx="638640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章讨论了多媒体创作工具的性能、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分类。其主要特点有：具有良好的面向对象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程环境，具有较强的多媒体数据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I/O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能力，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较强的动画处理能力和程序连接能力，具有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块化、面向对象和良好的用户界面等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章还介绍了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 8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特点，重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介绍了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 8.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具体操作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最后还介绍了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k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特点和性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786400" y="539640"/>
            <a:ext cx="369144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.1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创作工具的种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96360" y="1339920"/>
            <a:ext cx="4935600" cy="9471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根据多媒体创作工具的创作方法和特点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同，可将其划分如下几类：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1946880" y="2666880"/>
            <a:ext cx="53866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时间为基础的多媒创作工具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2053440" y="3567240"/>
            <a:ext cx="51732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图标为基础的多媒体创作工具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2373480" y="4465800"/>
            <a:ext cx="45331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页式或卡片为基础的多媒体创作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4"/>
          </p:cNvPr>
          <p:cNvSpPr/>
          <p:nvPr/>
        </p:nvSpPr>
        <p:spPr>
          <a:xfrm>
            <a:off x="2160000" y="5365800"/>
            <a:ext cx="49600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传统程序语言为基础的创作工具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11080" y="539640"/>
            <a:ext cx="38930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时间为基础的多媒创作工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63520" y="1258920"/>
            <a:ext cx="496296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时间为基础的多媒体创作工具所制作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来的节目最像电影或卡通片，它们是以可视的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间轴来决定事件的顺序和对象显示上演的时段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种时间轴包括许多行道或频道，以便安排多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象同时呈现，它还可以用来编辑控制转向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序列中的任何位置的节目，从而增加了导航和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互控制，通常该类多媒体创作工具中都会有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播放的面板，在这些创作系统中，各种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事件按时间路线组织。这类多媒体创作工具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典型产品有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irector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ction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00000" y="539640"/>
            <a:ext cx="38930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图标为基础的多媒体创作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440" y="1258920"/>
            <a:ext cx="543276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这些合作工具中，多媒体成分和交互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列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事件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结构化框架或过程图织为对象，它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目的组织方式简化而且多数情况下是显示沿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支路经上各种活动的流程图，创作多媒体作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，创作工具提供一条流程线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line)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供放置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同类型的图标使用，使用流程图隐语去“构造”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序，多媒体素材的呈现是以流程为依据的，在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图上可以对任一图标进行编辑。这类创作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uthorware, IconAuthor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373480" y="539640"/>
            <a:ext cx="45331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页式或卡片为基础的多媒体创作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09960" y="1258920"/>
            <a:ext cx="667008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页式或卡片为基础的多媒体创作工具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提供一种可以将对象连接于页面或卡片的工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环境。一页或一张卡片便是数据结构中的一个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，在多媒体创作工具中，可以将这些页面或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片连接成有序的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类多媒体创作工具是以面向对象的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来处理多媒体元素，这些元素用属性来定义，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剧本来规范，允许播放声音元素以及动画和数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化视频节目，在结构化的导航模型中，可以根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命令跳至所需的任何一页，形成多媒体作品。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类创作工具主要有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Tool Book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及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yper Card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08:37:19Z</dcterms:created>
  <dc:creator>bxh</dc:creator>
  <dc:description/>
  <dc:language>en-US</dc:language>
  <cp:lastModifiedBy>superbrain</cp:lastModifiedBy>
  <dcterms:modified xsi:type="dcterms:W3CDTF">2001-10-17T04:36:02Z</dcterms:modified>
  <cp:revision>129</cp:revision>
  <dc:subject/>
  <dc:title>第 5 章  多媒体应用系统              创作工具 </dc:title>
</cp:coreProperties>
</file>