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CCD-913B-45C6-A8DC-6DF5FC61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63D-F21E-44CF-9D86-332D5888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D40-5E30-44E4-87C3-DF687BEA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981-A1F7-4B3B-859B-03763C58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C6C-4923-4825-BB2D-07DE057F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880-8C25-4471-8974-0EA2DB4E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503-BE78-4198-9435-1E40DF03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D98-CA19-4DB5-AA4C-1F090E6A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E4A-4804-4AD1-A76C-22CCB947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DC6-95DD-4456-AD80-F9D9077C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71C-D0DD-4263-B6F6-E2E9A0A3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0D1-1D2F-472B-BAB3-010C30D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1164-B764-4555-88AA-42B8D18CA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Drip01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Drip01.WAV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Drip01.WAV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Drip01.WAV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hyperlink" Target="file:///tmp/home/.config/libreoffice/4/user/gallery/Thud8.WAV" TargetMode="External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ud8.WAV" TargetMode="External"/><Relationship Id="rId2" Type="http://schemas.openxmlformats.org/officeDocument/2006/relationships/hyperlink" Target="file:///tmp/home/.config/libreoffice/4/user/gallery/Thud8.WAV" TargetMode="External"/><Relationship Id="rId3" Type="http://schemas.openxmlformats.org/officeDocument/2006/relationships/hyperlink" Target="file:///tmp/home/.config/libreoffice/4/user/gallery/Thud8.WAV" TargetMode="External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2480" y="2057400"/>
            <a:ext cx="4679280" cy="64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四章  多媒体应用设计原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267080"/>
            <a:ext cx="7238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36800" y="539640"/>
            <a:ext cx="521604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螺旋式模型中，允许设计者很快根据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户需求迅速建立最早的软件版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称为原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后交付用户使用和评价其正确性和可用性，并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予反馈。这个原型在功能上近似于最后版本，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细节，需要进一步进行细节开发或修正，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能被摒弃。如此反复开发与修正，便形成最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版本，即产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螺旋式模型不同于传统瀑布模型之处便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演示代替说明方式，这非常适合于逻辑问题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态展示的多媒体应用系统设计。其演示是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指向、按钮、拖曳和重用等方法来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79920" y="539640"/>
            <a:ext cx="56854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螺旋式生命周期模型开发多媒体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步骤主要有如下几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通过调研、访问用户和与用户面谈以及查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效的文件、资料，获得用户需要意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需求分析基础上设计一个应用系统原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将原型交给最终用户使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最终用户处获得反馈，更改用户需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加入新的用户需求，建立新的原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复上述过程，直到该应用软件完成或报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上从第一步到第五步便是一个版本，从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六步起可构成循环，每循环一次，功能增强一些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核心仍是初始计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53880" y="539640"/>
            <a:ext cx="496008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螺旋生命周期配合面向对象的程序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方法，是开发多媒体应用设计的新动向。面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象方法的基本思想是：对问题领域进行自然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割，以更接近人类思维的方式建立问题领域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型，以便于对客观信息进行结构模拟和行为模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设计的软件尽可能地表现问题求解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种设计思想对多媒体应用系统的设计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别有用，采用这种方法，对象作为描述信息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各种媒体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统一概念，可以被看做是可重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的构件，为系统的重用提供了支持，修改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十分容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000880" y="539640"/>
            <a:ext cx="4935600" cy="947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用螺旋模型开发多媒体应用系统的主要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作阶段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13360" y="1619280"/>
            <a:ext cx="218628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求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18720" y="2338560"/>
            <a:ext cx="457596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系统结构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步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90000" y="3057480"/>
            <a:ext cx="478944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立设计标准和细则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详细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26840" y="3778200"/>
            <a:ext cx="282636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准备多媒体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03480" y="4497480"/>
            <a:ext cx="542916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生成多媒体应用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码与集成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8120" y="5218200"/>
            <a:ext cx="303948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的测试与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73720" y="539640"/>
            <a:ext cx="218628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求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64960" y="1258920"/>
            <a:ext cx="49600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求分析是创作一种新软件产品的第一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段。该阶段的任务就是确定用户对应用系统的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要求和设计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求分析的方法很多，如结构化程序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需求分析阶段采用的是结构化分析，即采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顶向下”逐步分解的原则，运用相应的工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设计目标描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用户需求提出后，设计人员还要从各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同角度来分析问题，尽可能列出解决问题的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策略，最后，评估各种方案的可行性，从众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分析方案中找出一个可行性高而最有价值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意新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方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79080" y="539640"/>
            <a:ext cx="457596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系统结构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步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43720" y="1258920"/>
            <a:ext cx="50022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当通过需求分析，确定了设计方案后，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要决定如何构造应用系统结构。需要强调的是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媒体应用系统设计中，必须将交互的概念融子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目的设计之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确定系统整体结构设计模型之后，还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确定组织结构是线性、层次、还是网状链接，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后着手脚本设计，绘制插图，屏幕样板和定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本。通常结构设计中要确定：目录主题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即项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的入口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、层次结构和浏览顺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使用户明确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个问题相关主题的层次关系及其对项目显示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顺序的影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及交叉跳转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使用主题词或图标做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跳转区，将相关主题连接起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等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50000" y="539640"/>
            <a:ext cx="478944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立设计标准和细则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详细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89800" y="1258920"/>
            <a:ext cx="49356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开发应用系统之前必须制定高质量的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计标准，以确保多媒体设计具有一致的内部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风格。这些标准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主题设计标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当把表现的内容分为多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相互独立的主题或屏幕时，应当使声音、内容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信息保持一致的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字体使用标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选择文本字体大小、颜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和字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保证项目易读和美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77200" y="957240"/>
            <a:ext cx="493560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声音使用标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声音的运用要注意内容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懂、音量不可过大或过小，并与其他声音采样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质量上保持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图像和动画的使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选用图像，要在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标准中说明它的用途。同时要说明图像如何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及其位置，是否需要边框，颜色数，尺寸大小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其它因素。若采用动画则一定要突出动画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87200" y="539640"/>
            <a:ext cx="282636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准备多媒体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66120" y="1108080"/>
            <a:ext cx="49356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准备多媒体数据是多媒体应用设计中一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费时又复杂的事。无论动画文本、声音视频等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体文件源于何处，都必须进行数字化处理、编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对图像来说，扫描处理过程十分关键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仅要进行剪裁处理，而且还要在这个过程中修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图像，拼接合并，以便能得到更好的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对于声音来说，音乐的选择，配音的录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也要事先做好，必要时也可以通过合适的编辑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行特殊处理，如回声、放大、混声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其他的媒体准备也十分类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最后，这些媒体都必须转换为系统开发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境下要求的存储和表示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63840" y="539640"/>
            <a:ext cx="542916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生成多媒体应用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码与集成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12600" y="1258920"/>
            <a:ext cx="56426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完全确定产品的内容、功能、设计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用户使用要求后，要选择适宜的创作工具和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法进行制作，将各种多媒体数据，根据脚本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编程连接，或选用创作工具实现集成、连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排与组合，从而构造出由多媒体计算机所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应用系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生成应用系统时，如果采用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程序编码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首先要选择功能强、可灵活进行多媒体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的编程语言和编程环境，如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V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VC++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Java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8360" y="1460520"/>
            <a:ext cx="5200200" cy="3414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了解多媒体软件工程的要求和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了解多媒体作品的一般制作过程和人机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设计原理及实现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了解几种典型多媒体应用系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多媒体教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软件、多媒体电子出版物、多媒体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系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隶书"/>
              </a:rPr>
              <a:t>的应用特点和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25800" y="539640"/>
            <a:ext cx="115596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77200" y="539640"/>
            <a:ext cx="49356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于进行多媒体应用系统制作时要很好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决多媒体压缩、集成、交互及同步等问题，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设计不仅复杂，而且工作量大，因此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多媒体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作工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运而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种创作工具虽然功能和操作方法不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都有操作多媒体信息进行全屏幕动态综合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能力。根据现有的多媒体硬件环境和应用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要求选择适宜的创作工具，可高效、方便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进行多媒体编辑集成和系统生成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77200" y="539640"/>
            <a:ext cx="493560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具体的多媒体应用系统制作任务可分为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方面：一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素材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二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集成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素材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各种媒体文件的制作。无论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录入，图像扫描，声音和视频信号采集处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均要经过多道步序才可能进行集成制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集成制作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应用系统最后生成的过程。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多媒体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超媒体创作工具，实际上是对已加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好的素材进行最后的处理与合成，即是集成制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集成制作应尽量采用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快速原型法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即在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意同时或在创意基本完成之时，就先采用少量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典型的素材，对交互性进行“模拟”制作。而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作必须在模拟原型获得确认后再进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58480" y="539640"/>
            <a:ext cx="303948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的测试与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66120" y="1258920"/>
            <a:ext cx="49356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无论是用编程环境，还是用创作工具，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完成一个多媒体系统设计后，一定要进行系统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试。测试工作实际从系统设计一开始就可进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每个模块都要经过单元测试，功能测试。模块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接后要进行总体功能测试。开发周期的每个阶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每个模块都应经过测试，不断改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对可执行的版本测试，修改后，形成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可用的版本，便可投入试用，在应用中再不断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清除错误，强化软件的可用性、可靠性及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经过一段时间的试用、完善后，可进行商品化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装，以便上市发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66120" y="539640"/>
            <a:ext cx="493560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软件发行后，测试还应继续进行。这些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试应包括可靠性、可维护性、可修改性、效率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可用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可靠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指程序所执行的和所预期的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一样，而且前一次执行与后一次执行的结果相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可维护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指如果其中某一部分有错误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生时，可以容易地将之更改过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可修改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指系统可以适应新的环境，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时增减改变其中的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效率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则是程序执行时不会使用过多的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源或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可用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是指一项产品可以满足用户执行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想要完成的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51240" y="539640"/>
            <a:ext cx="613008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1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的设计过程与设计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/>
          </p:cNvPr>
          <p:cNvSpPr/>
          <p:nvPr/>
        </p:nvSpPr>
        <p:spPr>
          <a:xfrm>
            <a:off x="2572560" y="2158920"/>
            <a:ext cx="41065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设计的选题与分析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/>
          </p:cNvPr>
          <p:cNvSpPr/>
          <p:nvPr/>
        </p:nvSpPr>
        <p:spPr>
          <a:xfrm>
            <a:off x="1314000" y="3238560"/>
            <a:ext cx="66240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script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3"/>
          </p:cNvPr>
          <p:cNvSpPr/>
          <p:nvPr/>
        </p:nvSpPr>
        <p:spPr>
          <a:xfrm>
            <a:off x="1399320" y="4317840"/>
            <a:ext cx="64533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意设计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91640" y="539640"/>
            <a:ext cx="41065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设计的选题与分析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3280" y="1258920"/>
            <a:ext cx="484092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选题报告书应包括以下几项分析报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用户分析报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说明有哪些基本用户，在什么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合使用，用户的计算机应用水平，还有哪些潜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用户。并对用户的一般特点和使用风格进行分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软硬件设施分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说明所需硬件的基本装备、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助设备及软件环境需提供什么支持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成本效益分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该系统的经济效益和市场潜力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何，开发系统投入人力和资金预算，需花费的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间，所用的资金及来源，所提供信息的使用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如何，使用系统中多媒体数据的预算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隶书"/>
              </a:rPr>
              <a:t>系统内容分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：系统总体设计流程，涉及的多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体元素，系统的组织结构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41120" y="539640"/>
            <a:ext cx="36367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script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66120" y="1258920"/>
            <a:ext cx="49356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是多媒体应用系统的主干，它必须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盖整个多媒体系统结构。各种媒体信息的结构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仔细安排，是组织成网状形式，还是组织成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次结构形式，取决于应用的类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很多情况下的应用都是采用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按钮式结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按钮确定下一级信息的内容，或者决定系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走向。另一种方式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试题驱动方式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常用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育、训练等系统中，通过使用者对试题的回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它们对信息主题的理解程度，从而决定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走向。复杂一些的是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超媒体信息组织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应尽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建立起联想链接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66120" y="539640"/>
            <a:ext cx="493560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设计要兼顾多方面，不仅要规划出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内容显示的顺序和步骤，还要描述其间的分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路径和衔接的流程，以及每一步骤的详细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脚本设计的过程中，还有两项需注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媒体的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种媒体都有其各自擅长的特定范围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中要根据具体的信息内容、各媒体通信目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户的偏爱心理及当时的上下文联系选择适当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脚本的内容顺序及控制路径的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脚本内容的编排顺序应根据具体任务，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性、用户友好性着眼进行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1908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意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2640" y="1258920"/>
            <a:ext cx="53622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意设计是多媒体活泼性的重要来源，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创意会大大提高系统的可用性和可视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创意设计要在媒体的“呈现”和“交互”这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上做文章，在屏幕设计和人机交互界面上下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夫。对屏幕进行设计时，要确定好各种媒体的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放位置、激活方式等。在时间上也要充分安排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何时出音乐，何时出伴音和图像，要恰如其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于人机交互过程的设计，要充分发挥计算机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互的特点，充分利用其输入设备，使交互过程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观灵活、人性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17320" y="539640"/>
            <a:ext cx="296028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6120" y="1258920"/>
            <a:ext cx="4935600" cy="1800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界面指用户与计算机系统的接口，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联系用户和计算机硬件、软件的一个综合环境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多媒体系统中，用户界面的设计是一门艺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它涉及到多个学科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/>
          </p:cNvPr>
          <p:cNvSpPr/>
          <p:nvPr/>
        </p:nvSpPr>
        <p:spPr>
          <a:xfrm>
            <a:off x="2648880" y="3417840"/>
            <a:ext cx="410652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2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设计的一般过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/>
          </p:cNvPr>
          <p:cNvSpPr/>
          <p:nvPr/>
        </p:nvSpPr>
        <p:spPr>
          <a:xfrm>
            <a:off x="2541960" y="4317840"/>
            <a:ext cx="43200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2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原则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/>
          </p:cNvPr>
          <p:cNvSpPr/>
          <p:nvPr/>
        </p:nvSpPr>
        <p:spPr>
          <a:xfrm>
            <a:off x="2755440" y="5218200"/>
            <a:ext cx="389340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2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结构的设计与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4"/>
          </p:cNvPr>
          <p:cNvSpPr/>
          <p:nvPr/>
        </p:nvSpPr>
        <p:spPr>
          <a:xfrm>
            <a:off x="6970680" y="593712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42360" y="539640"/>
            <a:ext cx="668520" cy="5814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2394720" y="1978200"/>
            <a:ext cx="410652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的工程化设计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648080" y="3057480"/>
            <a:ext cx="559980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754640" y="4138560"/>
            <a:ext cx="5386680" cy="520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20360" y="539640"/>
            <a:ext cx="41792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2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界面设计的一般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76120" y="1258920"/>
            <a:ext cx="51152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人机界面设计中，首先要进行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分析，即收集到有关用户及其应用环境信息之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进行用户特性分析，用户任务分析等。任务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中对界面设计要有界面规范说明，选择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类型，并确定设计的主要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由于人机界面是为适合人的需要而建立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所以要弄清楚使用该界面的用户类型，要了解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户使用系统的频率、用途，并对用户的综合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和智力进行测试。这些均是用户分析中的内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此基础上产生任务规范说明，进行任务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77200" y="1308240"/>
            <a:ext cx="4935600" cy="2653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任务设计应在考虑工作方式及系统环境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支持等因素下进行。任务设计的目的在于重新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织任务规范说明以产生一个更有逻辑性的编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设计应分别给出人与计算机的活动，使设计者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好地理解在设计一个界面时遇到的问题，这样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成系统操作手册和用户指南的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14360" y="539640"/>
            <a:ext cx="46612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任务设计后，要决定界面类型。目前有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人机界面设计类型，如问答型、菜单按钮型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型、表格填写型、命令语言型，自然语言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大多数界面使用一种以上的设计类型。对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的标准主要考虑使用的难易程度、学习的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易程度、操作速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即完成一个操作时，在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步序、击键和反应时间等方面效率有多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杂程度、控制能力及开发的难易程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因此，选择界面设计类型时要全面考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方面要从用户状况出发，决定对话应提供的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持级别和复杂程度，选择一个或几个适宜的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类型；另一方面要匹配界面任务和系统需要，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形式进行分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20080" y="539640"/>
            <a:ext cx="39355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2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72160" y="1797120"/>
            <a:ext cx="514908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根据用户心理学和现阶段计算机的特点，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机界面交互的设计可以归纳成以下几项原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77200" y="539640"/>
            <a:ext cx="4935600" cy="5665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面向用户的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反馈信息和屏幕输出应面向用户、指导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户，以满足用户使用需求为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输出的信息是为了使用户获取运行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果，或者是获取系统当前状态，以及指导用户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何进一步操作计算机系统。所以在满足用户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的情况下，首先应使显示的信息量减到最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绝不显示与用户需要无关的信息，以免增加用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记忆负担。其次，反馈信息应能被用户正确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读、理解和使用。第三，应使用用户所熟悉的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来解释程序，帮助用户尽快适应和熟悉系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环境。第四，系统内部在处理工作时要有提示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息，尽量把主动权让给用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40480" y="730080"/>
            <a:ext cx="4935600" cy="52387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一致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指从任务、信息的表达，界面的控制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等方面与用户理解熟悉的模式尽量保持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显示相同类型信息时，在系统运行的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同阶段保持一致的相似方式显示，包括显示风格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布局、位置、所用颜色等。一个界面与用户预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表现、操作方式越一致，就越容易学习、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使用。一致性不仅能减少人的学习负担，还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通过提供熟悉的模式来增强认识能力，界面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者的责任就是使界面尽可能地与用户原来的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式一致，若原来没有模型，就应给出一个新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清晰结构，并尽可能使用户容易适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14360" y="539640"/>
            <a:ext cx="4661280" cy="3958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简洁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的信息内容应该准确、简洁，并能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出强调的信息显示。准确，就是要求表达意思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确，不使用意义含混、有二义性的词汇或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简洁就是词汇是用户习惯的，并用尽可能少的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表达必需的信息。必要时可以使用意义明确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缩写形式，需要强制的信息可以在显示中使用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字、加下划线、加大亮度、闪烁、反白及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颜色来引起用户的注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27280" y="539640"/>
            <a:ext cx="5661000" cy="5665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适当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显示和布局应美观、清楚、合理，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善反馈信息的可阅读性、可理解性，并使用户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快速查找到有用信息，为此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逻辑顺序应合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显示内容应恰当、不应过多、过快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屏幕过分拥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必要的空白。空行及空格会使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构合理，阅读和寻找方便，并使用户的注意力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在有用的信息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般使用小写或混合大小写形式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，避免用纯大写字方式，因为小写方式的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容易阅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00880" y="539640"/>
            <a:ext cx="4935600" cy="3958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顺序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理安排信息在屏幕上显示顺序。一般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下因素决定信息显示的顺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使用顺序显示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习惯用法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信息重要性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信息的使用频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照信息的一般性和专用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字母顺序或时间顺序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00880" y="4678200"/>
            <a:ext cx="4935600" cy="13993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结构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设计应是结构化的，以减少复杂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构化应与用户知识结构相兼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77200" y="539640"/>
            <a:ext cx="4935600" cy="22525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理选择文本和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系统运行结果输出信息，如果重点是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其值作详细分析或获取准确数据，那么应该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字符、数字式显示；如果要了解数据总特性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变化趋势，那么使用图形方式更有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40400" y="4678200"/>
            <a:ext cx="5234400" cy="1825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彩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合理使用彩色显示可以美化人机界面外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改善人的视觉印象，同时加快有用信息的寻找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度，并减少错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77200" y="2878200"/>
            <a:ext cx="4935600" cy="182592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多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形和多窗口显示，可以充分利用微机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统的软硬件资源，并在交互输出中大大改善人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的输出显示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46480" y="539640"/>
            <a:ext cx="466704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的工程化设计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77200" y="1258920"/>
            <a:ext cx="4935600" cy="4786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程序设计角度来看，多媒体应用设计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属于计算机应用软件设计范畴，因此可借鉴软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程开发方法进行。软件工程是一种用系统工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方法来开发、操作、维护及报废软件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软件工程研究的目标是：应用理论、科学方法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程设计规范来指导软件开发，以达到利用较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时间，较低的成本获得高质量的软件产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软件从设计到完成可以用一种生命周期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型来描述，生命周期指的是软件的整个开发、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、维护和报废的过程。最主要且用得最多的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开发模型是瀑布法和螺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52680" y="539640"/>
            <a:ext cx="442296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2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界面结构的设计与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64320" y="1258920"/>
            <a:ext cx="493560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的结构设计包括界面对话设计，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输入界面设计，屏幕设计和控制界面设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"/>
          </p:cNvPr>
          <p:cNvSpPr/>
          <p:nvPr/>
        </p:nvSpPr>
        <p:spPr>
          <a:xfrm>
            <a:off x="3023280" y="251460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对话设计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/>
          </p:cNvPr>
          <p:cNvSpPr/>
          <p:nvPr/>
        </p:nvSpPr>
        <p:spPr>
          <a:xfrm>
            <a:off x="3236760" y="3414600"/>
            <a:ext cx="26128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输入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3"/>
          </p:cNvPr>
          <p:cNvSpPr/>
          <p:nvPr/>
        </p:nvSpPr>
        <p:spPr>
          <a:xfrm>
            <a:off x="3023280" y="431496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显示设计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4"/>
          </p:cNvPr>
          <p:cNvSpPr/>
          <p:nvPr/>
        </p:nvSpPr>
        <p:spPr>
          <a:xfrm>
            <a:off x="3023280" y="521496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界面设计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389760" y="539640"/>
            <a:ext cx="21862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面对话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73920" y="1258920"/>
            <a:ext cx="416736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对话是以任务顺序为基础的，一般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循如下原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反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状态。告诉用户正处在系统的什么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脱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默认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尽可能简化步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复原。在用户操作出错时，可返回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新开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3400" y="539640"/>
            <a:ext cx="26128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输入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40760" y="1258920"/>
            <a:ext cx="523404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输入界面设计的目标是简化用户的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，降低输入出错率，还要容忍用户的错误。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以下多种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采用列表选择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界面具有预见性和一致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防止用户出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反馈。使用户能看到自己已输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内容，并提示有效的输入回答或数值范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按用户速度输入和自动格式化。用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能控制数据输入速度并能进行自动格式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389760" y="539640"/>
            <a:ext cx="21862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显示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8640" y="1258920"/>
            <a:ext cx="71182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机屏幕显示的空间有限，如何设计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发挥最大效用，又使用户感到赏心悦目，可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考如下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屏幕布局必须协调，应遵循以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原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预期：屏上所有对象，如窗口按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菜单等处理应一致化，使对象的动作可预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经济：努力用最少的数据显示最多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顺序：对象显示的顺序应依需要排列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规则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20880" y="539640"/>
            <a:ext cx="54478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文字与用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文字与用语设计格式和内容应注意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几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语的简洁性。避免用专业术语，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用户的行话。尽量用肯定句而不用否定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主动语态而不用被动语态。在按钮、功能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中应使用描述操作的动词，而免用名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格式。一屏不要文字太多，在关键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处进行加粗，变字体等处理。尽量用小写字母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易认的字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信息内容。显示的信息内容要简洁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楚，采用用户熟悉的简单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95600" y="425520"/>
            <a:ext cx="544788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颜色的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用颜色应注意如下几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限制同时显示的颜色数。一般同一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不宜超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，可用不同层次及形状来配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颜色，增加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画中活动对象颜色应鲜明，而非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对象应暗淡。各个对象的颜色应尽量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尽量用常规准则所用的颜色来表示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象的属性。如红色表示警告以引起注意，绿色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示正常、通行等。对字符和一些细节描述当需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强烈的视觉敏感度时，应以黄色或白色显示，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景色用蓝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389760" y="539640"/>
            <a:ext cx="21862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控制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7200" y="1258920"/>
            <a:ext cx="49356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交互控制界面遵循的原则是：为用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尽可能大的控制权，使其易于访问系统的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备，易于进行人机对话。控制界面设计的主要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务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控制会话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次只有一个提问，以免使用户短期负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增加。在需要几个相关联的回答时，应重新显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前一个回答，以免短期记忆带来错误。还要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保持提问序列的一致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16720" y="865080"/>
            <a:ext cx="52344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菜单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级菜单中的选项，应既可用字母键应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还可用鼠标按键定位选择。在各级菜单结构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除将功能项与可选项正确分组外，还要对用户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航作出安排。如菜单级别及正在访问的子系统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态应在屏幕顶部显示。利用回溯工具改进菜单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径跟踪，使用户利用单键能回到上页菜单选择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另外，在各级菜单的深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少级菜单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宽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每级菜单有多少选择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置方面要进行权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77200" y="539640"/>
            <a:ext cx="49356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图标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标被用来表示对象和命令，其优点是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真。但随着概念的抽象，图标表达能力减弱。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含义不明确的问题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窗口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窗口有不重叠和重叠的两类，可动态地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建和删除。窗口有多种用途，在会话中间可根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要动态呈现需要的窗口，并可在不同窗口中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行多个程序。这种多窗口、多任务为用户提供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方便，用户利用窗口可自由地进行任务切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窗口不宜开得太多，以免使屏杂乱无章，分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户的注意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77200" y="539640"/>
            <a:ext cx="49356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直接操作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接操作界面设计的主要思想是用户能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并直接操作对象的代表，并通过在屏上绘制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真的“虚拟世界”来支持用户的任务。这种界面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优点是使计算机系统能比其他形式的界面更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模拟日常操作。用户只需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用鼠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接指定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对象，并点击，其动作结果能立即在显示器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明显可见，用户不必记住格式控制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命令语言界面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是最强有力的控制界面，是最终的人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会话方式，尚处在试验和研究之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1317960" y="2057400"/>
            <a:ext cx="66668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1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种典型的软件开发模型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1958040" y="3443400"/>
            <a:ext cx="538668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1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的设计过程与设计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6837480" y="5576760"/>
            <a:ext cx="1258920" cy="54000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50338" y="0"/>
                </a:lnTo>
                <a:lnTo>
                  <a:pt x="0" y="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50338" y="21600"/>
                </a:lnTo>
                <a:lnTo>
                  <a:pt x="50338" y="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38" y="216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0" y="539640"/>
            <a:ext cx="3204000" cy="581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72160" y="1258920"/>
            <a:ext cx="5149080" cy="26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应用系统是由各种应用领域专家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开发人员利用计算机语言或多媒体创作工具制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最终多媒体产品，是直接面向用户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前，多媒体应用的主要领域有文化教育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电子出版、音像制作、影视特技、通信和信息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询服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/>
          </p:cNvPr>
          <p:cNvSpPr/>
          <p:nvPr/>
        </p:nvSpPr>
        <p:spPr>
          <a:xfrm>
            <a:off x="2811240" y="4213080"/>
            <a:ext cx="367992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3.1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2918160" y="4933800"/>
            <a:ext cx="34664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3.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出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3"/>
          </p:cNvPr>
          <p:cNvSpPr/>
          <p:nvPr/>
        </p:nvSpPr>
        <p:spPr>
          <a:xfrm>
            <a:off x="2918160" y="5653080"/>
            <a:ext cx="3466440" cy="520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3.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4"/>
          </p:cNvPr>
          <p:cNvSpPr/>
          <p:nvPr/>
        </p:nvSpPr>
        <p:spPr>
          <a:xfrm>
            <a:off x="6970680" y="5861160"/>
            <a:ext cx="1258920" cy="53964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371" h="21600">
                <a:moveTo>
                  <a:pt x="0" y="0"/>
                </a:moveTo>
                <a:lnTo>
                  <a:pt x="50371" y="0"/>
                </a:lnTo>
                <a:lnTo>
                  <a:pt x="50371" y="21600"/>
                </a:lnTo>
                <a:lnTo>
                  <a:pt x="0" y="21600"/>
                </a:lnTo>
                <a:close/>
              </a:path>
              <a:path fill="lightenLess" w="50371" h="21600">
                <a:moveTo>
                  <a:pt x="0" y="0"/>
                </a:moveTo>
                <a:lnTo>
                  <a:pt x="50371" y="0"/>
                </a:lnTo>
                <a:lnTo>
                  <a:pt x="50371" y="0"/>
                </a:lnTo>
                <a:lnTo>
                  <a:pt x="0" y="0"/>
                </a:lnTo>
                <a:close/>
              </a:path>
              <a:path fill="darken" w="50371" h="21600">
                <a:moveTo>
                  <a:pt x="50371" y="0"/>
                </a:moveTo>
                <a:lnTo>
                  <a:pt x="50371" y="21600"/>
                </a:lnTo>
                <a:lnTo>
                  <a:pt x="50371" y="21600"/>
                </a:lnTo>
                <a:lnTo>
                  <a:pt x="50371" y="0"/>
                </a:lnTo>
                <a:close/>
              </a:path>
              <a:path fill="darkenLess" w="50371" h="21600">
                <a:moveTo>
                  <a:pt x="5037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50371" y="21600"/>
                </a:lnTo>
                <a:close/>
              </a:path>
              <a:path fill="lighten" w="5037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97640" y="539640"/>
            <a:ext cx="36914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3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7200" y="1258920"/>
            <a:ext cx="4935600" cy="1800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育应用是多媒体能够最大限度地发挥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力，影响最为深远的主要应用领域。多媒体将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破传统教学方法的极限，从根本上影响和改变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学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/>
          </p:cNvPr>
          <p:cNvSpPr/>
          <p:nvPr/>
        </p:nvSpPr>
        <p:spPr>
          <a:xfrm>
            <a:off x="2032920" y="3417840"/>
            <a:ext cx="5173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的特点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2"/>
          </p:cNvPr>
          <p:cNvSpPr/>
          <p:nvPr/>
        </p:nvSpPr>
        <p:spPr>
          <a:xfrm>
            <a:off x="2459520" y="4137120"/>
            <a:ext cx="43200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几种模式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3"/>
          </p:cNvPr>
          <p:cNvSpPr/>
          <p:nvPr/>
        </p:nvSpPr>
        <p:spPr>
          <a:xfrm>
            <a:off x="2246040" y="4857840"/>
            <a:ext cx="47466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分类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4"/>
          </p:cNvPr>
          <p:cNvSpPr/>
          <p:nvPr/>
        </p:nvSpPr>
        <p:spPr>
          <a:xfrm>
            <a:off x="2673000" y="557676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设计的一般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52680" y="539640"/>
            <a:ext cx="26128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1840" y="1258920"/>
            <a:ext cx="574632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计算机辅助教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MCAI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是指用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算机帮助教师进行教学或用计算机进行教学的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阔应用领域。由于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MCAI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基于多媒体计算机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，从而使其呈现以下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信息显示的多媒体化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内容组织的超文本结构形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过程的交互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信息的大容量存储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信息传输的网络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18160" y="53964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几种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77200" y="1258920"/>
            <a:ext cx="493560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之所以具有与传统方式教学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法比拟的优点，其原因是它具有相应的丰富多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教学软件，它有下列几种基本模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课堂演示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别交互学习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操练复习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资料工具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游戏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34520" y="53964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88960" y="1258920"/>
            <a:ext cx="59598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计算机教学软件根据内容可分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下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娱乐学习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然科学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类  多媒体结合声音、文字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形及图像等来学习本国或外国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学类  将文学名著转化为光盘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增加图画、声音、影片等效果，可使小说更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趣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历史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00000" y="53964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设计的一般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7200" y="1258920"/>
            <a:ext cx="49356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多媒体教学系统中，多媒体教学软件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整个系统的核心和控制部分。多媒体教学系统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提供的教学信息，都是由多媒体教学软件给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是在多媒体教学软件的控制下给出的。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教学系统设计中的很大一部分工作量，是用于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教学软件的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教学软件的设计过程一般分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选题、教学对象分析、教学目标编写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制定课题计划、脚本撰写、程序设计、课件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文档编写几个阶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66800" y="539640"/>
            <a:ext cx="5959800" cy="5213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般来说，如果一门课程在教学过程中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如下一些特点，就适合采用多媒体教学作为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学手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互性强。即经常需要学生就课程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容回答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要根据学生的要求或测试成绩动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调整课程难度或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课文中需要配有图形，以帮助学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学习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要对学生的学习过程运行追踪并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测试成绩进行记录和统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教学过程中需要使用动态模型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20080" y="539640"/>
            <a:ext cx="39355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3.2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出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72160" y="1258920"/>
            <a:ext cx="5149080" cy="2653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多媒体电子出版物是把多媒体信息经过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心组织、编辑及存储在一张光盘上或网络服务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中的一种电子信息载体，它包括电子图书、电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期刊、电子新闻报纸、电子公文或文献、电子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画和电子声像制品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根据出版物的内容来分，主要有以下几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"/>
          </p:cNvPr>
          <p:cNvSpPr/>
          <p:nvPr/>
        </p:nvSpPr>
        <p:spPr>
          <a:xfrm>
            <a:off x="3527640" y="4091040"/>
            <a:ext cx="23997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图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2"/>
          </p:cNvPr>
          <p:cNvSpPr/>
          <p:nvPr/>
        </p:nvSpPr>
        <p:spPr>
          <a:xfrm>
            <a:off x="3314160" y="4738680"/>
            <a:ext cx="28263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图与旅游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3"/>
          </p:cNvPr>
          <p:cNvSpPr/>
          <p:nvPr/>
        </p:nvSpPr>
        <p:spPr>
          <a:xfrm>
            <a:off x="3207600" y="538632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家庭应用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4"/>
          </p:cNvPr>
          <p:cNvSpPr/>
          <p:nvPr/>
        </p:nvSpPr>
        <p:spPr>
          <a:xfrm>
            <a:off x="2994480" y="603396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商业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81400" y="539640"/>
            <a:ext cx="239976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图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40400" y="1258920"/>
            <a:ext cx="52344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电子图书除了具有庞大的存储量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还可在其间添加不同形式的数据，如声音、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影片等。查找传统的参考书籍是一项颇为累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事，现在用多媒体光盘来协助查寻既快速又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确。多媒体电子图书主要包括以下几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字典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百科全书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经典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参考书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499920" y="539640"/>
            <a:ext cx="19728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图与旅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6680" y="1258920"/>
            <a:ext cx="587412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节目可以以电影或记录片为基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加上许多文字、动画、地图等资料，使观众能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得各地的风光、文物及习俗等完整的信息。这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的节目可以大略分成地图与旅游两大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图类  地图可以是全国范围的，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以是某省或城市的街道。利用多媒体，可以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图的查找更为方便，还可以获取某地区的人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市容、面积、气候等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旅游类  以多媒体来介绍旅游名胜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风光、文物与习俗是非常好的构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24160" y="539640"/>
            <a:ext cx="466704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1.1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种典型的软件开发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3744720" y="2514600"/>
            <a:ext cx="1546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瀑布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3744720" y="3824280"/>
            <a:ext cx="1546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螺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460320" y="539640"/>
            <a:ext cx="175968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家庭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20720" y="1258920"/>
            <a:ext cx="587412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家庭中多媒体光盘片主要包括医药与娱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医药类  在家庭中，对小伤口的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家人身体有些不适时，做一些最基本的诊断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护理是非常必要的，因此家用护理箱与多媒体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医疗的光盘片便可成为家庭咨询与护理的必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工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娱乐类  一家人在一起除了共同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起居外，还应有娱乐教育的活动。通过使用多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光盘来做游戏、讲故事及观赏电影等，可以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实家庭生活的情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26080" y="539640"/>
            <a:ext cx="133272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商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7200" y="1258920"/>
            <a:ext cx="493560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可以充分发挥它的特长，协助商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界来训练员工，以最经济有效的方法来给员工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施在职教育。也可利用多媒体来展示商品，以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变化、新颖化吸引顾客另外，还可以提供顾客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询和自动答询的信息渠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员工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商品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查询服务与浏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商品广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670840" y="539640"/>
            <a:ext cx="3935520" cy="5814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.3.3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84800" y="1236600"/>
            <a:ext cx="5745960" cy="30801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作为一种独立的应用领域已得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算机界的认可，数据库已和计算机、网络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成为用户应用系统的三大支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DBS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四个要素组成：用户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、数据库管理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DBMS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及支持它的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件和软件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BM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管理数据库的系统软件，它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BS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最主要的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/>
          </p:cNvPr>
          <p:cNvSpPr/>
          <p:nvPr/>
        </p:nvSpPr>
        <p:spPr>
          <a:xfrm>
            <a:off x="2876040" y="449748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对数据库的影响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2"/>
          </p:cNvPr>
          <p:cNvSpPr/>
          <p:nvPr/>
        </p:nvSpPr>
        <p:spPr>
          <a:xfrm>
            <a:off x="3089520" y="514512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对数据库系统的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3"/>
          </p:cNvPr>
          <p:cNvSpPr/>
          <p:nvPr/>
        </p:nvSpPr>
        <p:spPr>
          <a:xfrm>
            <a:off x="2876040" y="5792760"/>
            <a:ext cx="38930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对多媒体的支持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134520" y="53964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对数据库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15720" y="1258920"/>
            <a:ext cx="1258200" cy="180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需处理的数据包括数值、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符、文本、图形、图像、声音、动画和视频等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种类型，对这些类型的数据进行管理、运用和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享的数据库就是多媒体数据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6800" y="3238560"/>
            <a:ext cx="5216400" cy="2226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的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字符数值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该类型的数据记录的是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物很简单的属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名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数值属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人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或抽象的属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事物所属类别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这种数据具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简单、规范的特点，因而容易管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076480" y="1292400"/>
            <a:ext cx="544788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文本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由特定的字符串表示，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种书籍、文献和档案等。检索文本数据目前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采用关键字检索和全文检索两种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声音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目前对语音数据检索主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两种方法：一种是给语音数据人工附加属性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述或文本描述，再借用字符数值和文本数据的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索方法检索语音数据；另一种方法是浏览，播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音查找所需要的语音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9800" y="539640"/>
            <a:ext cx="54478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图像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有位图式图像和矢量化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像两种，在应用中出现的频率很高。由于图像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据库较早就有研究，已提出了许多方法，包括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性描述法、特征提取、分割、纹理识别、颜色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索等。描述图形数据的关键是需要有能描述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构的数据模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).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视频数据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有动画和动态视频等，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图像数据要复杂得多，在管理上也存在新的问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别是引入了时间概念。为了真实地再现就必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到实时，并且需要考虑视频和动画与其他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合成和同步。不仅是多媒体数据管理的问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它还涉及到通信、媒体表现、数据压缩等诸多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0880" y="539640"/>
            <a:ext cx="54478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对数据库带来的问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量巨大且媒体之间量的差异也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，从而影响数据库的组织和存储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种类的增多增加了数据处理的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不仅改变了数据库的接口，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声，图，文并茂，而且也改变了数据库的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形式。接口的多媒体化，对查询提出了更复杂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对用户更友好的设计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传统的事物一般短小精悍，在多媒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管理系统中也应尽可能采用短事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管理还有考虑版本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问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918160" y="539640"/>
            <a:ext cx="34664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对数据库系统的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66800" y="1258920"/>
            <a:ext cx="5959800" cy="43599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多媒体数据库管理系统除应具备传统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库管理系统的功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数据库存储管理、数据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享、并发控制、事物处理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外，还应针对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信息的特点，支持以下特殊功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图像、动画、声音、动态视频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本等多媒体字段类型及用户定义的特殊类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长数据和非定长数据的集成管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复杂实体的表示和处理，要求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和处理实体间复杂关系的能力，有保证复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实体实态性和一致性的机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803240" y="539640"/>
            <a:ext cx="566100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同一实体的多种表现形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段视频在播放时，可以改变其视频或一幅静止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像在显示时改变其对比度等性质而不影响其中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内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具有良好的用户界面，界面本身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好具有一定的多媒体功能，同时又能支持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语言工业标准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QL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使其支持多媒体信息的各种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6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多媒体的特殊查询及良好的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接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7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分布式环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134520" y="539640"/>
            <a:ext cx="303984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数据库对多媒体的支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53880" y="1258920"/>
            <a:ext cx="4960080" cy="47865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前数据库对多媒体的支持主要是采用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充关系数据库方法和面向对象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系数据库对多媒体的支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系数据库适合于处理传统商业数据，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现阶段中小型数据库系统中应用最多的一种。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支持多媒体，关系数据库的扩展有好几种，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长域和可变长二进制域的存取；支持嵌套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支持用户自定义数据类型及其操作；在关系库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系统之上再加上对象管理层，用以表示对象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间复杂关系及最终表现形式，等等。关系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模型决定了它只能对多媒体提供有限的支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37000" y="539640"/>
            <a:ext cx="1546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瀑布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77200" y="1258920"/>
            <a:ext cx="4935600" cy="1373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瀑布法的生命周期模型如下图所示，它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源于对减少商业软件生命周期的工业需求，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套系统的、顺序的软件开发流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10160" y="2698920"/>
            <a:ext cx="5608080" cy="3398400"/>
            <a:chOff x="1910160" y="2698920"/>
            <a:chExt cx="5608080" cy="3398400"/>
          </a:xfrm>
        </p:grpSpPr>
        <p:sp>
          <p:nvSpPr>
            <p:cNvPr id="62" name=""/>
            <p:cNvSpPr/>
            <p:nvPr/>
          </p:nvSpPr>
          <p:spPr>
            <a:xfrm>
              <a:off x="1910160" y="2698920"/>
              <a:ext cx="103428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需求分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89800" y="3417840"/>
              <a:ext cx="103428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结构设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69080" y="4138560"/>
              <a:ext cx="103428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编码实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92760" y="4857840"/>
              <a:ext cx="154620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测试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72040" y="5576760"/>
              <a:ext cx="1546200" cy="520560"/>
            </a:xfrm>
            <a:prstGeom prst="rect">
              <a:avLst/>
            </a:pr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维护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2" idx="3"/>
              <a:endCxn id="63" idx="0"/>
            </p:cNvCxnSpPr>
            <p:nvPr/>
          </p:nvCxnSpPr>
          <p:spPr>
            <a:xfrm>
              <a:off x="3235320" y="2963520"/>
              <a:ext cx="272160" cy="45468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3" idx="3"/>
              <a:endCxn id="64" idx="0"/>
            </p:cNvCxnSpPr>
            <p:nvPr/>
          </p:nvCxnSpPr>
          <p:spPr>
            <a:xfrm>
              <a:off x="4314960" y="3682800"/>
              <a:ext cx="272160" cy="45612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64" idx="3"/>
              <a:endCxn id="65" idx="0"/>
            </p:cNvCxnSpPr>
            <p:nvPr/>
          </p:nvCxnSpPr>
          <p:spPr>
            <a:xfrm>
              <a:off x="5394240" y="4403520"/>
              <a:ext cx="272160" cy="45468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5" idx="3"/>
              <a:endCxn id="66" idx="0"/>
            </p:cNvCxnSpPr>
            <p:nvPr/>
          </p:nvCxnSpPr>
          <p:spPr>
            <a:xfrm>
              <a:off x="6473880" y="5122440"/>
              <a:ext cx="272160" cy="45468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6" idx="1"/>
              <a:endCxn id="62" idx="2"/>
            </p:cNvCxnSpPr>
            <p:nvPr/>
          </p:nvCxnSpPr>
          <p:spPr>
            <a:xfrm rot="10800000">
              <a:off x="2426400" y="3226680"/>
              <a:ext cx="3510720" cy="261540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6" idx="1"/>
              <a:endCxn id="63" idx="2"/>
            </p:cNvCxnSpPr>
            <p:nvPr/>
          </p:nvCxnSpPr>
          <p:spPr>
            <a:xfrm rot="10800000">
              <a:off x="3506040" y="3945960"/>
              <a:ext cx="2431080" cy="189612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66" idx="1"/>
              <a:endCxn id="64" idx="2"/>
            </p:cNvCxnSpPr>
            <p:nvPr/>
          </p:nvCxnSpPr>
          <p:spPr>
            <a:xfrm rot="10800000">
              <a:off x="4586400" y="4666680"/>
              <a:ext cx="1351080" cy="117540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6" idx="1"/>
              <a:endCxn id="65" idx="2"/>
            </p:cNvCxnSpPr>
            <p:nvPr/>
          </p:nvCxnSpPr>
          <p:spPr>
            <a:xfrm rot="10800000">
              <a:off x="5664960" y="5385600"/>
              <a:ext cx="272160" cy="456480"/>
            </a:xfrm>
            <a:prstGeom prst="bentConnector2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607760" y="539640"/>
            <a:ext cx="5874480" cy="5639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数据库对多媒体的支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数据库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OODB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数据模型角度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讲，较适合多媒体应用的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模型支持“聚合”与“概括”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概念，可更好地处理复杂对象的结构语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模型支持抽象数据类型和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户定义的方法，便于数据库系统支持定义新的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据类型和操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系统的数据抽象、功能抽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消息传送的特点使对象在系统中是独立的，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良好的封闭性，封闭了多媒体数据之间的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及其他方面的巨大差异，并且很容易实现并行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，也便于系统模式的扩充和修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820880" y="539640"/>
            <a:ext cx="544788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系统的对象类、继承性等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不仅减少了冗余和由此引起的一系列问题，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非常利于版本控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)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面向对象系统的查询语言通常是沿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系统提供的内部固有联系进行的，避免了大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查询优化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需说明的是，面向对象数据库至今仍处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研究阶段，在理论上和实践中都存在许多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25800" y="539640"/>
            <a:ext cx="115596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本章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36800" y="1258920"/>
            <a:ext cx="5216040" cy="35067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章详细叙述了运用软件工程思想设计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应用系统的一般过程，并简要介绍了目前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媒体应用的三种主要类型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计多媒体应用系统最主要的工作有：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分析、应用系统结构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初步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建立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计标准和细则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详细设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准备多媒体数据、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生成多媒体应用系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编码与集成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和系统的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试与应用等六个方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53880" y="1338120"/>
            <a:ext cx="4960080" cy="3080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机界面设计的主要原则是：面向用户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则、一致性原则、简洁性原则、适当性原则、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序性原则、结构性原则等，实际设计中要有意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加以运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目前多媒体应用系统涉及的应用领域主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文化教育、电子出版和通信及信息咨询服务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章对相关应用系统的特点作了初步介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72160" y="539640"/>
            <a:ext cx="5149080" cy="3933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从上图可以看出，这个过程分为五个阶段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软件维护过程中间产生的错误可返回到前五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中的任何一步进行修改，然后按原来的顺序继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隶书"/>
              </a:rPr>
              <a:t>完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开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基于这一模型进行的程序设计多采用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化方式。其基本思想是自顶向下和逐步求精的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计策略，设计自然而方便，其优点是便于控制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发的复杂性和便于验证程序的正确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瀑布法特别适合于小型软件开发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37000" y="539640"/>
            <a:ext cx="1546200" cy="5205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螺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20360" y="1258920"/>
            <a:ext cx="5874480" cy="9471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螺旋式生命周期模型是科学家布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Boeh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提出来的，下图描述了这种模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螺旋模型" descr=""/>
          <p:cNvPicPr/>
          <p:nvPr/>
        </p:nvPicPr>
        <p:blipFill>
          <a:blip r:embed="rId1"/>
          <a:stretch/>
        </p:blipFill>
        <p:spPr>
          <a:xfrm>
            <a:off x="1798560" y="2338560"/>
            <a:ext cx="57578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16:51:00Z</dcterms:created>
  <dc:creator>superbrain</dc:creator>
  <dc:description/>
  <dc:language>en-US</dc:language>
  <cp:lastModifiedBy>superbrain</cp:lastModifiedBy>
  <dcterms:modified xsi:type="dcterms:W3CDTF">2001-10-17T04:35:02Z</dcterms:modified>
  <cp:revision>143</cp:revision>
  <dc:subject/>
  <dc:title>PowerPoint 演示文稿</dc:title>
</cp:coreProperties>
</file>