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1D4-B960-4EE9-BB8A-7CDCCA19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FA2-7496-4E25-B534-9B187C40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C7A-425E-40A5-BC84-CD035216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182-A40A-4CEF-B5D1-5EA850C6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6C4-25C9-4260-983A-8044B299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128-187B-4802-AE50-9F5C79F6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C47-849A-483B-8BAE-D4DB0912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644-3B0F-460D-90E8-80543993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CC0-DE51-4F92-87B5-5EDDC81F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52A-3B32-45FA-8425-2476ADBE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4F2-F0A0-4A0A-862F-46E68CC3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3CB-0611-44FA-BBA7-573AE9A4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E765-E569-4C8E-B392-69007947C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hyperlink" Target="file:///tmp/home/.config/libreoffice/4/user/gallery/Drip04.WAV" TargetMode="External"/><Relationship Id="rId4" Type="http://schemas.openxmlformats.org/officeDocument/2006/relationships/hyperlink" Target="file:///tmp/home/.config/libreoffice/4/user/gallery/Drip04.WAV" TargetMode="External"/><Relationship Id="rId5" Type="http://schemas.openxmlformats.org/officeDocument/2006/relationships/hyperlink" Target="file:///tmp/home/.config/libreoffice/4/user/gallery/Drip04.WAV" TargetMode="External"/><Relationship Id="rId6" Type="http://schemas.openxmlformats.org/officeDocument/2006/relationships/hyperlink" Target="file:///tmp/home/.config/libreoffice/4/user/gallery/Drip04.WAV" TargetMode="External"/><Relationship Id="rId7" Type="http://schemas.openxmlformats.org/officeDocument/2006/relationships/hyperlink" Target="file:///tmp/home/.config/libreoffice/4/user/gallery/Drip04.WAV" TargetMode="External"/><Relationship Id="rId8" Type="http://schemas.openxmlformats.org/officeDocument/2006/relationships/hyperlink" Target="file:///tmp/home/.config/libreoffice/4/user/gallery/Drip04.WAV" TargetMode="External"/><Relationship Id="rId9" Type="http://schemas.openxmlformats.org/officeDocument/2006/relationships/hyperlink" Target="file:///tmp/home/.config/libreoffice/4/user/gallery/Drip04.WAV" TargetMode="Externa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567240" y="3411360"/>
            <a:ext cx="1869840" cy="214560"/>
            <a:chOff x="3567240" y="3411360"/>
            <a:chExt cx="1869840" cy="214560"/>
          </a:xfrm>
        </p:grpSpPr>
        <p:pic>
          <p:nvPicPr>
            <p:cNvPr id="42" name="mtl05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5257800" y="3429000"/>
              <a:ext cx="1792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567240" y="3429000"/>
              <a:ext cx="90360" cy="9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9120" y="3411360"/>
              <a:ext cx="90360" cy="90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mtl05" descr=""/>
            <p:cNvPicPr/>
            <p:nvPr/>
          </p:nvPicPr>
          <p:blipFill>
            <a:blip r:embed="rId3"/>
            <a:stretch/>
          </p:blipFill>
          <p:spPr>
            <a:xfrm>
              <a:off x="3581280" y="3446640"/>
              <a:ext cx="17964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317320" y="557676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隶书"/>
                <a:ea typeface="隶书"/>
              </a:rPr>
              <a:t>湖北鄂州大学电信系   雷运发 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533520" y="838080"/>
            <a:ext cx="685800" cy="2133720"/>
            <a:chOff x="533520" y="838080"/>
            <a:chExt cx="685800" cy="2133720"/>
          </a:xfrm>
        </p:grpSpPr>
        <p:pic>
          <p:nvPicPr>
            <p:cNvPr id="48" name="01" descr="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533520" y="838080"/>
              <a:ext cx="574560" cy="20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33520" y="1841400"/>
              <a:ext cx="685800" cy="1130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867280" y="4038480"/>
            <a:ext cx="2590920" cy="259092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676520"/>
            <a:ext cx="3581280" cy="3581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228600"/>
            <a:ext cx="2667240" cy="26668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hirlwind12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09480"/>
            <a:ext cx="1955520" cy="5715000"/>
          </a:xfrm>
          <a:custGeom>
            <a:avLst/>
            <a:gdLst/>
            <a:ahLst/>
            <a:rect l="l" t="t" r="r" b="b"/>
            <a:pathLst>
              <a:path w="1520" h="3600">
                <a:moveTo>
                  <a:pt x="768" y="0"/>
                </a:moveTo>
                <a:cubicBezTo>
                  <a:pt x="1144" y="444"/>
                  <a:pt x="1520" y="888"/>
                  <a:pt x="1392" y="1488"/>
                </a:cubicBezTo>
                <a:cubicBezTo>
                  <a:pt x="1264" y="2088"/>
                  <a:pt x="632" y="2844"/>
                  <a:pt x="0" y="3600"/>
                </a:cubicBezTo>
              </a:path>
            </a:pathLst>
          </a:custGeom>
          <a:noFill/>
          <a:ln w="3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2674440" y="755640"/>
            <a:ext cx="2029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一章  多媒体基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4"/>
          </p:cNvPr>
          <p:cNvSpPr/>
          <p:nvPr/>
        </p:nvSpPr>
        <p:spPr>
          <a:xfrm>
            <a:off x="3537360" y="1474920"/>
            <a:ext cx="4234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二章  多媒体的硬件和软件环境的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5"/>
          </p:cNvPr>
          <p:cNvSpPr/>
          <p:nvPr/>
        </p:nvSpPr>
        <p:spPr>
          <a:xfrm>
            <a:off x="3476160" y="2193840"/>
            <a:ext cx="35946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三章  多媒体素材的编辑与制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6"/>
          </p:cNvPr>
          <p:cNvSpPr/>
          <p:nvPr/>
        </p:nvSpPr>
        <p:spPr>
          <a:xfrm>
            <a:off x="3258000" y="2914560"/>
            <a:ext cx="31676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四章  多媒体应用设计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7"/>
          </p:cNvPr>
          <p:cNvSpPr/>
          <p:nvPr/>
        </p:nvSpPr>
        <p:spPr>
          <a:xfrm>
            <a:off x="3095280" y="3633840"/>
            <a:ext cx="35946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五章  多媒体应用系统创作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8"/>
          </p:cNvPr>
          <p:cNvSpPr/>
          <p:nvPr/>
        </p:nvSpPr>
        <p:spPr>
          <a:xfrm>
            <a:off x="2388240" y="4354560"/>
            <a:ext cx="62402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六章  基于流程图的创作工具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Authoware 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9"/>
          </p:cNvPr>
          <p:cNvSpPr/>
          <p:nvPr/>
        </p:nvSpPr>
        <p:spPr>
          <a:xfrm>
            <a:off x="2132280" y="5073480"/>
            <a:ext cx="31676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第七章  网络多媒体应用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tl08" descr=""/>
          <p:cNvPicPr/>
          <p:nvPr/>
        </p:nvPicPr>
        <p:blipFill>
          <a:blip r:embed="rId10"/>
          <a:stretch/>
        </p:blipFill>
        <p:spPr>
          <a:xfrm>
            <a:off x="1447920" y="8985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3" name="mtl08" descr=""/>
          <p:cNvPicPr/>
          <p:nvPr/>
        </p:nvPicPr>
        <p:blipFill>
          <a:blip r:embed="rId11"/>
          <a:stretch/>
        </p:blipFill>
        <p:spPr>
          <a:xfrm>
            <a:off x="1828800" y="1619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4" name="mtl08" descr=""/>
          <p:cNvPicPr/>
          <p:nvPr/>
        </p:nvPicPr>
        <p:blipFill>
          <a:blip r:embed="rId12"/>
          <a:stretch/>
        </p:blipFill>
        <p:spPr>
          <a:xfrm>
            <a:off x="2014560" y="23385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mtl08" descr=""/>
          <p:cNvPicPr/>
          <p:nvPr/>
        </p:nvPicPr>
        <p:blipFill>
          <a:blip r:embed="rId13"/>
          <a:stretch/>
        </p:blipFill>
        <p:spPr>
          <a:xfrm>
            <a:off x="1943280" y="3057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6" name="mtl08" descr=""/>
          <p:cNvPicPr/>
          <p:nvPr/>
        </p:nvPicPr>
        <p:blipFill>
          <a:blip r:embed="rId14"/>
          <a:stretch/>
        </p:blipFill>
        <p:spPr>
          <a:xfrm>
            <a:off x="1676520" y="37782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7" name="mtl08" descr=""/>
          <p:cNvPicPr/>
          <p:nvPr/>
        </p:nvPicPr>
        <p:blipFill>
          <a:blip r:embed="rId15"/>
          <a:stretch/>
        </p:blipFill>
        <p:spPr>
          <a:xfrm>
            <a:off x="1295280" y="4497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8" name="mtl08" descr=""/>
          <p:cNvPicPr/>
          <p:nvPr/>
        </p:nvPicPr>
        <p:blipFill>
          <a:blip r:embed="rId16"/>
          <a:stretch/>
        </p:blipFill>
        <p:spPr>
          <a:xfrm>
            <a:off x="844560" y="5218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02:36:54Z</dcterms:created>
  <dc:creator>superbrain</dc:creator>
  <dc:description/>
  <dc:language>en-US</dc:language>
  <cp:lastModifiedBy>superbrain</cp:lastModifiedBy>
  <dcterms:modified xsi:type="dcterms:W3CDTF">2001-10-17T04:34:02Z</dcterms:modified>
  <cp:revision>30</cp:revision>
  <dc:subject/>
  <dc:title>PowerPoint 演示文稿</dc:title>
</cp:coreProperties>
</file>