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3.png" ContentType="image/png"/>
  <Override PartName="/ppt/media/image6.png" ContentType="image/png"/>
  <Override PartName="/ppt/media/image18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60.wmf" ContentType="image/x-wmf"/>
  <Override PartName="/ppt/media/image38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1.png" ContentType="image/png"/>
  <Override PartName="/ppt/media/image52.png" ContentType="image/png"/>
  <Override PartName="/ppt/media/image10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28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886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570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728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886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A00-B8C5-42CE-95D6-64037499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074-9872-47EF-8BA2-A5F2C7EB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6C-AC48-41CB-8763-8D6D279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B2D-12CE-4CAE-9D85-B0203849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AE0-52E3-477E-89EF-AFE3453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440400"/>
            <a:ext cx="1143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3AB-0FE0-4E6D-9E02-476B434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8B9-993B-4DA0-B05B-ECF3F24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E00-AB2D-4B1D-9D9B-7BF7A81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4AD-576C-4F53-A999-03A657F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27C-F63B-4A5E-8084-5BA8B2C5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053-4748-4322-91C1-2BF4BF2A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28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86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0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728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86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2B3-AD4E-4AA7-97B5-88CFCF05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6440400"/>
            <a:ext cx="1143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880" indent="-2570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280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008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A702-E7F9-4507-BDE6-2B503B8462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DEDB-098E-422E-8EBA-A63B3CD0B6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65.xml"/><Relationship Id="rId9" Type="http://schemas.openxmlformats.org/officeDocument/2006/relationships/slide" Target="slide65.xml"/><Relationship Id="rId10" Type="http://schemas.openxmlformats.org/officeDocument/2006/relationships/slide" Target="slide83.xml"/><Relationship Id="rId11" Type="http://schemas.openxmlformats.org/officeDocument/2006/relationships/slide" Target="slide83.xml"/><Relationship Id="rId12" Type="http://schemas.openxmlformats.org/officeDocument/2006/relationships/slide" Target="slide83.xml"/><Relationship Id="rId13" Type="http://schemas.openxmlformats.org/officeDocument/2006/relationships/slide" Target="slide114.xml"/><Relationship Id="rId14" Type="http://schemas.openxmlformats.org/officeDocument/2006/relationships/slide" Target="slide114.xml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" Target="slide115.xml"/><Relationship Id="rId3" Type="http://schemas.openxmlformats.org/officeDocument/2006/relationships/slide" Target="slide123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4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3.xml"/><Relationship Id="rId12" Type="http://schemas.openxmlformats.org/officeDocument/2006/relationships/slide" Target="slide34.xml"/><Relationship Id="rId13" Type="http://schemas.openxmlformats.org/officeDocument/2006/relationships/slide" Target="slide38.xml"/><Relationship Id="rId14" Type="http://schemas.openxmlformats.org/officeDocument/2006/relationships/slide" Target="slide42.xml"/><Relationship Id="rId15" Type="http://schemas.openxmlformats.org/officeDocument/2006/relationships/slide" Target="slide1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6.xml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54.xml"/><Relationship Id="rId8" Type="http://schemas.openxmlformats.org/officeDocument/2006/relationships/slide" Target="slide58.xml"/><Relationship Id="rId9" Type="http://schemas.openxmlformats.org/officeDocument/2006/relationships/slide" Target="slide59.xml"/><Relationship Id="rId10" Type="http://schemas.openxmlformats.org/officeDocument/2006/relationships/slide" Target="slide60.xml"/><Relationship Id="rId11" Type="http://schemas.openxmlformats.org/officeDocument/2006/relationships/slide" Target="slide61.xml"/><Relationship Id="rId12" Type="http://schemas.openxmlformats.org/officeDocument/2006/relationships/slide" Target="slide63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8.xml"/><Relationship Id="rId4" Type="http://schemas.openxmlformats.org/officeDocument/2006/relationships/slide" Target="slide88.xml"/><Relationship Id="rId5" Type="http://schemas.openxmlformats.org/officeDocument/2006/relationships/slide" Target="slide90.xml"/><Relationship Id="rId6" Type="http://schemas.openxmlformats.org/officeDocument/2006/relationships/slide" Target="slide95.xml"/><Relationship Id="rId7" Type="http://schemas.openxmlformats.org/officeDocument/2006/relationships/slide" Target="slide98.xml"/><Relationship Id="rId8" Type="http://schemas.openxmlformats.org/officeDocument/2006/relationships/slide" Target="slide99.xml"/><Relationship Id="rId9" Type="http://schemas.openxmlformats.org/officeDocument/2006/relationships/slide" Target="slide99.xml"/><Relationship Id="rId10" Type="http://schemas.openxmlformats.org/officeDocument/2006/relationships/slide" Target="slide99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1143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中文电子表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Excel 2 0 0 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功能和使用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9907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6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熟悉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Excel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6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编辑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6.3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格式化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6.4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公式与函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6.5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Excel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高级操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6.6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图表和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OUCAN" descr=""/>
          <p:cNvPicPr/>
          <p:nvPr/>
        </p:nvPicPr>
        <p:blipFill>
          <a:blip r:embed="rId15"/>
          <a:stretch/>
        </p:blipFill>
        <p:spPr>
          <a:xfrm>
            <a:off x="1981080" y="5905440"/>
            <a:ext cx="708660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9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171880"/>
            <a:ext cx="6781680" cy="1238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4267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”工具栏按钮功能说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数据透视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42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4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198108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数据、数据透视表和图表报告”选项，弹出“数据透视表和数据透视图向导—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指定待分析数据的数据源类型和需创建的报表类型，单击“下一步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要建立数据透视表的数据源区域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新建工作表”单选项，再单击“完成”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需要用鼠标分别将“数据透视表”工具栏中的字段按钮拖放到透视表的相应位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1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271840" cy="27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0532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94804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4647960" cy="27399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895480" y="47242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数据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176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5052960" cy="1603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352680" y="44197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352680" y="47242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336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44824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5276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5029200" cy="36892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04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0290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5276880" cy="2019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20040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立的数据透视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91456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4857480" cy="32943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124080" y="50292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数据透视图　　　向导—版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5812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505320" y="4952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字段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数据透视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1676520"/>
            <a:ext cx="4724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改数据透视表的布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行、列字段互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在字段内移动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隐藏和显示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删除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设置数据透视表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9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2274840"/>
            <a:ext cx="6324480" cy="115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12408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”工具栏按钮功能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81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4233960" cy="34765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8954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209680" y="1295280"/>
            <a:ext cx="65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新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数据→更新数据”选项；在数据区域的快捷菜单中选择“更新数据”选项；在“数据透视表”工具栏上单击“更新数据”按钮，在“数据透视表”工具栏上单击“数据透视表”按钮，在弹出的菜单中选择“更新数据”选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0570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透视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5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685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数据→数据透视表和图表报告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icrosoft 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清单或数据库”和“数据透视图”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数据源区域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需要选择“新建工作表”或“现有工作表”选项，再单击“完成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版式”按钮，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下一步”按钮完成数据透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048120" y="4800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成的数据透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242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5076720" cy="31989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6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表和图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4648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" action="ppaction://hlinksldjump"/>
              </a:rPr>
              <a:t>6.6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2" action="ppaction://hlinksldjump"/>
              </a:rPr>
              <a:t>创建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3" action="ppaction://hlinksldjump"/>
              </a:rPr>
              <a:t>6.6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4" action="ppaction://hlinksldjump"/>
              </a:rPr>
              <a:t>图表的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5" action="ppaction://hlinksldjump"/>
              </a:rPr>
              <a:t>6.6.3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6" action="ppaction://hlinksldjump"/>
              </a:rPr>
              <a:t>图表的格式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7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6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创建图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表可以分为内嵌图表和独立图表两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53——6-5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图表向导创建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图表”工具栏创建简单的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1622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228920" cy="2671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42900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成绩单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3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3772080" cy="3452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590920" y="49528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类型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36708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3413160" cy="3533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666880" y="5029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源数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9718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4876920" cy="2989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97180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02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6110280" cy="730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2680" y="4038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0812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995720" cy="1979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20040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—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表位置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409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286000" y="1905120"/>
          <a:ext cx="6200640" cy="20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6200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2743200" y="4572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图表向导创建的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80512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5653080" cy="14014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4290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6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图表的编辑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8380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图表的移动、复制、缩放和删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改变图表的类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图表中数据和文字的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删除数据系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添加数据系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改变数据系列产生方式。 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和删除文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图表选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6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图表的格式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85800"/>
            <a:ext cx="66294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选中图表，在菜单栏上选择“编辑→图表区”选项；或在快捷菜单中选择“图表区格式”选项；或双击图表对象，弹出相应的格式设置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图表区，弹出“图表区格式”对话框，可以为整个图表区域设置图案、字体、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数值轴或分类轴，弹出“坐标轴格式”对话框，可对坐标轴的图案、刻度、字体、数字对齐方式进行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图例，弹出“图例格式”对话框，可对图例的图案、字体和位置进行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086600" y="5410080"/>
            <a:ext cx="2057400" cy="8384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endshow"/>
          </p:cNvPr>
          <p:cNvSpPr/>
          <p:nvPr/>
        </p:nvSpPr>
        <p:spPr>
          <a:xfrm>
            <a:off x="4800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结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2008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962520" cy="35226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60020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000" y="577800"/>
            <a:ext cx="11552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本章到此结束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谢谢您的光临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栏和工具栏的操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182880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菜单栏的操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具栏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移动菜单或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4332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4724280" cy="3992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2900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386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543640" cy="32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576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具栏的移动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43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467160" cy="272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05320" y="4648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具栏的移动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编辑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66880" y="5335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" action="ppaction://hlinksldjump"/>
              </a:rPr>
              <a:t>6.2.1    编辑单元格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2" action="ppaction://hlinksldjump"/>
              </a:rPr>
              <a:t>6.2.2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3" action="ppaction://hlinksldjump"/>
              </a:rPr>
              <a:t>复制和移动单元格的内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4" action="ppaction://hlinksldjump"/>
              </a:rPr>
              <a:t>6.2.3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5" action="ppaction://hlinksldjump"/>
              </a:rPr>
              <a:t>填充单元格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hlinkClick r:id="rId6" action="ppaction://hlinksldjump"/>
              </a:rPr>
              <a:t>6.2.4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hlinkClick r:id="rId7" action="ppaction://hlinksldjump"/>
              </a:rPr>
              <a:t>删除与清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8" action="ppaction://hlinksldjump"/>
              </a:rPr>
              <a:t>6.2.5    查找与替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9" action="ppaction://hlinksldjump"/>
              </a:rPr>
              <a:t>6.2.6    插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0" action="ppaction://hlinksldjump"/>
              </a:rPr>
              <a:t>6.2.7    单元格区域命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1" action="ppaction://hlinksldjump"/>
              </a:rPr>
              <a:t>6.2.8    其他编辑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2" action="ppaction://hlinksldjump"/>
              </a:rPr>
              <a:t>6.2.9    工作表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3" action="ppaction://hlinksldjump"/>
              </a:rPr>
              <a:t>6.2.10  页面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4" action="ppaction://hlinksldjump"/>
              </a:rPr>
              <a:t>6.2.11  打印工作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5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6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编辑单元格数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9807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编辑栏中编辑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单元格内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复制和移动单元格的内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个单元格内容复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剪贴板复制和移动单元格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拖动鼠标的方法复制和移动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77328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本章学习目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304920"/>
            <a:ext cx="6629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章学习目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启动和退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基本界面组成、工具栏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入数据、工作簿操作、工作表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辑数据的操作、单元格范围的命名、复制、移动和删除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变数字、文本、单元格、自动套用、复制、条件格式化、改变行宽和列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式计算、函数计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面设置、打印设置、打印预览、打印工作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排序与筛选、创建图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337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6-8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3381480" cy="320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52680" y="5029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剪贴板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194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3543120" cy="30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2900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性粘贴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718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4624560" cy="2612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4952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性粘贴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填充单元格区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156204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填充数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填充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当前工作表中自动填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产生一个序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定义序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194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143680" cy="3008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81280" y="495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序列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8120" y="533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自定义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2.4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删除与清除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2189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清除单元格中的信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单元格区域，在菜单栏上选择“编辑→清除”选项，弹出“清除”子菜单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单元格中的信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整行或整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单元格或单元格区域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查找与替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可通过对话框上的选项确定查找范围及查找内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5567400" cy="218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7180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找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07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952880" cy="1951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57600" y="5715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1447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搜索和替换的字符可以包括文字、数字、公式或公式的部分。在菜单栏上选择“编辑→选项”或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弹出“替换”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6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插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插入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插入行／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1143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1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 0 0 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78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6.1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Excel 2000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的启动与退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6.1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Excel 2000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的用户界面与操作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7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单元格区域命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90560" y="1752480"/>
            <a:ext cx="60195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定义名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粘贴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指定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标志区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305320" cy="3011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1280" y="4648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名称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57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4795920" cy="312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29000" y="4876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志区域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8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其他编辑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360" y="156204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元格的批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对象”命令访问其他应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图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1143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9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工作表的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400" y="7617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表的选择与翻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6002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选择一组工作表的方法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相邻的一组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不相邻的一组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全部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用以下任意一种方法取消工作表组的设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移动或复制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175248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鼠标直接移动或复制工作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菜单命令移动或复制工作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工作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下列选定工作表之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建立副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09320" y="1447920"/>
            <a:ext cx="6248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隐藏和取消隐藏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定工作簿中的工作表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7617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窗口的拆分与冻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752480"/>
            <a:ext cx="4800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拆分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菜单命令拆分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鼠标进行拆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撤消拆分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冻结拆分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放大或缩小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0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页面设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4724280" cy="337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7672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8380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页面设置”选项、弹出“页面设置”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81080" y="140976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边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眉和页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的选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分页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插入分页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分页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14300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1.1  Excel 2 0 0 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启动与退出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启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52388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开始”中选择“程序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icrosoft Exce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开始”菜单中选择“程序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资源管理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桌面上双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的快捷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启动”文件夹中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的快捷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启动后，屏幕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程序窗口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029200" cy="3589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24080" y="5181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边距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4800600" cy="3427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2900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脚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打印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印预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打印预览”选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预览窗口顶部单击“关闭”按钮，可返回工作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打印机和打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打印”选项，弹出“打印”对话框。单击“确定”按钮开始打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3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格式化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5640" y="609480"/>
            <a:ext cx="6629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" action="ppaction://hlinksldjump"/>
              </a:rPr>
              <a:t>6.3.1    列宽和行高的调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2" action="ppaction://hlinksldjump"/>
              </a:rPr>
              <a:t>6.3.2    设置单元格的字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3" action="ppaction://hlinksldjump"/>
              </a:rPr>
              <a:t>6.3.3    单元格内容的对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4" action="ppaction://hlinksldjump"/>
              </a:rPr>
              <a:t>6.3.4    表格线与边框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5" action="ppaction://hlinksldjump"/>
              </a:rPr>
              <a:t>6.3.5    设置单元格的颜色和图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6" action="ppaction://hlinksldjump"/>
              </a:rPr>
              <a:t>6.3.6    设置单元格的数字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7" action="ppaction://hlinksldjump"/>
              </a:rPr>
              <a:t>6.3.7    使用条件格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8" action="ppaction://hlinksldjump"/>
              </a:rPr>
              <a:t>6.3.8    使用格式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9" action="ppaction://hlinksldjump"/>
              </a:rPr>
              <a:t>6.3.9    保护单元格或单元格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0" action="ppaction://hlinksldjump"/>
              </a:rPr>
              <a:t>6.3.10   自动套用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1" action="ppaction://hlinksldjump"/>
              </a:rPr>
              <a:t>6.3.11   使用样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2" action="ppaction://hlinksldjump"/>
              </a:rPr>
              <a:t>6.3.12   设置工作表背景图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4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3.1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列宽和行高的调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的列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1676520"/>
            <a:ext cx="6629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列→列宽”选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确定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列→最适合的列宽”选项，单击“确定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鼠标移到所选列标的右边框，拖动该边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057040" y="10663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行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3623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格式→行→行高”选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格式→行→最适合的行高”选项，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将鼠标移到所选行标的下边框，该行的高度自动设置为最高项的高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字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5740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菜单命令设置字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为：选定单元格区域；在菜单栏上选择“格式→单元格”选项，完成设置后，可在“预览”框预览当前选定的字体及其格式式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工具栏上的按钮设置字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工具栏上有字体、字号等按钮，可对选定的单元格区域设置字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3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单元格内容的对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菜单命令设置对齐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水平对齐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垂直对齐”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文本控制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方向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格式”工具栏设置对齐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”工具栏上有四个常用的单元格对齐方式按钮：左对齐、居中、右对齐、合并及居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4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表格线与边框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单元格区域周围加边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边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取消网格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颜色和图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单元格区域；在菜单栏上选“格式→单元格”选项，弹出“单元格格式”对话框；在“图案”选项卡中设置底纹颜色和图案，在“示例”显示框中预览设置的效果；单击“确定”按钮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676520"/>
            <a:ext cx="65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菜单栏上选择“文件→退出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左上角双击窗口控制菜单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左上角单击窗口控制菜单按钮，在弹出的控制菜单中选择“关闭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t+ F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，或单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窗口右上角的关闭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6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数字格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字格式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101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的数字格式有：常规、数值、货币、会计专用、日期、时间、百分比、分数、科学记数、文本、自定义等。默认的数字格式是“常规”格式。输入时，系统根据单元格中输入的数值进行适当的格式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7040" y="11426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单元格数字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635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菜单设置单元格的数字格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工具栏设置单元格的数字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3336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114800" cy="3608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97180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元格格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7040" y="1294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自定义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1016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单元格格式”对话框的“数字”选项卡中，在“分类”列表中选择“自定义”选项，在“类型”列表中选择一个最接近需要的自定义格式并进行修改；单击“确定”按钮或按回车键，保存新的数字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1143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3.7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使用条件格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条件格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条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更改条件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7164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372000" cy="177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14600" y="43434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格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766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334120" cy="232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0" y="4572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“条件格式”对话框中设置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669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4700520" cy="285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666880" y="4648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条件格式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8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使用格式刷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要复制的单元格区域；在“常用”工具栏上单击“格式刷”按钮，单元格区域的选中标记由黑实线框变为滚动的短虚线框；单击鼠标左键，则该单元格区域设置为相同的格式，格式刷恢复原状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9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保护单元格或单元格区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6705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要锁定、隐藏的单元格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单元格”选项，弹出“单元格格式”对话框，在“保护”选项卡上选择相应的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工具→保护→保护工作表”选项，弹出“保护工作表”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保护口令并设置相应的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，并在“确认口令”对话框中再次输入口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906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6400800" cy="353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  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程序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1143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0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自动套用格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要套用自动格式的单元格区域，在菜单栏上选择“格式→自动套用格式”选项，弹出“自动套用格式”对话框；在“格式”列表框中选择一个格式。单击“确定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使用样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内部样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合并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194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5029200" cy="29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43200" y="4724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工作表背景图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057040" y="114300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要添加背景图案的工作表设为当前活动工作表；在菜单栏上选择“格式→工作表→背景”选项，弹出“工作表背景”对话框，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；选择图形文件（可在对话框右边浏览），单击“插入”按钮，将图形填入工作表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42900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表背景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3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029200" cy="33163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4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公式与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562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6.4.1  公式的使用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2" action="ppaction://hlinksldjump"/>
              </a:rPr>
              <a:t>6.4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3" action="ppaction://hlinksldjump"/>
              </a:rPr>
              <a:t>函数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4.1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式的使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中的运算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776240"/>
            <a:ext cx="678204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算术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比较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文本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引用运算符。引用运算符可以将单元格区域合并运算，包括冒号（：）、逗号（，）和空格。其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冒号（：）是区域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逗号（，）是联合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空格是交叉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981080" y="12949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运算符的运算顺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24084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冒号（：） →逗号（，） →空格→负号→百分号→幂→乘→除→加→减→＆→比较。括号可以改变运算的先后顺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057040" y="9907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选项板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163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单击编辑栏中的“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=”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，即可显示公式选项板。公式选项板中显示函数的名称、参数和计算结果，以及整个公式的计算结果和该函数的简单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098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876640" cy="2557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432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公式选项板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1.2  Excel 200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用户界面与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簿、工作表和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1905120"/>
            <a:ext cx="3962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元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活动单元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公式中引用其他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1676520"/>
            <a:ext cx="67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的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混合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同一工作簿中其他工作表的单元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其他工作簿的单元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循环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14240" y="22860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编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312408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修改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移动和复制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438280" y="1371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显示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复杂公式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3124080"/>
            <a:ext cx="6705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公式的数值转换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4d4d4d"/>
                </a:solidFill>
                <a:latin typeface="Arial"/>
                <a:ea typeface="黑体"/>
              </a:rPr>
              <a:t>表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6-1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日期和时间的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公式返回错误值及其产生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124080" y="762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值转换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05120" y="1600200"/>
            <a:ext cx="6857640" cy="4495320"/>
            <a:chOff x="1905120" y="1600200"/>
            <a:chExt cx="6857640" cy="4495320"/>
          </a:xfrm>
        </p:grpSpPr>
        <p:grpSp>
          <p:nvGrpSpPr>
            <p:cNvPr id="297" name=""/>
            <p:cNvGrpSpPr/>
            <p:nvPr/>
          </p:nvGrpSpPr>
          <p:grpSpPr>
            <a:xfrm>
              <a:off x="1910520" y="1605600"/>
              <a:ext cx="6845760" cy="4482720"/>
              <a:chOff x="1910520" y="1605600"/>
              <a:chExt cx="6845760" cy="448272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910520" y="1605600"/>
                <a:ext cx="1945080" cy="627480"/>
                <a:chOff x="1910520" y="1605600"/>
                <a:chExt cx="1945080" cy="627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992240" y="1605600"/>
                  <a:ext cx="178164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公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910520" y="1605600"/>
                  <a:ext cx="19450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855960" y="1605600"/>
                <a:ext cx="1142280" cy="627480"/>
                <a:chOff x="3855960" y="1605600"/>
                <a:chExt cx="1142280" cy="627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937680" y="1605600"/>
                  <a:ext cx="97884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运算结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855960" y="1605600"/>
                  <a:ext cx="11422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998600" y="1605600"/>
                <a:ext cx="3757680" cy="627480"/>
                <a:chOff x="4998600" y="1605600"/>
                <a:chExt cx="3757680" cy="627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079600" y="1605600"/>
                  <a:ext cx="359460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998600" y="1605600"/>
                  <a:ext cx="37576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910520" y="2233440"/>
                <a:ext cx="1945080" cy="1075320"/>
                <a:chOff x="1910520" y="2233440"/>
                <a:chExt cx="1945080" cy="10753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992240" y="2233440"/>
                  <a:ext cx="17816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=“2”+“6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10520" y="2233440"/>
                  <a:ext cx="19450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855960" y="2233440"/>
                <a:ext cx="1142280" cy="1075320"/>
                <a:chOff x="3855960" y="2233440"/>
                <a:chExt cx="1142280" cy="10753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937680" y="2233440"/>
                  <a:ext cx="9788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855960" y="2233440"/>
                  <a:ext cx="11422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998600" y="2233440"/>
                <a:ext cx="3757680" cy="1075320"/>
                <a:chOff x="4998600" y="2233440"/>
                <a:chExt cx="3757680" cy="1075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79600" y="2233440"/>
                  <a:ext cx="359460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使用算术运算符时，虽然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和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6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是文本类型的数据，但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认为运算是数字项，自动将其转换为数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998600" y="2233440"/>
                  <a:ext cx="37576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910520" y="3309480"/>
                <a:ext cx="1945080" cy="851400"/>
                <a:chOff x="1910520" y="3309480"/>
                <a:chExt cx="1945080" cy="851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992240" y="3309480"/>
                  <a:ext cx="17816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=“99/09/08”-“99/09/02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910520" y="3309480"/>
                  <a:ext cx="19450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855960" y="3309480"/>
                <a:ext cx="1142280" cy="851400"/>
                <a:chOff x="3855960" y="3309480"/>
                <a:chExt cx="1142280" cy="851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937680" y="3309480"/>
                  <a:ext cx="9788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855960" y="3309480"/>
                  <a:ext cx="11422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998600" y="3309480"/>
                <a:ext cx="3757680" cy="851400"/>
                <a:chOff x="4998600" y="3309480"/>
                <a:chExt cx="3757680" cy="851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79600" y="3309480"/>
                  <a:ext cx="359460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将具有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yy/mm/d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格式的文本当作日期，将日期转换成为序列号后，再进行计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998600" y="3309480"/>
                  <a:ext cx="37576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910520" y="4161240"/>
                <a:ext cx="1945080" cy="1075320"/>
                <a:chOff x="1910520" y="4161240"/>
                <a:chExt cx="1945080" cy="1075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992240" y="4161240"/>
                  <a:ext cx="17816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SUM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“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 * 5”,4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910520" y="4161240"/>
                  <a:ext cx="19450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855960" y="4161240"/>
                <a:ext cx="1142280" cy="1075320"/>
                <a:chOff x="3855960" y="4161240"/>
                <a:chExt cx="1142280" cy="10753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937680" y="4161240"/>
                  <a:ext cx="9788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＃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55960" y="4161240"/>
                  <a:ext cx="11422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998600" y="4161240"/>
                <a:ext cx="3757680" cy="1075320"/>
                <a:chOff x="4998600" y="4161240"/>
                <a:chExt cx="3757680" cy="10753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079600" y="4161240"/>
                  <a:ext cx="359460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不能将文本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 * 5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成数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98600" y="4161240"/>
                  <a:ext cx="37576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910520" y="5236920"/>
                <a:ext cx="1945080" cy="851400"/>
                <a:chOff x="1910520" y="5236920"/>
                <a:chExt cx="1945080" cy="8514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992240" y="5236920"/>
                  <a:ext cx="17816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＆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abcdef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10520" y="5236920"/>
                  <a:ext cx="19450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855960" y="5236920"/>
                <a:ext cx="1142280" cy="851400"/>
                <a:chOff x="3855960" y="5236920"/>
                <a:chExt cx="1142280" cy="851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937680" y="5236920"/>
                  <a:ext cx="9788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abcde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55960" y="5236920"/>
                  <a:ext cx="11422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98600" y="5236920"/>
                <a:ext cx="3757680" cy="851400"/>
                <a:chOff x="4998600" y="5236920"/>
                <a:chExt cx="3757680" cy="851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79600" y="5236920"/>
                  <a:ext cx="359460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当公式需要文本型数值时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ec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自动将数字转换为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98600" y="5236920"/>
                  <a:ext cx="37576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1905120" y="1600200"/>
              <a:ext cx="6857640" cy="4495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905120" y="685800"/>
            <a:ext cx="5943240" cy="5714640"/>
            <a:chOff x="1905120" y="685800"/>
            <a:chExt cx="5943240" cy="5714640"/>
          </a:xfrm>
        </p:grpSpPr>
        <p:grpSp>
          <p:nvGrpSpPr>
            <p:cNvPr id="345" name=""/>
            <p:cNvGrpSpPr/>
            <p:nvPr/>
          </p:nvGrpSpPr>
          <p:grpSpPr>
            <a:xfrm>
              <a:off x="1909800" y="690480"/>
              <a:ext cx="5932800" cy="5704560"/>
              <a:chOff x="1909800" y="690480"/>
              <a:chExt cx="5932800" cy="5704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909800" y="690480"/>
                <a:ext cx="1140480" cy="716760"/>
                <a:chOff x="1909800" y="690480"/>
                <a:chExt cx="1140480" cy="7167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982160" y="69048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返回的错误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909800" y="69048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050640" y="690480"/>
                <a:ext cx="4791960" cy="716760"/>
                <a:chOff x="3050640" y="690480"/>
                <a:chExt cx="4791960" cy="716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122640" y="69048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产生的原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50640" y="69048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1909800" y="1407600"/>
                <a:ext cx="1140480" cy="717480"/>
                <a:chOff x="1909800" y="1407600"/>
                <a:chExt cx="1140480" cy="717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982160" y="1407600"/>
                  <a:ext cx="9957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#####!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09800" y="1407600"/>
                  <a:ext cx="114048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050640" y="1407600"/>
                <a:ext cx="4791960" cy="717480"/>
                <a:chOff x="3050640" y="1407600"/>
                <a:chExt cx="4791960" cy="717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122640" y="1407600"/>
                  <a:ext cx="464760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公式计算的结果太长，单元格宽度不够。增加单元格的列宽可以解决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50640" y="1407600"/>
                  <a:ext cx="479196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909800" y="2125800"/>
                <a:ext cx="1140480" cy="528480"/>
                <a:chOff x="1909800" y="2125800"/>
                <a:chExt cx="1140480" cy="528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982160" y="2125800"/>
                  <a:ext cx="9957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div/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09800" y="2125800"/>
                  <a:ext cx="11404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50640" y="2125800"/>
                <a:ext cx="4791960" cy="528480"/>
                <a:chOff x="3050640" y="2125800"/>
                <a:chExt cx="4791960" cy="528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122640" y="2125800"/>
                  <a:ext cx="46476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除数为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50640" y="2125800"/>
                  <a:ext cx="47919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909800" y="2654640"/>
                <a:ext cx="1140480" cy="528840"/>
                <a:chOff x="1909800" y="2654640"/>
                <a:chExt cx="1140480" cy="5288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982160" y="2654640"/>
                  <a:ext cx="9957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/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909800" y="2654640"/>
                  <a:ext cx="11404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050640" y="2654640"/>
                <a:ext cx="4791960" cy="528840"/>
                <a:chOff x="3050640" y="2654640"/>
                <a:chExt cx="4791960" cy="5288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22640" y="2654640"/>
                  <a:ext cx="46476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公式中无可用的数值或缺少函数参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050640" y="2654640"/>
                  <a:ext cx="47919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909800" y="3184200"/>
                <a:ext cx="1140480" cy="716760"/>
                <a:chOff x="1909800" y="3184200"/>
                <a:chExt cx="1140480" cy="716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982160" y="318420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AM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09800" y="318420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050640" y="3184200"/>
                <a:ext cx="4791960" cy="716760"/>
                <a:chOff x="3050640" y="3184200"/>
                <a:chExt cx="4791960" cy="716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122640" y="318420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删除了公式中使用的名称，或使用了不存在的名称，以及名称的拼写错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50640" y="318420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909800" y="3901680"/>
                <a:ext cx="1140480" cy="528480"/>
                <a:chOff x="1909800" y="3901680"/>
                <a:chExt cx="1140480" cy="528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982160" y="3901680"/>
                  <a:ext cx="9957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UL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09800" y="3901680"/>
                  <a:ext cx="11404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050640" y="3901680"/>
                <a:ext cx="4791960" cy="528480"/>
                <a:chOff x="3050640" y="3901680"/>
                <a:chExt cx="4791960" cy="528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122640" y="3901680"/>
                  <a:ext cx="46476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使用不正确的区域运算或不正确的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050640" y="3901680"/>
                  <a:ext cx="47919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909800" y="4430880"/>
                <a:ext cx="1140480" cy="717480"/>
                <a:chOff x="1909800" y="4430880"/>
                <a:chExt cx="1140480" cy="71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982160" y="4430880"/>
                  <a:ext cx="9957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U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909800" y="4430880"/>
                  <a:ext cx="114048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050640" y="4430880"/>
                <a:ext cx="4791960" cy="717480"/>
                <a:chOff x="3050640" y="4430880"/>
                <a:chExt cx="4791960" cy="717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122640" y="4430880"/>
                  <a:ext cx="464760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在需要数字参数的函数中使用了不能接受的参数，或者公式计算结果的数字太大或太少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ec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无法表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50640" y="4430880"/>
                  <a:ext cx="479196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909800" y="5148720"/>
                <a:ext cx="1140480" cy="716760"/>
                <a:chOff x="1909800" y="5148720"/>
                <a:chExt cx="1140480" cy="716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982160" y="514872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09800" y="514872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050640" y="5148720"/>
                <a:ext cx="4791960" cy="716760"/>
                <a:chOff x="3050640" y="5148720"/>
                <a:chExt cx="4791960" cy="716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122640" y="514872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删除了由其他公式引用的单元格，或将移动单元格粘贴到其他公式引用的单元格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050640" y="514872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909800" y="5866200"/>
                <a:ext cx="1140480" cy="528840"/>
                <a:chOff x="1909800" y="5866200"/>
                <a:chExt cx="1140480" cy="5288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82160" y="5866200"/>
                  <a:ext cx="9957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VAL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09800" y="5866200"/>
                  <a:ext cx="11404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050640" y="5866200"/>
                <a:ext cx="4791960" cy="528840"/>
                <a:chOff x="3050640" y="5866200"/>
                <a:chExt cx="4791960" cy="5288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122640" y="5866200"/>
                  <a:ext cx="46476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需要数字或逻辑值时输入了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050640" y="5866200"/>
                  <a:ext cx="47919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0" name=""/>
            <p:cNvSpPr/>
            <p:nvPr/>
          </p:nvSpPr>
          <p:spPr>
            <a:xfrm>
              <a:off x="1905120" y="685800"/>
              <a:ext cx="5943240" cy="57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790760" y="6094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式返回的错误值及其产生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数组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152388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数组公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希望数组公式返回一个结果，则单击输入数组公式的单元格；如果希望数组公式返回多个结果，则选定输入数组公式的单元格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入公式的内容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+Shift+E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应用公式（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定要用公式计算结果的单元格区域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公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2:B7+C2:C7+D2: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+Shift+E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结束输入并返回计算结果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766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934240" cy="2489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04812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应用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4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函数的使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的语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165420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公式必须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参数用圆括号“（ ）”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参数多于一个时，要用“，”号分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数的文本要用英文的双引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数可以是已定义的单元格名或区域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中使用数组参数可以由数值、文本和逻辑值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混合使用区域名、单元格引用和数值作为函数的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的参数类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2057400"/>
            <a:ext cx="6477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数字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7.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文字，如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若在文字中使用双引号，则在每个双引号处用两个双引号，如“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EXT”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逻辑值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者计算时产生逻辑值的语句（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错误值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REF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5:C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合函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合函数可以充分利用工作表中的数据，还可以充分发挥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快速计算和重复计算公式的能力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被用作参数时，不需要前置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函数的输入方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粘贴函数法输入函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直接输入函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“自动求和”工具按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用户界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1600200"/>
            <a:ext cx="5639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区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簿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标题栏（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菜单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编辑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表标签（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表拆分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907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471024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0481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粘贴函数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6668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0" r="0" b="4533"/>
          <a:stretch/>
        </p:blipFill>
        <p:spPr>
          <a:xfrm>
            <a:off x="2666880" y="1752480"/>
            <a:ext cx="5715000" cy="2343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352680" y="4572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参数输入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6859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467320" cy="30654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动求和”功能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5  Exce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级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" action="ppaction://hlinksldjump"/>
              </a:rPr>
              <a:t>6.5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2" action="ppaction://hlinksldjump"/>
              </a:rPr>
              <a:t>数据库的建立和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3" action="ppaction://hlinksldjump"/>
              </a:rPr>
              <a:t>6.5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4" action="ppaction://hlinksldjump"/>
              </a:rPr>
              <a:t>数据库的排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5" action="ppaction://hlinksldjump"/>
              </a:rPr>
              <a:t>6.5.3  数据筛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6" action="ppaction://hlinksldjump"/>
              </a:rPr>
              <a:t>6.5.4  分类汇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7" action="ppaction://hlinksldjump"/>
              </a:rPr>
              <a:t>6.5.5  数据库函数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hlinkClick r:id="rId8" action="ppaction://hlinksldjump"/>
              </a:rPr>
              <a:t>6.5.6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hlinkClick r:id="rId9" action="ppaction://hlinksldjump"/>
              </a:rPr>
              <a:t>数据透视表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0" action="ppaction://hlinksldjump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1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2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5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的建立和编辑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数据由若干列组成，每一列有一个列标题，相当于数据库的字段名，如“学号”、“姓名”等。表中每一行构成数据库的一个记录，每个记录存放一组相关的数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工作表中，数据列表与其他数据之间至少留出一个空白列和一个空白行。数据列表中应避免空白行和空白列，单元格不要以空格开头。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9005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253120" cy="2649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20040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成绩单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2900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录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et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24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2805120" cy="316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5384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700440" cy="2916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352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条件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1143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的排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3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操作步骤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单元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或选择成绩单数据库中的任一单元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数据→排序”选项，弹出“排序”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排序”对话框中指定排序的主要关键字和次要关键字、递增或递减排序选项，单击“递减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排序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认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6576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3353040" cy="321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514600" y="5181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1916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2577960"/>
            <a:ext cx="6081840" cy="85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4572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”工具栏按钮功能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筛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09680" y="1676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筛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筛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的抽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057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4638600" cy="23922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666880" y="4724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自动筛选方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99088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19520" y="2152800"/>
            <a:ext cx="5467320" cy="2552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124080" y="510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动筛选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052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3586320" cy="3184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352680" y="5257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级筛选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0980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953320" cy="1770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514600" y="4648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-39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筛选总分大于等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女学生记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5.4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分类汇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要进行分类汇总的单元格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数据→分类汇总”选项，弹出“分类汇总”对话框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分类汇总”对话框上进行选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600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705280" cy="2962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352680" y="4952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汇总结果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7386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3379680" cy="3438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9718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汇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函数的使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133360" y="144756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据库函数包括三个参数：数据库单元格区域，要处理的列或字段，条件区域。在条件区可以指定要处理数据的条件范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.5.6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数据透视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55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创建汇总表格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重新组织表格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筛选数据透视表数据和创建数据透视表数据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创建数据透视表图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6T06:12:03Z</dcterms:modified>
  <cp:revision>102</cp:revision>
  <dc:subject/>
  <dc:title>PowerPoint 演示文稿</dc:title>
</cp:coreProperties>
</file>