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51C-27CD-4395-A3A4-D2A94B5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248-0224-4D66-8F85-1424EC21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D03-E0CF-42C6-96F3-915C9C0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F7D-F1FB-4591-A0BC-E894364C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982-44C3-40E5-978E-250B8395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8BA-3988-402E-918F-E8A2C425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529-73EA-4A79-8B89-5EDDB31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468-862A-4AA3-9C4A-8B8EC42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7D8-DA05-4531-883B-BA61DFA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507-B4C7-410B-A8DC-B643FE91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F40-2367-4A3A-9D1F-A2766F42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F9-59A9-4C43-A221-9C048393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190760" y="843120"/>
            <a:ext cx="838152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隶书"/>
              </a:rPr>
              <a:t>Click to edit the title text format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Click to edit the outline text format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econd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2"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Third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3"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Four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4"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Fif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ix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even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" name=""/>
          <p:cNvSpPr/>
          <p:nvPr/>
        </p:nvSpPr>
        <p:spPr>
          <a:xfrm>
            <a:off x="0" y="25560"/>
            <a:ext cx="9144000" cy="398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第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章  计算机汉字输入方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隶书"/>
              </a:rPr>
              <a:t>Click to edit the title text format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042-76DC-43F0-A82E-4F5F126B8592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9432-7AF8-4605-9403-0F469855A0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7.xml"/><Relationship Id="rId3" Type="http://schemas.openxmlformats.org/officeDocument/2006/relationships/slide" Target="slide36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4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" Target="slide46.xml"/><Relationship Id="rId10" Type="http://schemas.openxmlformats.org/officeDocument/2006/relationships/slide" Target="slide46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章  计算机汉字输入方法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5600" y="2285640"/>
            <a:ext cx="4927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1  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汉字输入基础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3.2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3.3  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7" action="ppaction://hlinksldjump"/>
              </a:rPr>
              <a:t>五笔字型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pic>
        <p:nvPicPr>
          <p:cNvPr id="84" name="gif012" descr=""/>
          <p:cNvPicPr/>
          <p:nvPr/>
        </p:nvPicPr>
        <p:blipFill>
          <a:blip r:embed="rId8"/>
          <a:stretch/>
        </p:blipFill>
        <p:spPr>
          <a:xfrm>
            <a:off x="1600200" y="6137280"/>
            <a:ext cx="65530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2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功能设置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）智能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宋体"/>
              </a:rPr>
              <a:t>ABC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的功能设置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895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89548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区位码输入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笔画查字（即字典）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标准变换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4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打变换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1295280"/>
            <a:ext cx="7391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5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文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6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全角／半角状态切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打键盘布局及笔形    代码提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8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符号、字母输入（动态键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9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、状态控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10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强制记忆功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）状态及设备控制。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954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标点转换 允许／不允许中文标点符号转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纯笔形输入 纯笔形输入方式选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调词频 调整词的频率，以适应不同文类的需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光标 显示或隐藏光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打印设置  设置打印字库的点阵、字体、字型和宽度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2.2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标准输入方式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823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全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简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混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笔形输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如表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3-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音形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2120" y="615960"/>
            <a:ext cx="8229240" cy="5626080"/>
            <a:chOff x="762120" y="615960"/>
            <a:chExt cx="8229240" cy="5626080"/>
          </a:xfrm>
        </p:grpSpPr>
        <p:grpSp>
          <p:nvGrpSpPr>
            <p:cNvPr id="119" name=""/>
            <p:cNvGrpSpPr/>
            <p:nvPr/>
          </p:nvGrpSpPr>
          <p:grpSpPr>
            <a:xfrm>
              <a:off x="768600" y="620640"/>
              <a:ext cx="8215560" cy="5616720"/>
              <a:chOff x="768600" y="620640"/>
              <a:chExt cx="8215560" cy="56167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768600" y="620640"/>
                <a:ext cx="1099440" cy="593640"/>
                <a:chOff x="768600" y="620640"/>
                <a:chExt cx="1099440" cy="593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4000" y="62064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代码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62064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868400" y="620640"/>
                <a:ext cx="1101960" cy="593640"/>
                <a:chOff x="1868400" y="620640"/>
                <a:chExt cx="1101960" cy="593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63800" y="62064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868400" y="62064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970720" y="620640"/>
                <a:ext cx="1398600" cy="593640"/>
                <a:chOff x="2970720" y="620640"/>
                <a:chExt cx="1398600" cy="5936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065400" y="62064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名称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70720" y="62064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69680" y="620640"/>
                <a:ext cx="1456920" cy="593640"/>
                <a:chOff x="4369680" y="620640"/>
                <a:chExt cx="1456920" cy="593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465080" y="62064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实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69680" y="62064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6960" y="620640"/>
                <a:ext cx="3157200" cy="593640"/>
                <a:chOff x="5826960" y="620640"/>
                <a:chExt cx="3157200" cy="59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921640" y="62064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26960" y="62064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1214280"/>
                <a:ext cx="1099440" cy="593640"/>
                <a:chOff x="768600" y="1214280"/>
                <a:chExt cx="1099440" cy="5936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64000" y="121428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121428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868400" y="1214280"/>
                <a:ext cx="1101960" cy="593640"/>
                <a:chOff x="1868400" y="1214280"/>
                <a:chExt cx="1101960" cy="5936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963800" y="121428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一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68400" y="121428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970720" y="1214280"/>
                <a:ext cx="1398600" cy="593640"/>
                <a:chOff x="2970720" y="1214280"/>
                <a:chExt cx="1398600" cy="593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65400" y="121428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横（提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970720" y="121428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69680" y="1214280"/>
                <a:ext cx="1456920" cy="593640"/>
                <a:chOff x="4369680" y="1214280"/>
                <a:chExt cx="1456920" cy="593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465080" y="121428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三、西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69680" y="121428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826960" y="1214280"/>
                <a:ext cx="3157200" cy="593640"/>
                <a:chOff x="5826960" y="1214280"/>
                <a:chExt cx="3157200" cy="5936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921640" y="121428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笔画“提”按“横”处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826960" y="121428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8600" y="1807920"/>
                <a:ext cx="1099440" cy="594000"/>
                <a:chOff x="768600" y="1807920"/>
                <a:chExt cx="1099440" cy="594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864000" y="1807920"/>
                  <a:ext cx="9090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8600" y="1807920"/>
                  <a:ext cx="10994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868400" y="1807920"/>
                <a:ext cx="1101960" cy="594000"/>
                <a:chOff x="1868400" y="1807920"/>
                <a:chExt cx="1101960" cy="5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63800" y="1807920"/>
                  <a:ext cx="9108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|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68400" y="1807920"/>
                  <a:ext cx="1101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970720" y="1807920"/>
                <a:ext cx="1398600" cy="594000"/>
                <a:chOff x="2970720" y="1807920"/>
                <a:chExt cx="1398600" cy="594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065400" y="1807920"/>
                  <a:ext cx="1208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竖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970720" y="1807920"/>
                  <a:ext cx="13986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369680" y="1807920"/>
                <a:ext cx="1456920" cy="594000"/>
                <a:chOff x="4369680" y="1807920"/>
                <a:chExt cx="1456920" cy="594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465080" y="1807920"/>
                  <a:ext cx="1265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上、是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69680" y="1807920"/>
                  <a:ext cx="1456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826960" y="1807920"/>
                <a:ext cx="3157200" cy="594000"/>
                <a:chOff x="5826960" y="1807920"/>
                <a:chExt cx="3157200" cy="594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921640" y="1807920"/>
                  <a:ext cx="2966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26960" y="1807920"/>
                  <a:ext cx="31572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8600" y="2401920"/>
                <a:ext cx="1099440" cy="593640"/>
                <a:chOff x="768600" y="2401920"/>
                <a:chExt cx="1099440" cy="593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64000" y="240192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8600" y="240192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868400" y="2401920"/>
                <a:ext cx="1101960" cy="593640"/>
                <a:chOff x="1868400" y="2401920"/>
                <a:chExt cx="1101960" cy="593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963800" y="240192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ノ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868400" y="240192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970720" y="2401920"/>
                <a:ext cx="1398600" cy="593640"/>
                <a:chOff x="2970720" y="2401920"/>
                <a:chExt cx="1398600" cy="593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065400" y="240192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撇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70720" y="240192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369680" y="2401920"/>
                <a:ext cx="1456920" cy="593640"/>
                <a:chOff x="4369680" y="2401920"/>
                <a:chExt cx="1456920" cy="593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65080" y="240192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川、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369680" y="240192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826960" y="2401920"/>
                <a:ext cx="3157200" cy="593640"/>
                <a:chOff x="5826960" y="2401920"/>
                <a:chExt cx="3157200" cy="593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921640" y="240192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26960" y="240192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8600" y="2995560"/>
                <a:ext cx="1099440" cy="593640"/>
                <a:chOff x="768600" y="2995560"/>
                <a:chExt cx="1099440" cy="59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4000" y="299556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8600" y="299556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2995560"/>
                <a:ext cx="1101960" cy="593640"/>
                <a:chOff x="1868400" y="2995560"/>
                <a:chExt cx="1101960" cy="593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963800" y="299556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ㄟヽ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68400" y="299556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70720" y="2995560"/>
                <a:ext cx="1398600" cy="593640"/>
                <a:chOff x="2970720" y="2995560"/>
                <a:chExt cx="1398600" cy="593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65400" y="299556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点（捺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70720" y="299556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369680" y="2995560"/>
                <a:ext cx="1456920" cy="593640"/>
                <a:chOff x="4369680" y="2995560"/>
                <a:chExt cx="1456920" cy="5936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465080" y="299556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主、这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69680" y="299556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826960" y="2995560"/>
                <a:ext cx="3157200" cy="593640"/>
                <a:chOff x="5826960" y="2995560"/>
                <a:chExt cx="3157200" cy="593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921640" y="299556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笔画“捺”按“点”处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826960" y="299556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68600" y="3589200"/>
                <a:ext cx="1099440" cy="730440"/>
                <a:chOff x="768600" y="3589200"/>
                <a:chExt cx="1099440" cy="730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4000" y="3589200"/>
                  <a:ext cx="9090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68600" y="3589200"/>
                  <a:ext cx="109944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868400" y="3589200"/>
                <a:ext cx="1101960" cy="730440"/>
                <a:chOff x="1868400" y="3589200"/>
                <a:chExt cx="1101960" cy="730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63800" y="3589200"/>
                  <a:ext cx="9108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ㄅ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68400" y="3589200"/>
                  <a:ext cx="110196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70720" y="3589200"/>
                <a:ext cx="1398600" cy="730440"/>
                <a:chOff x="2970720" y="3589200"/>
                <a:chExt cx="1398600" cy="730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065400" y="3589200"/>
                  <a:ext cx="120852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折（竖弯勾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70720" y="3589200"/>
                  <a:ext cx="13986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369680" y="3589200"/>
                <a:ext cx="1456920" cy="730440"/>
                <a:chOff x="4369680" y="3589200"/>
                <a:chExt cx="1456920" cy="7304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65080" y="3589200"/>
                  <a:ext cx="12657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与、骊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369680" y="3589200"/>
                  <a:ext cx="145692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826960" y="3589200"/>
                <a:ext cx="3157200" cy="730440"/>
                <a:chOff x="5826960" y="3589200"/>
                <a:chExt cx="3157200" cy="730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921640" y="3589200"/>
                  <a:ext cx="29667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顺时针方向弯曲的多折笔画，判断时以尾折为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26960" y="3589200"/>
                  <a:ext cx="31572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68600" y="4319640"/>
                <a:ext cx="1099440" cy="730080"/>
                <a:chOff x="768600" y="4319640"/>
                <a:chExt cx="1099440" cy="730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64000" y="4319640"/>
                  <a:ext cx="9090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8600" y="4319640"/>
                  <a:ext cx="109944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868400" y="4319640"/>
                <a:ext cx="1101960" cy="730080"/>
                <a:chOff x="1868400" y="4319640"/>
                <a:chExt cx="1101960" cy="730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963800" y="4319640"/>
                  <a:ext cx="9108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乚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68400" y="4319640"/>
                  <a:ext cx="110196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970720" y="4319640"/>
                <a:ext cx="1398600" cy="730080"/>
                <a:chOff x="2970720" y="4319640"/>
                <a:chExt cx="1398600" cy="7300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065400" y="4319640"/>
                  <a:ext cx="120852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弯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970720" y="4319640"/>
                  <a:ext cx="13986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369680" y="4319640"/>
                <a:ext cx="1456920" cy="730080"/>
                <a:chOff x="4369680" y="4319640"/>
                <a:chExt cx="1456920" cy="730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65080" y="4319640"/>
                  <a:ext cx="12657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七、级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369680" y="4319640"/>
                  <a:ext cx="14569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826960" y="4319640"/>
                <a:ext cx="3157200" cy="730080"/>
                <a:chOff x="5826960" y="4319640"/>
                <a:chExt cx="3157200" cy="7300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921640" y="4319640"/>
                  <a:ext cx="29667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逆时针方向弯曲的多折笔画，判断时以尾折为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26960" y="4319640"/>
                  <a:ext cx="31572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68600" y="5049720"/>
                <a:ext cx="1099440" cy="593640"/>
                <a:chOff x="768600" y="5049720"/>
                <a:chExt cx="1099440" cy="593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864000" y="504972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8600" y="504972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868400" y="5049720"/>
                <a:ext cx="1101960" cy="593640"/>
                <a:chOff x="1868400" y="5049720"/>
                <a:chExt cx="1101960" cy="593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963800" y="504972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十（</a:t>
                  </a: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×</a:t>
                  </a: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68400" y="504972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970720" y="5049720"/>
                <a:ext cx="1398600" cy="593640"/>
                <a:chOff x="2970720" y="5049720"/>
                <a:chExt cx="1398600" cy="593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065400" y="504972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70720" y="504972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369680" y="5049720"/>
                <a:ext cx="1456920" cy="593640"/>
                <a:chOff x="4369680" y="5049720"/>
                <a:chExt cx="1456920" cy="593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65080" y="504972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杀、其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69680" y="504972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826960" y="5049720"/>
                <a:ext cx="3157200" cy="593640"/>
                <a:chOff x="5826960" y="5049720"/>
                <a:chExt cx="3157200" cy="593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21640" y="504972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交叉笔画只限于正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826960" y="504972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68600" y="5643360"/>
                <a:ext cx="1099440" cy="594000"/>
                <a:chOff x="768600" y="5643360"/>
                <a:chExt cx="1099440" cy="594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64000" y="5643360"/>
                  <a:ext cx="9090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8600" y="5643360"/>
                  <a:ext cx="10994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68400" y="5643360"/>
                <a:ext cx="1101960" cy="594000"/>
                <a:chOff x="1868400" y="5643360"/>
                <a:chExt cx="1101960" cy="594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63800" y="5643360"/>
                  <a:ext cx="9108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口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68400" y="5643360"/>
                  <a:ext cx="1101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70720" y="5643360"/>
                <a:ext cx="1398600" cy="594000"/>
                <a:chOff x="2970720" y="5643360"/>
                <a:chExt cx="1398600" cy="594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65400" y="5643360"/>
                  <a:ext cx="1208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方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70720" y="5643360"/>
                  <a:ext cx="13986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69680" y="5643360"/>
                <a:ext cx="1456920" cy="594000"/>
                <a:chOff x="4369680" y="5643360"/>
                <a:chExt cx="1456920" cy="594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65080" y="5643360"/>
                  <a:ext cx="1265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国、呵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69680" y="5643360"/>
                  <a:ext cx="1456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826960" y="5643360"/>
                <a:ext cx="3157200" cy="594000"/>
                <a:chOff x="5826960" y="5643360"/>
                <a:chExt cx="3157200" cy="594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921640" y="5643360"/>
                  <a:ext cx="2966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四边整齐的方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826960" y="5643360"/>
                  <a:ext cx="31572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762120" y="615960"/>
              <a:ext cx="8229240" cy="5626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16000" y="685800"/>
            <a:ext cx="546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1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笔形定义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  <a:ea typeface="宋体"/>
              </a:rPr>
              <a:t>3.2.3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  <a:ea typeface="宋体"/>
              </a:rPr>
              <a:t>自动构词过程以及人为干预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9810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标准方式下输入一词，可以首先输入该词的简拼，按下空格键，如果按退格键，在输入信息区的字符串就会一个字符一个字符地被依次删除，如果输入区的字符全部被删除掉了，主屏幕光标处的正文就会被删除，在这里，退格键的作用是对整个转换过程进行回溯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2.4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特殊字符的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中文标点符号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中文数量词的简化输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514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．中文标点符号的输入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如表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宋体"/>
              </a:rPr>
              <a:t>3-2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所示。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紧接在词语后面输入标点符号，同时可表明该词语输入结束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在“中文标点”的开关为“开”的状态下，或者在“全角”状态下，可以单独使用标点符号，即在这些状态下，第一键允许是中文的标点符号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一次按“ ” ”键，它转换成左引号，按第二次，它转换成为右引号，自动配对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2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智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中文标点符号输入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520" y="1373040"/>
            <a:ext cx="8229240" cy="4646520"/>
            <a:chOff x="533520" y="1373040"/>
            <a:chExt cx="8229240" cy="4646520"/>
          </a:xfrm>
        </p:grpSpPr>
        <p:grpSp>
          <p:nvGrpSpPr>
            <p:cNvPr id="268" name=""/>
            <p:cNvGrpSpPr/>
            <p:nvPr/>
          </p:nvGrpSpPr>
          <p:grpSpPr>
            <a:xfrm>
              <a:off x="540720" y="1378080"/>
              <a:ext cx="8213760" cy="4635360"/>
              <a:chOff x="540720" y="1378080"/>
              <a:chExt cx="8213760" cy="46353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40720" y="1378080"/>
                <a:ext cx="1268640" cy="578880"/>
                <a:chOff x="540720" y="1378080"/>
                <a:chExt cx="1268640" cy="5788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46560" y="137808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40720" y="137808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809720" y="1378080"/>
                <a:ext cx="2200320" cy="578880"/>
                <a:chOff x="1809720" y="1378080"/>
                <a:chExt cx="2200320" cy="578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915560" y="137808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对应的中文标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809720" y="137808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010760" y="1378080"/>
                <a:ext cx="2047320" cy="578880"/>
                <a:chOff x="4010760" y="1378080"/>
                <a:chExt cx="2047320" cy="5788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16600" y="137808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010760" y="137808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58440" y="1378080"/>
                <a:ext cx="2696040" cy="578880"/>
                <a:chOff x="6058440" y="1378080"/>
                <a:chExt cx="2696040" cy="5788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164280" y="137808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对应的中文标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58440" y="137808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40720" y="1957320"/>
                <a:ext cx="1268640" cy="579240"/>
                <a:chOff x="540720" y="1957320"/>
                <a:chExt cx="1268640" cy="5792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46560" y="195732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．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40720" y="195732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809720" y="1957320"/>
                <a:ext cx="2200320" cy="579240"/>
                <a:chOff x="1809720" y="1957320"/>
                <a:chExt cx="2200320" cy="5792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15560" y="195732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。（句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809720" y="195732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010760" y="1957320"/>
                <a:ext cx="2047320" cy="579240"/>
                <a:chOff x="4010760" y="1957320"/>
                <a:chExt cx="2047320" cy="5792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116600" y="195732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10760" y="195732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058440" y="1957320"/>
                <a:ext cx="2696040" cy="579240"/>
                <a:chOff x="6058440" y="1957320"/>
                <a:chExt cx="2696040" cy="579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164280" y="195732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“”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左或右引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058440" y="195732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40720" y="2536920"/>
                <a:ext cx="1268640" cy="578880"/>
                <a:chOff x="540720" y="2536920"/>
                <a:chExt cx="1268640" cy="578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46560" y="253692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,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0720" y="253692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809720" y="2536920"/>
                <a:ext cx="2200320" cy="578880"/>
                <a:chOff x="1809720" y="2536920"/>
                <a:chExt cx="2200320" cy="5788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915560" y="253692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，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809720" y="253692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10760" y="2536920"/>
                <a:ext cx="2047320" cy="578880"/>
                <a:chOff x="4010760" y="2536920"/>
                <a:chExt cx="2047320" cy="578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116600" y="253692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(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10760" y="253692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058440" y="2536920"/>
                <a:ext cx="2696040" cy="578880"/>
                <a:chOff x="6058440" y="2536920"/>
                <a:chExt cx="2696040" cy="5788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164280" y="253692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  （左括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58440" y="253692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40720" y="3116520"/>
                <a:ext cx="1268640" cy="578880"/>
                <a:chOff x="540720" y="3116520"/>
                <a:chExt cx="1268640" cy="578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46560" y="311652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=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或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0720" y="311652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809720" y="3116520"/>
                <a:ext cx="2200320" cy="578880"/>
                <a:chOff x="1809720" y="3116520"/>
                <a:chExt cx="2200320" cy="578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915560" y="311652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809720" y="311652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010760" y="3116520"/>
                <a:ext cx="2047320" cy="578880"/>
                <a:chOff x="4010760" y="3116520"/>
                <a:chExt cx="2047320" cy="578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16600" y="311652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010760" y="311652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058440" y="3116520"/>
                <a:ext cx="2696040" cy="578880"/>
                <a:chOff x="6058440" y="3116520"/>
                <a:chExt cx="2696040" cy="5788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164280" y="311652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）  （右括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58440" y="311652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40720" y="3695760"/>
                <a:ext cx="1268640" cy="579240"/>
                <a:chOff x="540720" y="3695760"/>
                <a:chExt cx="1268640" cy="579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46560" y="369576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；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0720" y="369576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809720" y="3695760"/>
                <a:ext cx="2200320" cy="579240"/>
                <a:chOff x="1809720" y="3695760"/>
                <a:chExt cx="2200320" cy="579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915560" y="369576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；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09720" y="369576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010760" y="3695760"/>
                <a:ext cx="2047320" cy="579240"/>
                <a:chOff x="4010760" y="3695760"/>
                <a:chExt cx="2047320" cy="579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116600" y="369576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&lt;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010760" y="369576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058440" y="3695760"/>
                <a:ext cx="2696040" cy="579240"/>
                <a:chOff x="6058440" y="3695760"/>
                <a:chExt cx="2696040" cy="579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164280" y="369576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《  （左书名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58440" y="369576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40720" y="4275360"/>
                <a:ext cx="1268640" cy="578880"/>
                <a:chOff x="540720" y="4275360"/>
                <a:chExt cx="1268640" cy="578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46560" y="427536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40720" y="427536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809720" y="4275360"/>
                <a:ext cx="2200320" cy="578880"/>
                <a:chOff x="1809720" y="4275360"/>
                <a:chExt cx="2200320" cy="5788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915560" y="427536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?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809720" y="427536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010760" y="4275360"/>
                <a:ext cx="2047320" cy="578880"/>
                <a:chOff x="4010760" y="4275360"/>
                <a:chExt cx="2047320" cy="5788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116600" y="427536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&gt;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010760" y="427536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058440" y="4275360"/>
                <a:ext cx="2696040" cy="578880"/>
                <a:chOff x="6058440" y="4275360"/>
                <a:chExt cx="2696040" cy="5788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164280" y="427536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》  （右书名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58440" y="427536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40720" y="4854960"/>
                <a:ext cx="1268640" cy="578880"/>
                <a:chOff x="540720" y="4854960"/>
                <a:chExt cx="1268640" cy="5788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46560" y="485496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!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40720" y="485496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809720" y="4854960"/>
                <a:ext cx="2200320" cy="578880"/>
                <a:chOff x="1809720" y="4854960"/>
                <a:chExt cx="2200320" cy="5788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915560" y="485496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809720" y="485496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010760" y="4854960"/>
                <a:ext cx="2047320" cy="578880"/>
                <a:chOff x="4010760" y="4854960"/>
                <a:chExt cx="2047320" cy="5788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116600" y="485496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Shift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＋“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-”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010760" y="485496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058440" y="4854960"/>
                <a:ext cx="2696040" cy="578880"/>
                <a:chOff x="6058440" y="4854960"/>
                <a:chExt cx="2696040" cy="5788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164280" y="485496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—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破折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058440" y="485496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40720" y="5434200"/>
                <a:ext cx="1268640" cy="579240"/>
                <a:chOff x="540720" y="5434200"/>
                <a:chExt cx="1268640" cy="579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46560" y="543420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：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40720" y="543420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809720" y="5434200"/>
                <a:ext cx="2200320" cy="579240"/>
                <a:chOff x="1809720" y="5434200"/>
                <a:chExt cx="2200320" cy="579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915560" y="543420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：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09720" y="543420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010760" y="5434200"/>
                <a:ext cx="2047320" cy="579240"/>
                <a:chOff x="4010760" y="5434200"/>
                <a:chExt cx="2047320" cy="579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116600" y="543420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Shift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＋“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%”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010760" y="543420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058440" y="5434200"/>
                <a:ext cx="2696040" cy="579240"/>
                <a:chOff x="6058440" y="5434200"/>
                <a:chExt cx="2696040" cy="579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164280" y="543420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… 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半个省略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058440" y="543420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533520" y="1373040"/>
              <a:ext cx="8229240" cy="4646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676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．中文数量词的简化输入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智能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ABC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67" name=""/>
          <p:cNvSpPr/>
          <p:nvPr/>
        </p:nvSpPr>
        <p:spPr>
          <a:xfrm>
            <a:off x="247644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3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文数量词输入举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81200" y="2438280"/>
            <a:ext cx="7581240" cy="3657240"/>
            <a:chOff x="781200" y="2438280"/>
            <a:chExt cx="7581240" cy="3657240"/>
          </a:xfrm>
        </p:grpSpPr>
        <p:grpSp>
          <p:nvGrpSpPr>
            <p:cNvPr id="369" name=""/>
            <p:cNvGrpSpPr/>
            <p:nvPr/>
          </p:nvGrpSpPr>
          <p:grpSpPr>
            <a:xfrm>
              <a:off x="789120" y="2446560"/>
              <a:ext cx="7563960" cy="3639240"/>
              <a:chOff x="789120" y="2446560"/>
              <a:chExt cx="7563960" cy="36392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789120" y="2446560"/>
                <a:ext cx="3906360" cy="909360"/>
                <a:chOff x="789120" y="2446560"/>
                <a:chExt cx="3906360" cy="909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909720" y="244656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输入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20" y="244656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695840" y="2446560"/>
                <a:ext cx="3657240" cy="909360"/>
                <a:chOff x="4695840" y="2446560"/>
                <a:chExt cx="3657240" cy="9093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816440" y="244656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输出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95840" y="244656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89120" y="3356280"/>
                <a:ext cx="3906360" cy="909720"/>
                <a:chOff x="789120" y="3356280"/>
                <a:chExt cx="3906360" cy="90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909720" y="3356280"/>
                  <a:ext cx="366552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1986n4ys5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9120" y="3356280"/>
                  <a:ext cx="390636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695840" y="3356280"/>
                <a:ext cx="3657240" cy="909720"/>
                <a:chOff x="4695840" y="3356280"/>
                <a:chExt cx="3657240" cy="90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16440" y="3356280"/>
                  <a:ext cx="341568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一九八六年四月十五日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695840" y="3356280"/>
                  <a:ext cx="365724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89120" y="4266720"/>
                <a:ext cx="3906360" cy="909360"/>
                <a:chOff x="789120" y="4266720"/>
                <a:chExt cx="3906360" cy="909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9720" y="426672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3b7s2k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89120" y="426672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695840" y="4266720"/>
                <a:ext cx="3657240" cy="909360"/>
                <a:chOff x="4695840" y="4266720"/>
                <a:chExt cx="3657240" cy="909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816440" y="426672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三百七十二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695840" y="426672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9120" y="5176440"/>
                <a:ext cx="3906360" cy="909360"/>
                <a:chOff x="789120" y="5176440"/>
                <a:chExt cx="3906360" cy="9093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909720" y="517644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8q6b2s$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9120" y="517644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695840" y="5176440"/>
                <a:ext cx="3657240" cy="909360"/>
                <a:chOff x="4695840" y="5176440"/>
                <a:chExt cx="3657240" cy="9093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816440" y="517644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捌仟陆佰贰拾元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95840" y="517644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>
              <a:off x="781200" y="2438280"/>
              <a:ext cx="7581240" cy="3657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宋体"/>
              </a:rPr>
              <a:t>本章学习目标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了解常见汉字处理系统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了解汉字编码输入方法的分类及概念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掌握智能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ABC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掌握五笔字型的编码规则及字根表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36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3.2.5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双打输入方式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97" name=""/>
          <p:cNvSpPr/>
          <p:nvPr/>
        </p:nvSpPr>
        <p:spPr>
          <a:xfrm>
            <a:off x="1028880" y="2100240"/>
            <a:ext cx="7086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汉字读音由声母和韵母组成。在双打输入时，只需击键两次：奇次为声母，偶次为韵母。对于有韵母的零声母音节，需要用零声母键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或隔音符号“ ’ ”补够两键，但要注意的是在屏幕上显示的仍是该字的规范拼音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3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五笔字型输入法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933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3.1       汉字的构成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3.3.2       五笔字型基本字根及其分布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3.3.3       五笔字型汉字折分原则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4" action="ppaction://hlinksldjump"/>
              </a:rPr>
              <a:t>3.3.4       单个汉字的编码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5" action="ppaction://hlinksldjump"/>
              </a:rPr>
              <a:t>3.3.5       简码的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6" action="ppaction://hlinksldjump"/>
              </a:rPr>
              <a:t>3.3.6       词语的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7" action="ppaction://hlinksldjump"/>
              </a:rPr>
              <a:t>3.3.7       重码与容错码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8" action="ppaction://hlinksldjump"/>
              </a:rPr>
              <a:t>3.3.8       学习键</a:t>
            </a: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9" action="ppaction://hlinksldjump"/>
              </a:rPr>
              <a:t>Z</a:t>
            </a: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0" action="ppaction://hlinksldjump"/>
              </a:rPr>
              <a:t>的使用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1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3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的构成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汉字的三个层次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汉字的构成可分为三个层次：笔画、字根、汉字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汉字的五种笔画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笔字型中根据书写汉字时的走向，规定汉字的笔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画只有五种：横、竖、撇、捺、折。为了便于记忆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和应用，特根据它们使用的概率的高低，依次用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作为代号，如表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-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3-5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汉字的五种笔画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52520" y="7873920"/>
          <a:ext cx="16200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7873920"/>
                    <a:ext cx="1620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1352520" y="9925200"/>
          <a:ext cx="380880" cy="18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9925200"/>
                    <a:ext cx="3808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9" name=""/>
          <p:cNvGrpSpPr/>
          <p:nvPr/>
        </p:nvGrpSpPr>
        <p:grpSpPr>
          <a:xfrm>
            <a:off x="1676520" y="1905120"/>
            <a:ext cx="6476400" cy="4114440"/>
            <a:chOff x="1676520" y="1905120"/>
            <a:chExt cx="6476400" cy="4114440"/>
          </a:xfrm>
        </p:grpSpPr>
        <p:grpSp>
          <p:nvGrpSpPr>
            <p:cNvPr id="410" name=""/>
            <p:cNvGrpSpPr/>
            <p:nvPr/>
          </p:nvGrpSpPr>
          <p:grpSpPr>
            <a:xfrm>
              <a:off x="1684440" y="1910160"/>
              <a:ext cx="6458400" cy="4102920"/>
              <a:chOff x="1684440" y="1910160"/>
              <a:chExt cx="6458400" cy="41029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1684440" y="1910160"/>
                <a:ext cx="1324440" cy="818280"/>
                <a:chOff x="1684440" y="1910160"/>
                <a:chExt cx="1324440" cy="818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714680" y="1910160"/>
                  <a:ext cx="126396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84440" y="1910160"/>
                  <a:ext cx="132444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009240" y="1910160"/>
                <a:ext cx="1506600" cy="818280"/>
                <a:chOff x="3009240" y="1910160"/>
                <a:chExt cx="1506600" cy="818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039480" y="1910160"/>
                  <a:ext cx="144612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009240" y="1910160"/>
                  <a:ext cx="150660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516560" y="1910160"/>
                <a:ext cx="1583280" cy="818280"/>
                <a:chOff x="4516560" y="1910160"/>
                <a:chExt cx="1583280" cy="818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546800" y="1910160"/>
                  <a:ext cx="15228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走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16560" y="1910160"/>
                  <a:ext cx="15832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00560" y="1910160"/>
                <a:ext cx="2042280" cy="818280"/>
                <a:chOff x="6100560" y="1910160"/>
                <a:chExt cx="2042280" cy="818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30800" y="1910160"/>
                  <a:ext cx="19818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及其变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00560" y="1910160"/>
                  <a:ext cx="20422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1684440" y="2728800"/>
                <a:ext cx="1324440" cy="574920"/>
                <a:chOff x="1684440" y="2728800"/>
                <a:chExt cx="1324440" cy="5749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714680" y="2728800"/>
                  <a:ext cx="12639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84440" y="2728800"/>
                  <a:ext cx="132444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09240" y="2728800"/>
                <a:ext cx="1506600" cy="574920"/>
                <a:chOff x="3009240" y="2728800"/>
                <a:chExt cx="1506600" cy="5749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039480" y="2728800"/>
                  <a:ext cx="1446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09240" y="2728800"/>
                  <a:ext cx="150660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516560" y="2728800"/>
                <a:ext cx="1583280" cy="574920"/>
                <a:chOff x="4516560" y="2728800"/>
                <a:chExt cx="1583280" cy="574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4546800" y="2728800"/>
                  <a:ext cx="15228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自左向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16560" y="2728800"/>
                  <a:ext cx="15832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100560" y="2728800"/>
                <a:ext cx="2042280" cy="574920"/>
                <a:chOff x="6100560" y="2728800"/>
                <a:chExt cx="2042280" cy="574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130800" y="2728800"/>
                  <a:ext cx="19818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一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100560" y="2728800"/>
                  <a:ext cx="20422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684440" y="3304080"/>
                <a:ext cx="1324440" cy="574560"/>
                <a:chOff x="1684440" y="3304080"/>
                <a:chExt cx="1324440" cy="574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714680" y="3304080"/>
                  <a:ext cx="12639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684440" y="3304080"/>
                  <a:ext cx="13244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009240" y="3304080"/>
                <a:ext cx="1506600" cy="574560"/>
                <a:chOff x="3009240" y="3304080"/>
                <a:chExt cx="1506600" cy="5745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039480" y="3304080"/>
                  <a:ext cx="1446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竖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09240" y="3304080"/>
                  <a:ext cx="15066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516560" y="3304080"/>
                <a:ext cx="1583280" cy="574560"/>
                <a:chOff x="4516560" y="3304080"/>
                <a:chExt cx="1583280" cy="5745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546800" y="3304080"/>
                  <a:ext cx="1522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自上而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516560" y="3304080"/>
                  <a:ext cx="1583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100560" y="3304080"/>
                <a:ext cx="2042280" cy="574560"/>
                <a:chOff x="6100560" y="3304080"/>
                <a:chExt cx="2042280" cy="5745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130800" y="3304080"/>
                  <a:ext cx="1981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丨 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100560" y="3304080"/>
                  <a:ext cx="2042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684440" y="3879000"/>
                <a:ext cx="1324440" cy="779400"/>
                <a:chOff x="1684440" y="3879000"/>
                <a:chExt cx="1324440" cy="779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714680" y="3879000"/>
                  <a:ext cx="12639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84440" y="3879000"/>
                  <a:ext cx="132444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009240" y="3879000"/>
                <a:ext cx="1506600" cy="779400"/>
                <a:chOff x="3009240" y="3879000"/>
                <a:chExt cx="1506600" cy="779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039480" y="3879000"/>
                  <a:ext cx="14461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09240" y="3879000"/>
                  <a:ext cx="150660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516560" y="3879000"/>
                <a:ext cx="1583280" cy="779400"/>
                <a:chOff x="4516560" y="3879000"/>
                <a:chExt cx="1583280" cy="779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546800" y="3879000"/>
                  <a:ext cx="15228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右上到左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16560" y="3879000"/>
                  <a:ext cx="15832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00560" y="3879000"/>
                <a:ext cx="2042280" cy="779400"/>
                <a:chOff x="6100560" y="3879000"/>
                <a:chExt cx="2042280" cy="779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130800" y="3879000"/>
                  <a:ext cx="19818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丿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00560" y="3879000"/>
                  <a:ext cx="20422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684440" y="4659120"/>
                <a:ext cx="1324440" cy="779040"/>
                <a:chOff x="1684440" y="4659120"/>
                <a:chExt cx="1324440" cy="779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714680" y="4659120"/>
                  <a:ext cx="1263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684440" y="4659120"/>
                  <a:ext cx="132444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009240" y="4659120"/>
                <a:ext cx="1506600" cy="779040"/>
                <a:chOff x="3009240" y="4659120"/>
                <a:chExt cx="1506600" cy="7790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039480" y="4659120"/>
                  <a:ext cx="144612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009240" y="4659120"/>
                  <a:ext cx="150660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516560" y="4659120"/>
                <a:ext cx="1583280" cy="779040"/>
                <a:chOff x="4516560" y="4659120"/>
                <a:chExt cx="1583280" cy="7790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546800" y="4659120"/>
                  <a:ext cx="1522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左上到右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516560" y="4659120"/>
                  <a:ext cx="15832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100560" y="4659120"/>
                <a:ext cx="2042280" cy="779040"/>
                <a:chOff x="6100560" y="4659120"/>
                <a:chExt cx="2042280" cy="7790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130800" y="4659120"/>
                  <a:ext cx="1981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100560" y="4659120"/>
                  <a:ext cx="20422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684440" y="5438520"/>
                <a:ext cx="1324440" cy="574560"/>
                <a:chOff x="1684440" y="5438520"/>
                <a:chExt cx="1324440" cy="5745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714680" y="5438520"/>
                  <a:ext cx="12639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684440" y="5438520"/>
                  <a:ext cx="13244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009240" y="5438520"/>
                <a:ext cx="1506600" cy="574560"/>
                <a:chOff x="3009240" y="5438520"/>
                <a:chExt cx="1506600" cy="5745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039480" y="5438520"/>
                  <a:ext cx="1446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009240" y="5438520"/>
                  <a:ext cx="15066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516560" y="5438520"/>
                <a:ext cx="1583280" cy="574560"/>
                <a:chOff x="4516560" y="5438520"/>
                <a:chExt cx="1583280" cy="5745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546800" y="5438520"/>
                  <a:ext cx="1522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带转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516560" y="5438520"/>
                  <a:ext cx="1583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100560" y="5438520"/>
                <a:ext cx="2042280" cy="574560"/>
                <a:chOff x="6100560" y="5438520"/>
                <a:chExt cx="2042280" cy="5745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30800" y="5438520"/>
                  <a:ext cx="1981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乙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00560" y="5438520"/>
                  <a:ext cx="2042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" name=""/>
            <p:cNvSpPr/>
            <p:nvPr/>
          </p:nvSpPr>
          <p:spPr>
            <a:xfrm>
              <a:off x="1676520" y="1905120"/>
              <a:ext cx="647640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838080" y="990720"/>
            <a:ext cx="73152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种笔画组成字根时，其间的关系可分为四种情况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五种笔画本身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散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之间有一定间距，例如“三、八、氵、心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连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之间是相连接的，可以是单笔与单笔相连，也可以笔笔相连。例如“厂、从、尸、弓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交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是互相交叉的，如“十、力、又、车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汉字的三种字型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52560" y="2438280"/>
            <a:ext cx="7238520" cy="3200040"/>
            <a:chOff x="952560" y="2438280"/>
            <a:chExt cx="7238520" cy="3200040"/>
          </a:xfrm>
        </p:grpSpPr>
        <p:grpSp>
          <p:nvGrpSpPr>
            <p:cNvPr id="487" name=""/>
            <p:cNvGrpSpPr/>
            <p:nvPr/>
          </p:nvGrpSpPr>
          <p:grpSpPr>
            <a:xfrm>
              <a:off x="961200" y="2444400"/>
              <a:ext cx="7219440" cy="3186720"/>
              <a:chOff x="961200" y="2444400"/>
              <a:chExt cx="7219440" cy="3186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961200" y="2444400"/>
                <a:ext cx="1559520" cy="796320"/>
                <a:chOff x="961200" y="2444400"/>
                <a:chExt cx="1559520" cy="796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994680" y="244440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型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961200" y="244440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521080" y="2444400"/>
                <a:ext cx="1380240" cy="796320"/>
                <a:chOff x="2521080" y="2444400"/>
                <a:chExt cx="1380240" cy="7963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554560" y="244440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521080" y="244440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901680" y="2444400"/>
                <a:ext cx="4278960" cy="796320"/>
                <a:chOff x="3901680" y="2444400"/>
                <a:chExt cx="4278960" cy="796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935160" y="244440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901680" y="244440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961200" y="3241080"/>
                <a:ext cx="1559520" cy="796320"/>
                <a:chOff x="961200" y="3241080"/>
                <a:chExt cx="1559520" cy="796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94680" y="324108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左右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961200" y="324108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521080" y="3241080"/>
                <a:ext cx="1380240" cy="796320"/>
                <a:chOff x="2521080" y="3241080"/>
                <a:chExt cx="1380240" cy="7963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554560" y="324108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21080" y="324108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3901680" y="3241080"/>
                <a:ext cx="4278960" cy="796320"/>
                <a:chOff x="3901680" y="3241080"/>
                <a:chExt cx="4278960" cy="7963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3935160" y="324108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汉、湘、结、封、打、顺、信、隹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901680" y="324108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961200" y="4037760"/>
                <a:ext cx="1559520" cy="796680"/>
                <a:chOff x="961200" y="4037760"/>
                <a:chExt cx="1559520" cy="796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994680" y="4037760"/>
                  <a:ext cx="149256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上下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961200" y="4037760"/>
                  <a:ext cx="155952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21080" y="4037760"/>
                <a:ext cx="1380240" cy="796680"/>
                <a:chOff x="2521080" y="4037760"/>
                <a:chExt cx="1380240" cy="796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54560" y="4037760"/>
                  <a:ext cx="131328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21080" y="4037760"/>
                  <a:ext cx="138024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901680" y="4037760"/>
                <a:ext cx="4278960" cy="796680"/>
                <a:chOff x="3901680" y="4037760"/>
                <a:chExt cx="4278960" cy="796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935160" y="4037760"/>
                  <a:ext cx="421128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字、莫、花、华、雷、霞、家、吉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901680" y="4037760"/>
                  <a:ext cx="427896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961200" y="4834800"/>
                <a:ext cx="1559520" cy="796320"/>
                <a:chOff x="961200" y="4834800"/>
                <a:chExt cx="1559520" cy="7963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94680" y="483480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杂合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61200" y="483480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521080" y="4834800"/>
                <a:ext cx="1380240" cy="796320"/>
                <a:chOff x="2521080" y="4834800"/>
                <a:chExt cx="1380240" cy="7963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554560" y="483480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21080" y="483480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901680" y="4834800"/>
                <a:ext cx="4278960" cy="796320"/>
                <a:chOff x="3901680" y="4834800"/>
                <a:chExt cx="4278960" cy="796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935160" y="483480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困、凶、这、司、乘、本、无、天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01680" y="483480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952560" y="2438280"/>
              <a:ext cx="7238520" cy="3200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590920" y="1905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6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三种字型及其代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670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左右型汉字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上下型汉字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杂合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外内型汉字和单体汉字）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28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3.3.2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五笔字型基本字根及其分布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字根键盘的区位分配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3-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字根键盘区位分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860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600200" y="2976480"/>
          <a:ext cx="6400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6480"/>
                    <a:ext cx="6400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．五笔字型字根总图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36" name=""/>
          <p:cNvSpPr/>
          <p:nvPr/>
        </p:nvSpPr>
        <p:spPr>
          <a:xfrm>
            <a:off x="1600200" y="259092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笔字型优选的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种字根分放在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键盘上，每个键盘上排放了若干个字根，这就形成了五笔字型字根总表，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基本字根的排列规律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1752480"/>
            <a:ext cx="761976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与键名字根形态相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字根的首笔代号与其所在的“区号”保持一致外，相当一部分字根的第二笔代号还与其“位号”保持一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键位代码还表示了组成字根的笔画种类和数目，即：位号与该键位上复合散笔字根的笔画数目保持一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有少量字根，考虑到形相近，字源相同，便于联想，它们分布规律例外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45880" y="761760"/>
            <a:ext cx="504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1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汉字输入基础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90920" y="2285640"/>
            <a:ext cx="6091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1.1  汉字代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3.1.2  汉字处理系统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3.1.3  汉字的输入法及其分类</a:t>
            </a:r>
            <a:br>
              <a:rPr sz="2800"/>
            </a:b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4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432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71640" y="1446120"/>
          <a:ext cx="7200720" cy="39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46120"/>
                    <a:ext cx="720072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743200" y="5715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3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字根总表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．字根助记词的理解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宋体"/>
              </a:rPr>
              <a:t>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一区（横起类）字根助记词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45" name=""/>
          <p:cNvSpPr/>
          <p:nvPr/>
        </p:nvSpPr>
        <p:spPr>
          <a:xfrm>
            <a:off x="2209680" y="2743200"/>
            <a:ext cx="5410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王旁青头戋（兼）五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土士二干十寸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犬三羊古石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木丁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戈草头右框七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二区（竖起类）字根助记词。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宋体"/>
              </a:rPr>
              <a:t> 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2362320"/>
            <a:ext cx="4267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具上止卜虎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早两竖与虫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口与川，字根稀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田甲方框四车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山由贝，下框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第三区（撇起类）字根助记词。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2057400"/>
            <a:ext cx="62481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禾竹一撇双人立，反文条头共三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白手看头三二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彡（衫）乃用家衣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和八，三四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金勺缺点无尾鱼、犬旁留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儿一点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氏无七（妻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四区（捺起类）字根助记词。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1" name=""/>
          <p:cNvSpPr/>
          <p:nvPr/>
        </p:nvSpPr>
        <p:spPr>
          <a:xfrm>
            <a:off x="1447920" y="2438280"/>
            <a:ext cx="62481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言文方广在四一，高头一捺谁人去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立辛两点六门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旁兴头小倒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火业头，四点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之字军盖道建底，摘礻（示）衤衣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五区字根（折起类）字根助记词。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宋体"/>
              </a:rPr>
              <a:t> 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2133720"/>
            <a:ext cx="66294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已半巳满不出己，左框折尸心和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子耳了也框向上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女刀九臼山朝西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又巴马，丢矢矣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慈母无心弓和匕，幼无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3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五笔字型汉字折分原则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汉字的结构分析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四种类型）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2209680"/>
            <a:ext cx="78483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基本字根本身就单独成为一个汉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散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构成汉字的基本字根之间可以保持一定有距离。或汉字由非单笔画组成，字根与字根相连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连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一个基本字根连一单笔画，当单笔画与基本字根间有明显间距者不认为相连；或当是所谓“带点结构”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交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指几个基本字根交叉套迭之后构成的汉字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38080" y="1371600"/>
            <a:ext cx="7620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规纳要点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基本字根独成字（成字字根），在将来的取码中有专门的规定，因而不需要判断字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属于“散”的汉字，才可以分为左右、上下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属于“连”与“交”的汉字，一律属于杂合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不分左右、上下的汉字，一律属于杂合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344600" y="10005840"/>
          <a:ext cx="11448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0005840"/>
                    <a:ext cx="11448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1143000" y="1600200"/>
            <a:ext cx="6857640" cy="4343040"/>
            <a:chOff x="1143000" y="1600200"/>
            <a:chExt cx="6857640" cy="4343040"/>
          </a:xfrm>
        </p:grpSpPr>
        <p:grpSp>
          <p:nvGrpSpPr>
            <p:cNvPr id="562" name=""/>
            <p:cNvGrpSpPr/>
            <p:nvPr/>
          </p:nvGrpSpPr>
          <p:grpSpPr>
            <a:xfrm>
              <a:off x="1151280" y="1605600"/>
              <a:ext cx="6839280" cy="4330080"/>
              <a:chOff x="1151280" y="1605600"/>
              <a:chExt cx="6839280" cy="43300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151280" y="1605600"/>
                <a:ext cx="1866600" cy="721080"/>
                <a:chOff x="1151280" y="1605600"/>
                <a:chExt cx="1866600" cy="7210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183320" y="16056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画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\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151280" y="16056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018240" y="1605600"/>
                <a:ext cx="1660680" cy="721080"/>
                <a:chOff x="3018240" y="1605600"/>
                <a:chExt cx="1660680" cy="7210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049560" y="16056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左右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018240" y="16056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4679280" y="1605600"/>
                <a:ext cx="1534320" cy="721080"/>
                <a:chOff x="4679280" y="1605600"/>
                <a:chExt cx="1534320" cy="7210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711320" y="16056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上下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679280" y="16056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213960" y="1605600"/>
                <a:ext cx="1776600" cy="721080"/>
                <a:chOff x="6213960" y="1605600"/>
                <a:chExt cx="1776600" cy="7210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45280" y="16056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杂合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213960" y="16056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151280" y="2327040"/>
                <a:ext cx="1866600" cy="721080"/>
                <a:chOff x="1151280" y="2327040"/>
                <a:chExt cx="1866600" cy="7210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183320" y="232704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横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151280" y="232704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018240" y="2327040"/>
                <a:ext cx="1660680" cy="721080"/>
                <a:chOff x="3018240" y="2327040"/>
                <a:chExt cx="1660680" cy="7210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049560" y="232704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一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018240" y="232704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679280" y="2327040"/>
                <a:ext cx="1534320" cy="721080"/>
                <a:chOff x="4679280" y="2327040"/>
                <a:chExt cx="1534320" cy="721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711320" y="232704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二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F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79280" y="232704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13960" y="2327040"/>
                <a:ext cx="1776600" cy="721080"/>
                <a:chOff x="6213960" y="2327040"/>
                <a:chExt cx="1776600" cy="7210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245280" y="232704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三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13960" y="232704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1151280" y="3048840"/>
                <a:ext cx="1866600" cy="721800"/>
                <a:chOff x="1151280" y="3048840"/>
                <a:chExt cx="1866600" cy="7218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1183320" y="3048840"/>
                  <a:ext cx="180216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竖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151280" y="3048840"/>
                  <a:ext cx="1866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3018240" y="3048840"/>
                <a:ext cx="1660680" cy="721800"/>
                <a:chOff x="3018240" y="3048840"/>
                <a:chExt cx="1660680" cy="7218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049560" y="3048840"/>
                  <a:ext cx="15976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丨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018240" y="3048840"/>
                  <a:ext cx="166068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679280" y="3048840"/>
                <a:ext cx="1534320" cy="721800"/>
                <a:chOff x="4679280" y="3048840"/>
                <a:chExt cx="1534320" cy="7218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711320" y="3048840"/>
                  <a:ext cx="14698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刂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J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679280" y="3048840"/>
                  <a:ext cx="153432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213960" y="3048840"/>
                <a:ext cx="1776600" cy="721800"/>
                <a:chOff x="6213960" y="3048840"/>
                <a:chExt cx="1776600" cy="7218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245280" y="3048840"/>
                  <a:ext cx="17128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川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213960" y="3048840"/>
                  <a:ext cx="1776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151280" y="3771360"/>
                <a:ext cx="1866600" cy="721080"/>
                <a:chOff x="1151280" y="3771360"/>
                <a:chExt cx="1866600" cy="7210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183320" y="377136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撇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151280" y="377136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018240" y="3771360"/>
                <a:ext cx="1660680" cy="721080"/>
                <a:chOff x="3018240" y="3771360"/>
                <a:chExt cx="1660680" cy="7210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049560" y="377136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丿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018240" y="377136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679280" y="3771360"/>
                <a:ext cx="1534320" cy="721080"/>
                <a:chOff x="4679280" y="3771360"/>
                <a:chExt cx="1534320" cy="7210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711320" y="377136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斤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679280" y="377136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6213960" y="3771360"/>
                <a:ext cx="1776600" cy="721080"/>
                <a:chOff x="6213960" y="3771360"/>
                <a:chExt cx="1776600" cy="7210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245280" y="377136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彡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213960" y="377136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151280" y="4492800"/>
                <a:ext cx="1866600" cy="721080"/>
                <a:chOff x="1151280" y="4492800"/>
                <a:chExt cx="1866600" cy="7210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183320" y="44928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捺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51280" y="44928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3018240" y="4492800"/>
                <a:ext cx="1660680" cy="721080"/>
                <a:chOff x="3018240" y="4492800"/>
                <a:chExt cx="1660680" cy="721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049560" y="44928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丶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018240" y="44928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679280" y="4492800"/>
                <a:ext cx="1534320" cy="721080"/>
                <a:chOff x="4679280" y="4492800"/>
                <a:chExt cx="1534320" cy="7210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711320" y="44928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冫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79280" y="44928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213960" y="4492800"/>
                <a:ext cx="1776600" cy="721080"/>
                <a:chOff x="6213960" y="4492800"/>
                <a:chExt cx="1776600" cy="7210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245280" y="44928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氵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13960" y="44928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1151280" y="5214600"/>
                <a:ext cx="1866600" cy="721080"/>
                <a:chOff x="1151280" y="5214600"/>
                <a:chExt cx="1866600" cy="7210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1183320" y="52146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折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151280" y="52146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3018240" y="5214600"/>
                <a:ext cx="1660680" cy="721080"/>
                <a:chOff x="3018240" y="5214600"/>
                <a:chExt cx="1660680" cy="7210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3049560" y="52146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乙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18240" y="52146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4679280" y="5214600"/>
                <a:ext cx="1534320" cy="721080"/>
                <a:chOff x="4679280" y="5214600"/>
                <a:chExt cx="1534320" cy="7210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11320" y="52146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679280" y="52146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213960" y="5214600"/>
                <a:ext cx="1776600" cy="721080"/>
                <a:chOff x="6213960" y="5214600"/>
                <a:chExt cx="1776600" cy="721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245280" y="52146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巛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213960" y="52146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5" name=""/>
            <p:cNvSpPr/>
            <p:nvPr/>
          </p:nvSpPr>
          <p:spPr>
            <a:xfrm>
              <a:off x="1143000" y="1600200"/>
              <a:ext cx="685764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523880" y="914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7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五笔字型编码末笔字型交叉识别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09480" y="22856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五笔字型中，笔画分为五种，字型分为三种，那么，末笔字型配合交叉的可能性就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=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种，如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-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9536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汉字图形的末笔字型交叉识别码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代码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76720" y="182844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输入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机内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交换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字形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地址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单体结构拆分原则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5360" y="209556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连笔结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拆成为单笔与基本字根。“牛”拆成“、丨”，“生”拆成“丿、王”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交叉结构或交连混合结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概括为四句口诀：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散不连，兼顾直观；能连不交，取大优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4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单个汉字的编码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字根总表内汉字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键名汉字的输入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成字字根汉字的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表外汉字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四根及四根以上汉字的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不足四根的汉字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5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简码的输入</a:t>
            </a:r>
            <a:br>
              <a:rPr sz="3600"/>
            </a:b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一级简码（又称高频字）的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二级简码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三级简码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1600200" y="1676520"/>
          <a:ext cx="624852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62485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20968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4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一级简码汉字键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6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词语的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97180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双字词的输入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三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四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多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7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重码与容错码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124080" y="2133360"/>
            <a:ext cx="3348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重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容错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拆分容错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字型容错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7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8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学习键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Z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使用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22096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Z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叫“万能学习键”，用它代替其他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个字母键中任何一个键输入汉字。键入数字键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或按空格，“照”便被输入。而且，从提示行可以看到该字的全码。 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14400" y="4876920"/>
            <a:ext cx="7314840" cy="685440"/>
            <a:chOff x="914400" y="4876920"/>
            <a:chExt cx="7314840" cy="685440"/>
          </a:xfrm>
        </p:grpSpPr>
        <p:grpSp>
          <p:nvGrpSpPr>
            <p:cNvPr id="661" name=""/>
            <p:cNvGrpSpPr/>
            <p:nvPr/>
          </p:nvGrpSpPr>
          <p:grpSpPr>
            <a:xfrm>
              <a:off x="921960" y="4881960"/>
              <a:ext cx="7299000" cy="674640"/>
              <a:chOff x="921960" y="4881960"/>
              <a:chExt cx="7299000" cy="674640"/>
            </a:xfrm>
          </p:grpSpPr>
          <p:sp>
            <p:nvSpPr>
              <p:cNvPr id="662" name=""/>
              <p:cNvSpPr/>
              <p:nvPr/>
            </p:nvSpPr>
            <p:spPr>
              <a:xfrm>
                <a:off x="950760" y="4881960"/>
                <a:ext cx="7241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半角　【五笔字型】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zko  1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：照 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vk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：煦 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qko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　　【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000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】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21960" y="4881960"/>
                <a:ext cx="7299000" cy="67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914400" y="4876920"/>
              <a:ext cx="7314840" cy="685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 you very much !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7086600" y="6172200"/>
            <a:ext cx="2057400" cy="6094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18960" y="1828800"/>
            <a:ext cx="21913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本章到此结束，谢谢您的光临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9" name="0521" descr=""/>
          <p:cNvPicPr/>
          <p:nvPr/>
        </p:nvPicPr>
        <p:blipFill>
          <a:blip r:embed="rId2"/>
          <a:stretch/>
        </p:blipFill>
        <p:spPr>
          <a:xfrm>
            <a:off x="1569960" y="1828800"/>
            <a:ext cx="30020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2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处理系统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4479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UCDOS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系统组成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36232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主要文件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STALL.EX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安装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NL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汉字显示和键盘管理模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D16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字库读取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DSL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打印字库读取模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NZI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X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用户安装字库的解包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UCDOS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基本操作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905120"/>
            <a:ext cx="6248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安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配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字库设置、显示设置 、打印设置、系统裁减、 窗口设置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系统检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系统启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从内存中卸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退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UCDOS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的功能键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3080" y="2437920"/>
            <a:ext cx="5108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l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键配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Ctr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键配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3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的输入法及其分类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区位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拼音输入法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全拼输入法、双拼输入法、智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AB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五笔字型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扫描批量输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．笔写输入 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．语音输入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2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输入法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5832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2.1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的功能设置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4" action="ppaction://hlinksldjump"/>
              </a:rPr>
              <a:t>3.2.2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5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6" action="ppaction://hlinksldjump"/>
              </a:rPr>
              <a:t>的标准输入方式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7" action="ppaction://hlinksldjump"/>
              </a:rPr>
              <a:t>3.2.3  自动构词过程以及人为干预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8" action="ppaction://hlinksldjump"/>
              </a:rPr>
              <a:t>3.2.4  特殊字符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9" action="ppaction://hlinksldjump"/>
              </a:rPr>
              <a:t>3.2.5  双打输入方式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0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5T11:24:17Z</dcterms:modified>
  <cp:revision>52</cp:revision>
  <dc:subject/>
  <dc:title>PowerPoint 演示文稿</dc:title>
</cp:coreProperties>
</file>