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AB0C-0181-458D-8135-30B483F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C5B4-63A8-4319-950D-85383CE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4B25-F8CC-4E20-95ED-628B8D8D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8662-D12A-4BC7-982C-CCA2DEFE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C4FB-8AA2-4608-87BC-2F246A42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90040" y="380520"/>
            <a:ext cx="7791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2C0F-755B-48B5-BFE9-A6A3713A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E0D9-DD7F-4734-816B-76CBB8C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F1ED-D160-497C-A29F-C80209E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B485-4F87-4F68-A9BB-3B649B6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81E2-6AF3-4D95-8578-7FEC1EA8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632E-BE24-42DB-B62C-06B42B07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45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9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45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9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F4AF-248F-467A-BE80-548EDC4C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0040" y="380520"/>
            <a:ext cx="7791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05BC-50CD-4AA5-B737-B0864489877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章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DOS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操作系统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1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操作系统的一般知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件与目录结构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3  DO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常用命令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4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批处理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14600" y="685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名中的通配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362320"/>
            <a:ext cx="3809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“ ？”通配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“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配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2.2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目录结构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600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目录树结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57400" y="1981080"/>
            <a:ext cx="5943240" cy="4038480"/>
            <a:chOff x="2057400" y="1981080"/>
            <a:chExt cx="5943240" cy="4038480"/>
          </a:xfrm>
        </p:grpSpPr>
        <p:sp>
          <p:nvSpPr>
            <p:cNvPr id="137" name=""/>
            <p:cNvSpPr/>
            <p:nvPr/>
          </p:nvSpPr>
          <p:spPr>
            <a:xfrm>
              <a:off x="2170080" y="3653280"/>
              <a:ext cx="1146960" cy="80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第二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7800" y="2782080"/>
              <a:ext cx="1297440" cy="59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文件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2774880"/>
              <a:ext cx="1297080" cy="83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第一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0320" y="4618080"/>
              <a:ext cx="1297440" cy="98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第三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242880" y="1981080"/>
              <a:ext cx="4757760" cy="4038480"/>
              <a:chOff x="3242880" y="1981080"/>
              <a:chExt cx="4757760" cy="4038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608280" y="3407760"/>
                <a:ext cx="331200" cy="38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7440" y="3696120"/>
                <a:ext cx="738360" cy="54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文件</a:t>
                </a: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242880" y="1981080"/>
                <a:ext cx="4757760" cy="4038480"/>
                <a:chOff x="3242880" y="1981080"/>
                <a:chExt cx="4757760" cy="40384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42880" y="3712680"/>
                  <a:ext cx="738360" cy="54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文件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74920" y="371700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4088520" y="2505600"/>
                  <a:ext cx="592200" cy="42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273280" y="2490480"/>
                  <a:ext cx="631800" cy="37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71600" y="3393000"/>
                  <a:ext cx="285840" cy="413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5674680" y="3393000"/>
                  <a:ext cx="438840" cy="436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905440" y="426420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55120" y="3393000"/>
                  <a:ext cx="456480" cy="344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458120" y="424944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477920" y="516060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907160" y="249516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874920" y="460764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58240" y="374076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0080" y="286668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869080" y="287424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540400" y="4600080"/>
                  <a:ext cx="738360" cy="54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文件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39880" y="5475600"/>
                  <a:ext cx="738360" cy="54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文件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345560" y="198108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根目录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213372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-1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目录树结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23960" y="1905120"/>
            <a:ext cx="76960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目录路径有两种方法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绝对路径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对路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盘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台计算机往往有几个驱动器，若要对这些驱动器中的盘进行读写，则必须先向操作系统指明是对哪个盘（驱动器又称为盘）进行操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提示符会指明当前驱动器，当前驱动器是指微机正在工作的驱动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目录路径</a:t>
            </a:r>
            <a:endParaRPr b="1" lang="en-US" sz="28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3049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193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760" bIns="104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3      DO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常用命令 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2" action="ppaction://hlinksldjump"/>
              </a:rPr>
              <a:t>2.3.1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3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4" action="ppaction://hlinksldjump"/>
              </a:rPr>
              <a:t>命令类型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5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6" action="ppaction://hlinksldjump"/>
              </a:rPr>
              <a:t>2.3.2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7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8" action="ppaction://hlinksldjump"/>
              </a:rPr>
              <a:t>命令格式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9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0" action="ppaction://hlinksldjump"/>
              </a:rPr>
              <a:t>2.3.3   常用内部命令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2" action="ppaction://hlinksldjump"/>
              </a:rPr>
              <a:t>2.3.4  常用外部命令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2" name="">
            <a:hlinkClick r:id="rId13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14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3.1  DOS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命令类型</a:t>
            </a:r>
            <a:br>
              <a:rPr sz="4000"/>
            </a:b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525680"/>
            <a:ext cx="807696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内部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包含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MAND.CO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处理程序中。启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内部命令被装入内存，用户可随时使用。常用内部命令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I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P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外部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磁盘文件形式存于磁盘。启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外部命令没有被装入系统内存。其执行过程是，首先把指定的命令文件从磁盘读入内存，然后把控制转移到该文件中的程序，执行它后又返回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操作系统。常用外部命令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Y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ISKCOP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</a:rPr>
              <a:t>2.3.2  DOS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命令格式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905120"/>
            <a:ext cx="69343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内部命令的格式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内部命令名＞［参数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外部命令的格式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盘符：］［路径］＜外部命令名＞［参数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2.3.3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常用内部命令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676520"/>
            <a:ext cx="5181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目录显示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建立子目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改变当前目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删除子目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清除屏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内容显示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拷贝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762120"/>
            <a:ext cx="7086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删除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更名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搜索路径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命令提示符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PROM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改变或显示系统日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改变或显示系统时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卷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V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版本信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3.4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常用外部命令</a:t>
            </a:r>
            <a:br>
              <a:rPr sz="4000"/>
            </a:b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800280" y="1752480"/>
            <a:ext cx="754380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格式化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给指定的磁盘划分磁道和扇区，使它的数据格式能被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［盘符］　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分区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FD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914400"/>
            <a:ext cx="792504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备份拷贝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X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选择地拷贝一个或多个文件，可包括指定盘上的整个目录树结构中所有文件，或树结构中部分分支各级目录下的所有文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XCOPY  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盘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源文件或目录名＞　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盘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路径］［目标文件或目录名］］　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目录结构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图形方式显示目录结构，并可选择地列出每个目录中文件的名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REE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盘符］［路径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marL="50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＊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本章学习目标</a:t>
            </a:r>
            <a:endParaRPr b="1" lang="en-US" sz="28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00"/>
                </a:solidFill>
                <a:latin typeface="Times New Roman"/>
              </a:rPr>
              <a:t>                            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752480"/>
            <a:ext cx="7696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操作系统是整个计算机系统的控制和管理中心，是用户与计算机联系的桥梁，本章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6.2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为例，讲解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操作系统的基本知识。通过本章学习，读者该掌握以下内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组成与启动方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用内部命令与外部命令的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批处理文件与系统配置文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838080"/>
            <a:ext cx="792504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删除目录结构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EL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删除一个目录以及该目录下的所有文件和子目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LTRE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盘符］［路径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:\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LTREE  C:\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系统传输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S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一驱动器上的三个系统文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O.SY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SDOS.SY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MAND.CO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传送到另一驱动器的磁盘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YS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源盘符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目标盘符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800100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全盘复制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ISK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一个软盘上的内容整盘复制到另一个同类型的软盘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ISKCOPY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源盘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目标盘符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属性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ATTR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或改变指定文件的属性。文件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种可选属性：只读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、归档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、隐含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、系统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TTRIB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＜文件名＞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4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批处理文件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9051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3800" y="4019400"/>
            <a:ext cx="456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2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3" action="ppaction://hlinksldjump"/>
              </a:rPr>
              <a:t>2.4.1  批处理文件的建立与执行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4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5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6" action="ppaction://hlinksldjump"/>
              </a:rPr>
              <a:t>2.4.2  自动批处理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7" action="ppaction://hlinksldjump"/>
              </a:rPr>
              <a:t>＊ 2.4.3  常用批处理子命令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3" name="">
            <a:hlinkClick r:id="rId8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9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2.4.1  </a:t>
            </a: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批处理文件的建立与执行</a:t>
            </a:r>
            <a:endParaRPr b="1" lang="en-US" sz="44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828800"/>
            <a:ext cx="6782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批处理文件是一个纯文本文件，可以用两种方法建立批处理文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直接使用命令格式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OPY CO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批处理文件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、用文本编辑软件建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2.4.2  </a:t>
            </a: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自动批处理文件</a:t>
            </a:r>
            <a:endParaRPr b="1" lang="en-US" sz="44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057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动批处理文件是一个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UTOEXEC.B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文件名的特殊文件。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启动时，系统自动在启动盘根目录中查找它，若查找到，便顺次执行文件中包含的各条命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用户需要在一启动计算机后就进入指定的系统进行工作，则可以在启动盘根目录中建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UTOEXEC.B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将进入该系统的命令放在此文件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Arial"/>
              </a:rPr>
              <a:t>2.4.3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常用批处理子命令</a:t>
            </a:r>
            <a:br>
              <a:rPr sz="3600"/>
            </a:b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1905120"/>
            <a:ext cx="5943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ECH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CH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N|OFF|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串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PAU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AUS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［字符串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E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M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5  DO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内存配置与系统配置文件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5790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＊</a:t>
            </a:r>
            <a:r>
              <a:rPr b="1" lang="zh-CN" sz="3200" spc="-1" strike="noStrike">
                <a:solidFill>
                  <a:srgbClr val="cccc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2.5.1  DOS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内存配置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＊</a:t>
            </a:r>
            <a:r>
              <a:rPr b="1" lang="zh-CN" sz="3200" spc="-1" strike="noStrike">
                <a:solidFill>
                  <a:srgbClr val="cccc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2.5.2 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系统配置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Arial"/>
              </a:rPr>
              <a:t>2.5.1  DOS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内存配置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133720"/>
            <a:ext cx="7010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，系统中存在以下四种内存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常规内存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onventional mem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上端存储区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U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扩充内存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Expanded  mem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扩展内存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Extended  mem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2.5.2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系统配置文件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1905120"/>
            <a:ext cx="655344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安装设备驱动程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VICE =  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盘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  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文件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定磁盘的缓冲区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BUFF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UFFER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~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指定可同时打开的文件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ILE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~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允许使用的最大驱动器字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ASTDRIV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 Antiqua"/>
              </a:rPr>
              <a:t>Thank you very much !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61722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E01561_" descr=""/>
          <p:cNvPicPr/>
          <p:nvPr/>
        </p:nvPicPr>
        <p:blipFill>
          <a:blip r:embed="rId1"/>
          <a:stretch/>
        </p:blipFill>
        <p:spPr>
          <a:xfrm>
            <a:off x="2819520" y="1987560"/>
            <a:ext cx="4343400" cy="2882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19440" y="1752480"/>
            <a:ext cx="127764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本章到此结束，谢谢您的光临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endshow"/>
          </p:cNvPr>
          <p:cNvSpPr/>
          <p:nvPr/>
        </p:nvSpPr>
        <p:spPr>
          <a:xfrm>
            <a:off x="6477120" y="5410080"/>
            <a:ext cx="2666880" cy="53352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退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148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1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操作系统的一般知识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61960" y="1905120"/>
            <a:ext cx="48006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3" action="ppaction://hlinksldjump"/>
              </a:rPr>
              <a:t>2.1.1  概述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4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6" action="ppaction://hlinksldjump"/>
              </a:rPr>
              <a:t>2.1.2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7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8" action="ppaction://hlinksldjump"/>
              </a:rPr>
              <a:t>的组成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9" action="ppaction://hlinksldjump"/>
              </a:rPr>
              <a:t>＊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2.1.3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的启动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7" name="">
            <a:hlinkClick r:id="rId13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14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1.1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概述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133720"/>
            <a:ext cx="75438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磁盘操作系统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isk Operating Syste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的英文缩写，它的主要功能是管理磁盘文件，所以把它称为磁盘操作系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具有向上兼容性，也就是说，在低版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能运行的软件一定能在高版本上运行。现在普遍使用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版本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 6.2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</a:rPr>
              <a:t>2.1.2  DOS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的组成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523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四个基本组成部分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引导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BOO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输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输出管理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IO.SY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文件管理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MSDOS.SY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命令处理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OMMAND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Arial"/>
              </a:rPr>
              <a:t>2.1.3  DOS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的启动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1752480"/>
            <a:ext cx="72388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冷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冷启动是指计算机在未加电情况下，接通电源，启动系统的过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热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热启动是指在计算机已加电情况下，使用组合键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trl+Alt+D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三键同时按下），重新从磁盘上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三个文件装入内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热启动常用于系统死机时对系统复位或更换系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808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2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文件与目录结构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3200" y="2247840"/>
            <a:ext cx="3657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2" action="ppaction://hlinksldjump"/>
              </a:rPr>
              <a:t>2.2.1  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3" action="ppaction://hlinksldjump"/>
              </a:rPr>
              <a:t>＊2.2.2  目录结构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2.1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文件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3880"/>
            <a:ext cx="76960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的概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的程序、数据都以文件的形式存贮在磁介质上。使用文件时，须把磁介质上的相关信息加载到内存，方可使用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可给文件以不同的属性，而达到保护文件的目的，使文件在使用过程中确保其数据安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名及命名规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文件名是由主文件名和扩展名组成，在主文件名和扩展名之间以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隔，书写格式是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主文件名＞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扩展名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409760" y="1676520"/>
            <a:ext cx="6324120" cy="4723920"/>
            <a:chOff x="1409760" y="1676520"/>
            <a:chExt cx="6324120" cy="4723920"/>
          </a:xfrm>
        </p:grpSpPr>
        <p:grpSp>
          <p:nvGrpSpPr>
            <p:cNvPr id="116" name=""/>
            <p:cNvGrpSpPr/>
            <p:nvPr/>
          </p:nvGrpSpPr>
          <p:grpSpPr>
            <a:xfrm>
              <a:off x="1418400" y="1683720"/>
              <a:ext cx="6305040" cy="4707360"/>
              <a:chOff x="1418400" y="1683720"/>
              <a:chExt cx="6305040" cy="4707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1418400" y="1683720"/>
                <a:ext cx="2474280" cy="822960"/>
                <a:chOff x="1418400" y="1683720"/>
                <a:chExt cx="2474280" cy="822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548360" y="1683720"/>
                  <a:ext cx="221400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扩展名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418400" y="1683720"/>
                  <a:ext cx="247428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893040" y="1683720"/>
                <a:ext cx="3830400" cy="822960"/>
                <a:chOff x="3893040" y="1683720"/>
                <a:chExt cx="3830400" cy="822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022280" y="1683720"/>
                  <a:ext cx="35704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意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93040" y="1683720"/>
                  <a:ext cx="383040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418400" y="2507040"/>
                <a:ext cx="2474280" cy="3884040"/>
                <a:chOff x="1418400" y="2507040"/>
                <a:chExt cx="2474280" cy="3884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48360" y="2507040"/>
                  <a:ext cx="2214000" cy="38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EX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CO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BA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HL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BAK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BA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PA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TX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418400" y="2507040"/>
                  <a:ext cx="2474280" cy="388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893040" y="2507040"/>
                <a:ext cx="3830400" cy="3884040"/>
                <a:chOff x="3893040" y="2507040"/>
                <a:chExt cx="3830400" cy="3884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022280" y="2507040"/>
                  <a:ext cx="3570480" cy="38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可执行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命令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批处理命令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帮助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备份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BASIC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语言源程序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PASCAL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源程序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语言源程序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文本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93040" y="2507040"/>
                  <a:ext cx="3830400" cy="388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1409760" y="1676520"/>
              <a:ext cx="632412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74320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1  DO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扩展名约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0:12:54Z</dcterms:created>
  <dc:creator>liwu</dc:creator>
  <dc:description/>
  <dc:language>en-US</dc:language>
  <cp:lastModifiedBy>gsjf</cp:lastModifiedBy>
  <dcterms:modified xsi:type="dcterms:W3CDTF">2001-09-30T03:06:10Z</dcterms:modified>
  <cp:revision>45</cp:revision>
  <dc:subject/>
  <dc:title>PowerPoint 演示文稿</dc:title>
</cp:coreProperties>
</file>